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5.wmf" ContentType="image/x-wmf"/>
  <Override PartName="/ppt/media/image1.jpeg" ContentType="image/jpeg"/>
  <Override PartName="/ppt/media/image2.png" ContentType="image/png"/>
  <Override PartName="/ppt/media/image3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7.wmf" ContentType="image/x-wmf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796088" cy="9925050"/>
  <p:custShowLst>
    <p:custShow name="Diaporama personnalisé 1" id="0">
      <p:sldLst>
        <p:sld r:id="rId4"/>
        <p:sld r:id="rId6"/>
        <p:sld r:id="rId8"/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03CF-55AF-40A9-90C5-69073E326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9FE8-AAD3-4053-92A5-0CD9A801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F82B-91A8-4314-8DD4-678778BC0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B02D-9A59-46E5-AA05-5F75DA52B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7AA7-E729-4410-8E47-0B107B2C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A0F3-8B84-4DCB-977D-0876F987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1DAF-8AE6-4318-BA46-C84CC528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AA53-FD43-41DD-B444-91F05C5A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9804-B561-4BEF-95FE-3153A639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9C3C-D065-4D85-9776-724C9FAF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AC64-F1EE-4635-864F-F01F81F5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38BC-96D1-4841-A7AF-8A27A9C5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CD35-8022-4438-9535-8A3237A8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AB75-5EE0-42FC-A0AD-CDDD93D0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188C-CD4D-4131-8991-4F23315B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D296-AD83-43AE-8B4B-0225E4442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448D-A880-4B1E-8CE6-6A7814CAC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3625-290B-4438-BB36-744A0DD2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570D-D14B-4E1D-9E67-6EC0164F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E781-6501-4101-BC8E-B9B67B25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201C-C1E2-4920-8762-EAB1BCB9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3163-7010-41FE-9434-1BD6ABCA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85D7-DFCF-46A1-ADA9-51590323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7435-D5D3-4B34-BD32-4AE4B6F5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04E8-1A6F-4ED0-B6D2-845924866FB5}" type="slidenum">
              <a:rPr b="0" lang="fr-FR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6680" y="1252440"/>
            <a:ext cx="75960" cy="2235240"/>
          </a:xfrm>
          <a:custGeom>
            <a:avLst/>
            <a:gdLst>
              <a:gd name="textAreaLeft" fmla="*/ 11160 w 75960"/>
              <a:gd name="textAreaRight" fmla="*/ 64800 w 759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32717">
                <a:moveTo>
                  <a:pt x="10800" y="0"/>
                </a:moveTo>
                <a:arcTo wR="10800" hR="10800" stAng="16200000" swAng="-5400000"/>
                <a:lnTo>
                  <a:pt x="0" y="621917"/>
                </a:lnTo>
                <a:arcTo wR="10800" hR="10800" stAng="10800000" swAng="-5400000"/>
                <a:lnTo>
                  <a:pt x="10800" y="63271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511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66E6-B385-463A-A76A-9D1B8575DFB5}" type="slidenum">
              <a:rPr b="0" lang="fr-FR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e9"/>
                </a:solidFill>
                <a:latin typeface="Times New Roman"/>
              </a:rPr>
              <a:t>La Restauration Collective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éphanie TISSERAND - DDSV70 03.84.96.17.38                  Fév.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2003-4E86-4673-BCA5-CDE45597D89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33"/>
                </a:solidFill>
                <a:latin typeface="Times New Roman"/>
              </a:rPr>
              <a:t>Listeri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1a918"/>
                </a:solidFill>
                <a:latin typeface="Times New Roman"/>
              </a:rPr>
              <a:t>Incubation :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 4 jours à 6 semain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1a918"/>
                </a:solidFill>
                <a:latin typeface="Times New Roman"/>
              </a:rPr>
              <a:t>Symptômes :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Grippe, maux de tête, convulsion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Méningites, septicémies, avortements, infections néo-natales, gastro-entérit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1a918"/>
                </a:solidFill>
                <a:latin typeface="Times New Roman"/>
              </a:rPr>
              <a:t>Mortelle dans 20 à 30% des cas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éphanie TISSERAND - DDSV70 03.84.96.17.38                  Fév.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241D-4A87-4CFE-89B1-333B806709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33"/>
                </a:solidFill>
                <a:latin typeface="Times New Roman"/>
              </a:rPr>
              <a:t>Listeria (suite)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1a918"/>
                </a:solidFill>
                <a:latin typeface="Times New Roman"/>
              </a:rPr>
              <a:t>Sujets à risque :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 enfants, femmes enceintes, personnes âgées, personnes immuno-déprimé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1a918"/>
                </a:solidFill>
                <a:latin typeface="Times New Roman"/>
              </a:rPr>
              <a:t>Origine :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 sol, boue, eau, végétaux, fourrages, maïs, environnement industriel usines et laiteri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1a918"/>
                </a:solidFill>
                <a:latin typeface="Times New Roman"/>
              </a:rPr>
              <a:t>Denrées à risques :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 fromages à pâte molle, charcuteries, poissons fumé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éphanie TISSERAND - DDSV70 03.84.96.17.38                  Fév.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22B0-4BFB-41ED-8A0C-28F79170D1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33"/>
                </a:solidFill>
                <a:latin typeface="Times New Roman"/>
              </a:rPr>
              <a:t>Salmonell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1a918"/>
                </a:solidFill>
                <a:latin typeface="Times New Roman"/>
              </a:rPr>
              <a:t>Incubation :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 10 à 24 heur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1a918"/>
                </a:solidFill>
                <a:latin typeface="Times New Roman"/>
              </a:rPr>
              <a:t>Symptômes 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64c"/>
                </a:solidFill>
                <a:latin typeface="Times New Roman"/>
              </a:rPr>
              <a:t>douleurs abdominales, diarrhées, vomissements, fièvre, céphalées, asthénie,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64c"/>
                </a:solidFill>
                <a:latin typeface="Times New Roman"/>
              </a:rPr>
              <a:t>guérison après plusieurs jours, cas mortels sur les enfants et les vieillard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1a918"/>
                </a:solidFill>
                <a:latin typeface="Times New Roman"/>
              </a:rPr>
              <a:t>Traitement :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 antibiothérapi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éphanie TISSERAND - DDSV70 03.84.96.17.38                  Fév.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7BAE-5F1D-4CA1-9FE4-B00A8B62C4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33"/>
                </a:solidFill>
                <a:latin typeface="Times New Roman"/>
              </a:rPr>
              <a:t>Salmonelles (suite)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1a918"/>
                </a:solidFill>
                <a:latin typeface="Times New Roman"/>
              </a:rPr>
              <a:t>Origine :</a:t>
            </a:r>
            <a:r>
              <a:rPr b="0" lang="fr-FR" sz="2800" spc="-1" strike="noStrike">
                <a:solidFill>
                  <a:srgbClr val="11a918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64c"/>
                </a:solidFill>
                <a:latin typeface="Times New Roman"/>
              </a:rPr>
              <a:t>animal (porc, volaille, œufs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64c"/>
                </a:solidFill>
                <a:latin typeface="Times New Roman"/>
              </a:rPr>
              <a:t>homme porteur sai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1a918"/>
                </a:solidFill>
                <a:latin typeface="Times New Roman"/>
              </a:rPr>
              <a:t>Denrées à risques 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64c"/>
                </a:solidFill>
                <a:latin typeface="Times New Roman"/>
              </a:rPr>
              <a:t>pâtisseries à la crèm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64c"/>
                </a:solidFill>
                <a:latin typeface="Times New Roman"/>
              </a:rPr>
              <a:t>Mayonnaises, ovoproduit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64c"/>
                </a:solidFill>
                <a:latin typeface="Times New Roman"/>
              </a:rPr>
              <a:t>oeufs pas assez cuit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64c"/>
                </a:solidFill>
                <a:latin typeface="Times New Roman"/>
              </a:rPr>
              <a:t>huître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64c"/>
                </a:solidFill>
                <a:latin typeface="Times New Roman"/>
              </a:rPr>
              <a:t>viandes de volaille et de boucheri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éphanie TISSERAND - DDSV70 03.84.96.17.38                  Fév.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69B8-47F7-4F43-9226-F27B30915C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33"/>
                </a:solidFill>
                <a:latin typeface="Times New Roman"/>
              </a:rPr>
              <a:t>Que faire en cas de T.I.A.C. ?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Les TIAC figurent sur la liste des maladies à déclaration obligatoire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La déclaration doit se faire à la DDASS ou à la DDSV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Elle est obligatoire pour tout docteur en médecine qui en a constaté l’existence ou pour le chef de famille ou le responsable de l’établissement où se trouvent les malades</a:t>
            </a:r>
            <a:r>
              <a:rPr b="0" i="1" lang="fr-FR" sz="3200" spc="-1" strike="noStrike">
                <a:solidFill>
                  <a:srgbClr val="00264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8005680" y="3581280"/>
            <a:ext cx="1138320" cy="12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éphanie TISSERAND - DDSV70 03.84.96.17.38                  Fév.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38C9-9EBB-434A-9DA0-8D8AA77912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e9"/>
                </a:solidFill>
                <a:latin typeface="Times New Roman"/>
              </a:rPr>
              <a:t>La Restauration Collective</a:t>
            </a:r>
            <a:br>
              <a:rPr sz="4400"/>
            </a:br>
            <a:r>
              <a:rPr b="0" lang="fr-FR" sz="4400" spc="-1" strike="noStrike">
                <a:solidFill>
                  <a:srgbClr val="ffffe9"/>
                </a:solidFill>
                <a:latin typeface="Times New Roman"/>
              </a:rPr>
              <a:t>en cuisine satellite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654516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éphanie TISSERAND - DDSV70 03.84.96.17.38                  Fév.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6CBA-C0C3-4918-9947-7D9B2F281E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264c"/>
                </a:solidFill>
                <a:latin typeface="Times New Roman"/>
              </a:rPr>
              <a:t>La cantine scolaire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352680" y="3276720"/>
            <a:ext cx="2286000" cy="243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éphanie TISSERAND - DDSV70 03.84.96.17.38                  Fév.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DDE2-BEC3-40D0-9F78-173CD9E890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33"/>
                </a:solidFill>
                <a:latin typeface="Times New Roman"/>
              </a:rPr>
              <a:t>Les différents services de restauratio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8108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264c"/>
                </a:solidFill>
                <a:latin typeface="Times New Roman"/>
              </a:rPr>
              <a:t>Liaison </a:t>
            </a:r>
            <a:r>
              <a:rPr b="0" lang="fr-FR" sz="4400" spc="-1" strike="noStrike">
                <a:solidFill>
                  <a:srgbClr val="005fbe"/>
                </a:solidFill>
                <a:latin typeface="Times New Roman"/>
              </a:rPr>
              <a:t>froide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264c"/>
                </a:solidFill>
                <a:latin typeface="Times New Roman"/>
              </a:rPr>
              <a:t>Liaison </a:t>
            </a:r>
            <a:r>
              <a:rPr b="0" lang="fr-FR" sz="4400" spc="-1" strike="noStrike">
                <a:solidFill>
                  <a:srgbClr val="f32a09"/>
                </a:solidFill>
                <a:latin typeface="Times New Roman"/>
              </a:rPr>
              <a:t>chaude 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éphanie TISSERAND - DDSV70 03.84.96.17.38                  Fév.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81B1-5575-4823-B309-AF29AF938A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33"/>
                </a:solidFill>
                <a:latin typeface="Times New Roman"/>
              </a:rPr>
              <a:t>Attentes Réglementair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6705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Les 5 M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• 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Milieu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• 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Matéri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• 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Main d’œuvr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• 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Matièr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• 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Méthod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Plan de maîtrise sanitair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éphanie TISSERAND - DDSV70 03.84.96.17.38                  Fév.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BE87-2DCE-414A-BF4E-12C10F64BA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33"/>
                </a:solidFill>
                <a:latin typeface="Times New Roman"/>
              </a:rPr>
              <a:t>Milieu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Surfaces lisses lavables et non putrescibl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Système d’évacuation des eaux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Extraction des vapeurs de cuisson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éphanie TISSERAND - DDSV70 03.84.96.17.38                  Fév.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2D78-6FBE-4101-9FE3-7B4FF7A59A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33"/>
                </a:solidFill>
                <a:latin typeface="Times New Roman"/>
              </a:rPr>
              <a:t>Définitio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264c"/>
                </a:solidFill>
                <a:latin typeface="Times New Roman"/>
              </a:rPr>
              <a:t>Mode de restauration où la clientèle 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264c"/>
                </a:solidFill>
                <a:latin typeface="Times New Roman"/>
              </a:rPr>
              <a:t>est dite passive.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éphanie TISSERAND - DDSV70 03.84.96.17.38                  Fév.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A362-2ACA-4148-9F67-2138786205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33"/>
                </a:solidFill>
                <a:latin typeface="Times New Roman"/>
              </a:rPr>
              <a:t>Matériel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Lisse, lavable, résistant aux chocs et non putrescibl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Armoire réfrigéré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Système de maintien ou de remise en températur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Equipement d’hygiène </a:t>
            </a:r>
            <a:r>
              <a:rPr b="0" lang="fr-FR" sz="2000" spc="-1" strike="noStrike">
                <a:solidFill>
                  <a:srgbClr val="00264c"/>
                </a:solidFill>
                <a:latin typeface="Times New Roman"/>
              </a:rPr>
              <a:t>(lave-mains et poubelles à commande non manuelle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Containers de transport adapté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éphanie TISSERAND - DDSV70 03.84.96.17.38                  Fév.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C9E0-E750-4E01-85AE-14C9239634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33"/>
                </a:solidFill>
                <a:latin typeface="Times New Roman"/>
              </a:rPr>
              <a:t>Main d’oeuvr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Visite médical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Formation à la sécurité sanitaire des aliment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Vestiaire personn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Tenue de travai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éphanie TISSERAND - DDSV70 03.84.96.17.38                  Fév.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4EA1-CF59-444E-9606-9A3A3D42A1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33"/>
                </a:solidFill>
                <a:latin typeface="Times New Roman"/>
              </a:rPr>
              <a:t>Matièr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Provenance : établissement agréé ou dispensé d’agrém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Estampille sanitair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Conditionnem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éphanie TISSERAND - DDSV70 03.84.96.17.38                  Fév.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B067-76E4-4515-8C5C-C8E17A3944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33"/>
                </a:solidFill>
                <a:latin typeface="Times New Roman"/>
              </a:rPr>
              <a:t>Méthod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Hygiène des manipulations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Risque : contaminations croisées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(ex. torchons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Propreté des locaux et équipement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Gestion des déchet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Respect du plan de maîtrise sanitair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éphanie TISSERAND - DDSV70 03.84.96.17.38                  Fév.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13E7-C8A6-46AF-8BED-E918DDE122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33"/>
                </a:solidFill>
                <a:latin typeface="Times New Roman"/>
              </a:rPr>
              <a:t>Plan de maîtrise sanitair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Maîtrise des températur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Traçabilité et plats témoin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Plan de nettoyage et de désinfection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éphanie TISSERAND - DDSV70 03.84.96.17.38                  Fév.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022E-3570-4D56-8994-5813F26E484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33"/>
                </a:solidFill>
                <a:latin typeface="Times New Roman"/>
              </a:rPr>
              <a:t>Enregistrement des températur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64c"/>
                </a:solidFill>
                <a:latin typeface="Times New Roman"/>
              </a:rPr>
              <a:t>Des produit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• </a:t>
            </a:r>
            <a:r>
              <a:rPr b="0" lang="fr-FR" sz="2800" spc="-1" strike="noStrike">
                <a:solidFill>
                  <a:srgbClr val="00264c"/>
                </a:solidFill>
                <a:latin typeface="Times New Roman"/>
              </a:rPr>
              <a:t>Réceptio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•</a:t>
            </a:r>
            <a:r>
              <a:rPr b="0" lang="fr-FR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264c"/>
                </a:solidFill>
                <a:latin typeface="Times New Roman"/>
              </a:rPr>
              <a:t>Remise en température (liaison froide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264c"/>
                </a:solidFill>
                <a:latin typeface="Times New Roman"/>
              </a:rPr>
              <a:t>+10°C à +63°C en moins d’1 heur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• </a:t>
            </a:r>
            <a:r>
              <a:rPr b="0" lang="fr-FR" sz="2800" spc="-1" strike="noStrike">
                <a:solidFill>
                  <a:srgbClr val="00264c"/>
                </a:solidFill>
                <a:latin typeface="Times New Roman"/>
              </a:rPr>
              <a:t>Au service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264c"/>
                </a:solidFill>
                <a:latin typeface="Times New Roman"/>
              </a:rPr>
              <a:t>froid: +3°C (voire +10°C moins de 2h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264c"/>
                </a:solidFill>
                <a:latin typeface="Times New Roman"/>
              </a:rPr>
              <a:t>chaud : +63°C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64c"/>
                </a:solidFill>
                <a:latin typeface="Times New Roman"/>
              </a:rPr>
              <a:t>Des enceintes réfrigérée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64c"/>
                </a:solidFill>
                <a:latin typeface="Times New Roman"/>
              </a:rPr>
              <a:t>Matériel nécessaire : thermomètre sonde ou laser … (métrologie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éphanie TISSERAND - DDSV70 03.84.96.17.38                  Fév.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604E-857B-42FB-A2E4-6683E178047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33"/>
                </a:solidFill>
                <a:latin typeface="Times New Roman"/>
              </a:rPr>
              <a:t>Préparation des aliment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09480" y="1752480"/>
            <a:ext cx="8077320" cy="4518000"/>
            <a:chOff x="609480" y="1752480"/>
            <a:chExt cx="8077320" cy="4518000"/>
          </a:xfrm>
        </p:grpSpPr>
        <p:sp>
          <p:nvSpPr>
            <p:cNvPr id="163" name=""/>
            <p:cNvSpPr/>
            <p:nvPr/>
          </p:nvSpPr>
          <p:spPr>
            <a:xfrm>
              <a:off x="1219320" y="2286000"/>
              <a:ext cx="0" cy="2971800"/>
            </a:xfrm>
            <a:prstGeom prst="line">
              <a:avLst/>
            </a:prstGeom>
            <a:ln w="15840">
              <a:solidFill>
                <a:srgbClr val="0026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2362320" y="2285640"/>
              <a:ext cx="0" cy="2971800"/>
            </a:xfrm>
            <a:prstGeom prst="line">
              <a:avLst/>
            </a:prstGeom>
            <a:ln w="15840">
              <a:solidFill>
                <a:srgbClr val="0026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9480" y="1828800"/>
              <a:ext cx="28958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9480" y="1752480"/>
              <a:ext cx="297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264c"/>
                  </a:solidFill>
                  <a:latin typeface="Arial"/>
                </a:rPr>
                <a:t>À cœur jusqu’à distribution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2120" y="5562720"/>
              <a:ext cx="25146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264c"/>
                  </a:solidFill>
                  <a:latin typeface="Arial"/>
                </a:rPr>
                <a:t>Sortie au maximum 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264c"/>
                  </a:solidFill>
                  <a:latin typeface="Arial"/>
                </a:rPr>
                <a:t>1h avant consommation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95280" y="38862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264c"/>
                  </a:solidFill>
                  <a:latin typeface="Arial"/>
                </a:rPr>
                <a:t>&lt; 2h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14600" y="38862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264c"/>
                  </a:solidFill>
                  <a:latin typeface="Arial"/>
                </a:rPr>
                <a:t>&lt; 1h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14800" y="2286000"/>
              <a:ext cx="152280" cy="33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33920" y="2286000"/>
              <a:ext cx="152280" cy="2971800"/>
            </a:xfrm>
            <a:prstGeom prst="rect">
              <a:avLst/>
            </a:prstGeom>
            <a:noFill/>
            <a:ln w="1260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33920" y="5257800"/>
              <a:ext cx="152280" cy="38088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380880"/>
                <a:gd name="textAreaBottom" fmla="*/ 373680 h 380880"/>
              </a:gdLst>
              <a:ahLst/>
              <a:rect l="textAreaLeft" t="textAreaTop" r="textAreaRight" b="textAreaBottom"/>
              <a:pathLst>
                <a:path w="21600" h="53949">
                  <a:moveTo>
                    <a:pt x="3600" y="0"/>
                  </a:moveTo>
                  <a:arcTo wR="3600" hR="3600" stAng="16200000" swAng="-5400000"/>
                  <a:lnTo>
                    <a:pt x="0" y="50349"/>
                  </a:lnTo>
                  <a:arcTo wR="3600" hR="3600" stAng="10800000" swAng="-5400000"/>
                  <a:lnTo>
                    <a:pt x="18000" y="539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05320" y="5638680"/>
              <a:ext cx="609480" cy="60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00400" y="2819520"/>
              <a:ext cx="1371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00400" y="4724280"/>
              <a:ext cx="1447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00400" y="5257800"/>
              <a:ext cx="14479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0400" y="5638680"/>
              <a:ext cx="14479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72000" y="2590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0000"/>
                  </a:solidFill>
                  <a:latin typeface="Arial"/>
                </a:rPr>
                <a:t>+63°C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48320" y="4495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0000"/>
                  </a:solidFill>
                  <a:latin typeface="Arial"/>
                </a:rPr>
                <a:t>+10°C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48320" y="50292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66cc"/>
                  </a:solidFill>
                  <a:latin typeface="Arial"/>
                </a:rPr>
                <a:t>+3°C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48320" y="54100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66cc"/>
                  </a:solidFill>
                  <a:latin typeface="Arial"/>
                </a:rPr>
                <a:t>-18°C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34120" y="3809880"/>
              <a:ext cx="3352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19720" y="3962520"/>
              <a:ext cx="419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264c"/>
                  </a:solidFill>
                  <a:latin typeface="Arial"/>
                </a:rPr>
                <a:t>Multiplication active des microbes</a:t>
              </a:r>
              <a:endParaRPr b="0" lang="en-US" sz="2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57800" y="3276720"/>
              <a:ext cx="243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00"/>
                  </a:solidFill>
                  <a:latin typeface="Arial"/>
                </a:rPr>
                <a:t>ZONE INTERDITE</a:t>
              </a:r>
              <a:endParaRPr b="0" lang="en-US" sz="2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86400" y="1981080"/>
              <a:ext cx="2133720" cy="398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264c"/>
                  </a:solidFill>
                  <a:latin typeface="Arial"/>
                </a:rPr>
                <a:t>Liaison chaude</a:t>
              </a:r>
              <a:endParaRPr b="0" lang="en-US" sz="2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62720" y="5181480"/>
              <a:ext cx="1904760" cy="39888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264c"/>
                  </a:solidFill>
                  <a:latin typeface="Arial"/>
                </a:rPr>
                <a:t>Liaison froide</a:t>
              </a:r>
              <a:endParaRPr b="0" lang="en-US" sz="2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éphanie TISSERAND - DDSV70 03.84.96.17.38                  Fév.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6DD5-00B9-4B94-AD08-833BA2FDBA6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33"/>
                </a:solidFill>
                <a:latin typeface="Times New Roman"/>
              </a:rPr>
              <a:t>Traçabilité et plats témoin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Conservation des bordereaux d’accompagnement ou des étiquettes des produits </a:t>
            </a:r>
            <a:r>
              <a:rPr b="0" lang="fr-FR" sz="2400" spc="-1" strike="noStrike">
                <a:solidFill>
                  <a:srgbClr val="00264c"/>
                </a:solidFill>
                <a:latin typeface="Times New Roman"/>
              </a:rPr>
              <a:t>(estampille sanitaire ou numéro de dispense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Conservation d’un échantillon témoin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•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quantité de 50 à 100g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•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séparer les différentes composant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•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durée de conservation 5 jours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•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température de conservation : froid positif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éphanie TISSERAND - DDSV70 03.84.96.17.38                  Fév.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FE89-C247-46CB-AF47-2D6FEBB0817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33"/>
                </a:solidFill>
                <a:latin typeface="Times New Roman"/>
              </a:rPr>
              <a:t>Plan de nettoyage et de désinfectio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Mise en plac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Produit de nettoyage et de désinfection agréé contact alimentair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Enregistrement du suivi des opération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Surveillance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•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autocontrôles bactériologiqu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• 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matériel d’analys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6705720" y="4343400"/>
            <a:ext cx="2149200" cy="194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éphanie TISSERAND - DDSV70 03.84.96.17.38                  Fév.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8DB1-1CE9-4568-9C33-9C0999CC77E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264c"/>
                </a:solidFill>
                <a:latin typeface="Times New Roman"/>
              </a:rPr>
              <a:t>Cas particulier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Fabrications avec les enfant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dans le cadre des activités périscolair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934320" y="4419720"/>
            <a:ext cx="1728720" cy="17571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304920" y="4495680"/>
            <a:ext cx="1728720" cy="175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éphanie TISSERAND - DDSV70 03.84.96.17.38                  Fév.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68D0-9EE0-4A5C-B89F-409C18D1AE9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33"/>
                </a:solidFill>
                <a:latin typeface="Times New Roman"/>
              </a:rPr>
              <a:t>Le risque en restauration collectiv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La Toxi-Infection Alimentaire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Collective 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(TIAC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éphanie TISSERAND - DDSV70 03.84.96.17.38                  Fév.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48AD-966D-4E4E-A86D-7CE1549672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3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3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3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33"/>
                </a:solidFill>
                <a:latin typeface="Times New Roman"/>
              </a:rPr>
              <a:t>Que faire pour bien faire?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64c"/>
                </a:solidFill>
                <a:latin typeface="Times New Roman"/>
              </a:rPr>
              <a:t>Eviter les préparations à risqu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64c"/>
                </a:solidFill>
                <a:latin typeface="Times New Roman"/>
              </a:rPr>
              <a:t>Achats des produit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264c"/>
                </a:solidFill>
                <a:latin typeface="Symbol"/>
                <a:ea typeface="Symbol"/>
              </a:rPr>
              <a:t></a:t>
            </a:r>
            <a:r>
              <a:rPr b="0" lang="fr-FR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264c"/>
                </a:solidFill>
                <a:latin typeface="Times New Roman"/>
              </a:rPr>
              <a:t>respecter la chaîne du froid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64c"/>
                </a:solidFill>
                <a:latin typeface="Times New Roman"/>
              </a:rPr>
              <a:t>Conserver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264c"/>
                </a:solidFill>
                <a:latin typeface="Symbol"/>
                <a:ea typeface="Symbol"/>
              </a:rPr>
              <a:t></a:t>
            </a:r>
            <a:r>
              <a:rPr b="0" lang="fr-FR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264c"/>
                </a:solidFill>
                <a:latin typeface="Times New Roman"/>
              </a:rPr>
              <a:t>étiquette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264c"/>
                </a:solidFill>
                <a:latin typeface="Symbol"/>
                <a:ea typeface="Symbol"/>
              </a:rPr>
              <a:t></a:t>
            </a:r>
            <a:r>
              <a:rPr b="0" lang="fr-FR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264c"/>
                </a:solidFill>
                <a:latin typeface="Times New Roman"/>
              </a:rPr>
              <a:t>plats témoin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64c"/>
                </a:solidFill>
                <a:latin typeface="Times New Roman"/>
              </a:rPr>
              <a:t>Respecter les mesures d’hygiène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264c"/>
                </a:solidFill>
                <a:latin typeface="Times New Roman"/>
              </a:rPr>
              <a:t>(personnel et enfants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éphanie TISSERAND - DDSV70 03.84.96.17.38                  Fév.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E708-84CD-4777-BFEF-647624D5791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264c"/>
                </a:solidFill>
                <a:latin typeface="Times New Roman"/>
              </a:rPr>
              <a:t>Au sujet des œufs …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3505320" y="3352680"/>
            <a:ext cx="2233440" cy="22989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5715000" y="3352680"/>
            <a:ext cx="2233440" cy="22989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1295280" y="3352680"/>
            <a:ext cx="2233800" cy="22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éphanie TISSERAND - DDSV70 03.84.96.17.38                  Fév.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CD13-29A3-4382-B694-77E95032257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33"/>
                </a:solidFill>
                <a:latin typeface="Times New Roman"/>
              </a:rPr>
              <a:t>Au sujet des œufs …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Pas d’interdiction pour les œufs en coquill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Pas de lavage des œufs (coquille poreuse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Ne sortir que le nombre nécessaire au dernier mom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Pas de préparations à risque (salmonelle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Et…! Conservation des étiquett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éphanie TISSERAND - DDSV70 03.84.96.17.38                  Fév.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A934-2568-49D3-AB50-98C0C763E9C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e9"/>
                </a:solidFill>
                <a:latin typeface="Times New Roman"/>
              </a:rPr>
              <a:t>Quelques conseils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éphanie TISSERAND - DDSV70 03.84.96.17.38                  Fév.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C2B4-8255-4273-8993-D74F23AF5EA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33"/>
                </a:solidFill>
                <a:latin typeface="Times New Roman"/>
              </a:rPr>
              <a:t>Séjours en camp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voir un réfrigérateur pour le stockage des denrées et des plats témoins (diverses possibilités : organisateur du camp, responsable du camping, mairies, particuliers…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ne pas jeter les plats témoins le jour du départ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(rappel : 5 jours de conservation)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médicaments : stockage dans des boîtes alimentaires fermées si stockage au réfrigérateur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éphanie TISSERAND - DDSV70 03.84.96.17.38                  Fév.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05BB-926B-434B-A91D-4F54AAE8116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33"/>
                </a:solidFill>
                <a:latin typeface="Times New Roman"/>
              </a:rPr>
              <a:t>Repas tirés du sac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Utiliser pour la confection des repas des produits potentiellement stable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Responsabilité: 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Si les repas sont fournis par les parents la responsabilité de l’organisateur n’est pas engagée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6553080" y="914400"/>
            <a:ext cx="1820880" cy="171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éphanie TISSERAND - DDSV70 03.84.96.17.38                  Fév.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3CA6-FE3C-4FD6-9C11-2DF1FBF1C57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33"/>
                </a:solidFill>
                <a:latin typeface="Times New Roman"/>
              </a:rPr>
              <a:t>Enfants allergiqu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64c"/>
                </a:solidFill>
                <a:latin typeface="Times New Roman"/>
              </a:rPr>
              <a:t>Un responsable unique : la famill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64c"/>
                </a:solidFill>
                <a:latin typeface="Times New Roman"/>
              </a:rPr>
              <a:t>Les parents doivent fournir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264c"/>
                </a:solidFill>
                <a:latin typeface="Times New Roman"/>
              </a:rPr>
              <a:t>- la totalité des composants du repas,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264c"/>
                </a:solidFill>
                <a:latin typeface="Times New Roman"/>
              </a:rPr>
              <a:t>- les couverts et ustensiles nécessaires à la prestatio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264c"/>
                </a:solidFill>
                <a:latin typeface="Times New Roman"/>
              </a:rPr>
              <a:t>- les boîtages destinés à contenir les composant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264c"/>
                </a:solidFill>
                <a:latin typeface="Times New Roman"/>
              </a:rPr>
              <a:t>- le contenant nécessaire au transport et au stockage de l’ensembl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Respect de la chaîne du froid à toutes les étapes.</a:t>
            </a:r>
            <a:r>
              <a:rPr b="0" lang="fr-FR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éphanie TISSERAND - DDSV70 03.84.96.17.38                  Fév.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A143-A9A0-4693-BCBE-DC1904D1DAD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264c"/>
                </a:solidFill>
                <a:latin typeface="Times New Roman"/>
              </a:rPr>
              <a:t>Maintenant…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264c"/>
                </a:solidFill>
                <a:latin typeface="Times New Roman"/>
              </a:rPr>
              <a:t>A vos cuisines !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éphanie TISSERAND - DDSV70 03.84.96.17.38                  Fév.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E592-045C-4E46-9B25-B5F760C064F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33"/>
                </a:solidFill>
                <a:latin typeface="Times New Roman"/>
              </a:rPr>
              <a:t>Référenc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64c"/>
                </a:solidFill>
                <a:latin typeface="Arial"/>
                <a:ea typeface="Times New Roman"/>
              </a:rPr>
              <a:t>Règlement (CE) n° 178/2002 établissant les principes généraux et les prescriptions générales de la législation alimentaire, instituant l'Autorité européenne de sécurité des aliments et fixant des procédures relatives à la sécurité des denrées alimentaires.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64c"/>
                </a:solidFill>
                <a:latin typeface="Arial"/>
                <a:ea typeface="Times New Roman"/>
              </a:rPr>
              <a:t>Règlement (CE) n° 852/2004 relatif à l'hygiène des denrées alimentaires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64c"/>
                </a:solidFill>
                <a:latin typeface="Arial"/>
                <a:ea typeface="Times New Roman"/>
              </a:rPr>
              <a:t>Règlement (CE) n° 853/2004 fixant des règles spécifiques d’hygiène applicables aux denrées alimentaires d’origine animale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64c"/>
                </a:solidFill>
                <a:latin typeface="Arial Unicode MS"/>
                <a:ea typeface="Arial"/>
              </a:rPr>
              <a:t>Règlement (CE) n° 2073/2005 concernant les critères microbiologiques applicables aux denrées alimentaires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64c"/>
                </a:solidFill>
                <a:latin typeface="Arial"/>
                <a:ea typeface="Times New Roman"/>
              </a:rPr>
              <a:t>AM du 29 septembre 1997 fixant les conditions d’hygiène applicables dans les établissements de restauration collective à caractère social.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64c"/>
                </a:solidFill>
                <a:latin typeface="Arial Unicode MS"/>
                <a:ea typeface="Arial Unicode MS"/>
              </a:rPr>
              <a:t>Note de service DGAl-SDHA-N2001-8164 relative à la composition des repas servis en restauration scolaire et à la sécurité des aliments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éphanie TISSERAND - DDSV70 03.84.96.17.38                  Fév.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E785-60DC-493C-B665-713B918D112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33"/>
                </a:solidFill>
                <a:latin typeface="Times New Roman"/>
              </a:rPr>
              <a:t>Qu’est-ce qu’une TIAC ?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Un foyer de </a:t>
            </a:r>
            <a:r>
              <a:rPr b="0" lang="fr-FR" sz="3200" spc="-1" strike="noStrike">
                <a:solidFill>
                  <a:srgbClr val="ff0000"/>
                </a:solidFill>
                <a:latin typeface="Times New Roman"/>
              </a:rPr>
              <a:t>toxi-infection alimentaire collective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 (TIAC) est défini par l’apparition d’au moins </a:t>
            </a:r>
            <a:r>
              <a:rPr b="0" lang="fr-FR" sz="3200" spc="-1" strike="noStrike">
                <a:solidFill>
                  <a:srgbClr val="ff0000"/>
                </a:solidFill>
                <a:latin typeface="Times New Roman"/>
              </a:rPr>
              <a:t>deux</a:t>
            </a: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 cas groupés similaires d’une symptomatologie, en général digestive, dont on peut rapporter la cause à une même origine alimentaire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éphanie TISSERAND - DDSV70 03.84.96.17.38                  Fév.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E9A1-6F9E-4055-BBF2-7CD6E48177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33"/>
                </a:solidFill>
                <a:latin typeface="Times New Roman"/>
              </a:rPr>
              <a:t>Les diverses sources de contaminatio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79640" y="160020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cc66"/>
                </a:solidFill>
                <a:latin typeface="Arial"/>
              </a:rPr>
              <a:t>La préparation des denrée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1240" y="240660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cc66"/>
                </a:solidFill>
                <a:latin typeface="Arial"/>
              </a:rPr>
              <a:t>Les aliment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88960" y="2406600"/>
            <a:ext cx="165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cc66"/>
                </a:solidFill>
                <a:latin typeface="Arial"/>
              </a:rPr>
              <a:t>Le</a:t>
            </a:r>
            <a:r>
              <a:rPr b="0" lang="fr-FR" sz="20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cc66"/>
                </a:solidFill>
                <a:latin typeface="Arial"/>
              </a:rPr>
              <a:t>personn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954080" y="2900520"/>
            <a:ext cx="5511600" cy="1698840"/>
            <a:chOff x="1954080" y="2900520"/>
            <a:chExt cx="5511600" cy="1698840"/>
          </a:xfrm>
        </p:grpSpPr>
        <p:grpSp>
          <p:nvGrpSpPr>
            <p:cNvPr id="105" name=""/>
            <p:cNvGrpSpPr/>
            <p:nvPr/>
          </p:nvGrpSpPr>
          <p:grpSpPr>
            <a:xfrm>
              <a:off x="1954080" y="2900520"/>
              <a:ext cx="5511600" cy="1218600"/>
              <a:chOff x="1954080" y="2900520"/>
              <a:chExt cx="5511600" cy="1218600"/>
            </a:xfrm>
          </p:grpSpPr>
          <p:pic>
            <p:nvPicPr>
              <p:cNvPr id="10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4520" y="2900520"/>
                <a:ext cx="1641600" cy="1197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616360" y="3279240"/>
                <a:ext cx="115092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890040" y="3549960"/>
                <a:ext cx="575640" cy="41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750040" y="3279240"/>
                <a:ext cx="115092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954080" y="3441600"/>
                <a:ext cx="575280" cy="419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1" name=""/>
            <p:cNvSpPr/>
            <p:nvPr/>
          </p:nvSpPr>
          <p:spPr>
            <a:xfrm>
              <a:off x="3668760" y="4200480"/>
              <a:ext cx="169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66cc"/>
                  </a:solidFill>
                  <a:latin typeface="Arial"/>
                </a:rPr>
                <a:t>Les microbes</a:t>
              </a:r>
              <a:endParaRPr b="0" lang="en-US" sz="2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745080" y="495936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DANGER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52560" y="5770440"/>
            <a:ext cx="80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cc"/>
                </a:solidFill>
                <a:latin typeface="Arial"/>
              </a:rPr>
              <a:t>Maladie du consommateur =</a:t>
            </a:r>
            <a:r>
              <a:rPr b="0" lang="fr-FR" sz="2400" spc="-1" strike="noStrike">
                <a:solidFill>
                  <a:srgbClr val="00264c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Toxi-infection alimentair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68560" y="2682720"/>
            <a:ext cx="1911240" cy="489240"/>
          </a:xfrm>
          <a:prstGeom prst="line">
            <a:avLst/>
          </a:prstGeom>
          <a:ln w="255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57880" y="1871640"/>
            <a:ext cx="1440" cy="811080"/>
          </a:xfrm>
          <a:prstGeom prst="line">
            <a:avLst/>
          </a:prstGeom>
          <a:ln w="255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887800" y="2682720"/>
            <a:ext cx="2151000" cy="543240"/>
          </a:xfrm>
          <a:prstGeom prst="line">
            <a:avLst/>
          </a:prstGeom>
          <a:ln w="255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57880" y="4525920"/>
            <a:ext cx="1440" cy="379440"/>
          </a:xfrm>
          <a:prstGeom prst="line">
            <a:avLst/>
          </a:prstGeom>
          <a:ln w="255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57880" y="5283360"/>
            <a:ext cx="1440" cy="487080"/>
          </a:xfrm>
          <a:prstGeom prst="line">
            <a:avLst/>
          </a:prstGeom>
          <a:ln w="255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éphanie TISSERAND - DDSV70 03.84.96.17.38                  Fév.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CB1A-E123-41E5-BE58-8A29AB8BFF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33"/>
                </a:solidFill>
                <a:latin typeface="Times New Roman"/>
              </a:rPr>
              <a:t>Quelques germes responsabl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Staphylocoqu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Clostridium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Histamin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Listeri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64c"/>
                </a:solidFill>
                <a:latin typeface="Times New Roman"/>
              </a:rPr>
              <a:t>Salmonell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éphanie TISSERAND - DDSV70 03.84.96.17.38                  Fév.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FEF0-86E9-4B6F-A6CD-629E4CE0E2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33"/>
                </a:solidFill>
                <a:latin typeface="Times New Roman"/>
              </a:rPr>
              <a:t>Staphylocoqu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1a918"/>
                </a:solidFill>
                <a:latin typeface="Times New Roman"/>
              </a:rPr>
              <a:t>Cause :</a:t>
            </a:r>
            <a:r>
              <a:rPr b="0" lang="fr-FR" sz="2800" spc="-1" strike="noStrike">
                <a:solidFill>
                  <a:srgbClr val="00264c"/>
                </a:solidFill>
                <a:latin typeface="Times New Roman"/>
              </a:rPr>
              <a:t> entérotoxine du staphylocoque doré thermorésistante (toxine secrétée dans l’aliment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1a918"/>
                </a:solidFill>
                <a:latin typeface="Times New Roman"/>
              </a:rPr>
              <a:t>Incubation :</a:t>
            </a:r>
            <a:r>
              <a:rPr b="0" lang="fr-FR" sz="2800" spc="-1" strike="noStrike">
                <a:solidFill>
                  <a:srgbClr val="00264c"/>
                </a:solidFill>
                <a:latin typeface="Times New Roman"/>
              </a:rPr>
              <a:t> 3 heures en moyenn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1a918"/>
                </a:solidFill>
                <a:latin typeface="Times New Roman"/>
              </a:rPr>
              <a:t>Symptômes :</a:t>
            </a:r>
            <a:r>
              <a:rPr b="0" lang="fr-FR" sz="2800" spc="-1" strike="noStrike">
                <a:solidFill>
                  <a:srgbClr val="00264c"/>
                </a:solidFill>
                <a:latin typeface="Times New Roman"/>
              </a:rPr>
              <a:t> vomissements, nausées, salivation, douleurs abdominales, prostration, pas de fièvr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1a918"/>
                </a:solidFill>
                <a:latin typeface="Times New Roman"/>
              </a:rPr>
              <a:t>Traitement :</a:t>
            </a:r>
            <a:r>
              <a:rPr b="0" lang="fr-FR" sz="2800" spc="-1" strike="noStrike">
                <a:solidFill>
                  <a:srgbClr val="00264c"/>
                </a:solidFill>
                <a:latin typeface="Times New Roman"/>
              </a:rPr>
              <a:t> guérison rapide grâce à de petits soin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1a918"/>
                </a:solidFill>
                <a:latin typeface="Times New Roman"/>
              </a:rPr>
              <a:t>Origine :</a:t>
            </a:r>
            <a:r>
              <a:rPr b="0" lang="fr-FR" sz="2800" spc="-1" strike="noStrike">
                <a:solidFill>
                  <a:srgbClr val="00264c"/>
                </a:solidFill>
                <a:latin typeface="Times New Roman"/>
              </a:rPr>
              <a:t> homme </a:t>
            </a:r>
            <a:r>
              <a:rPr b="0" lang="fr-FR" sz="2400" spc="-1" strike="noStrike">
                <a:solidFill>
                  <a:srgbClr val="00264c"/>
                </a:solidFill>
                <a:latin typeface="Times New Roman"/>
              </a:rPr>
              <a:t>(peau, cheveux, plaies, panaris, affections de la gorge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1a918"/>
                </a:solidFill>
                <a:latin typeface="Times New Roman"/>
              </a:rPr>
              <a:t>Denrées à risques : </a:t>
            </a:r>
            <a:r>
              <a:rPr b="0" lang="fr-FR" sz="2400" spc="-1" strike="noStrike">
                <a:solidFill>
                  <a:srgbClr val="00264c"/>
                </a:solidFill>
                <a:latin typeface="Times New Roman"/>
              </a:rPr>
              <a:t>pâtisseries, crèmes, mayonnaise, viandes hachée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éphanie TISSERAND - DDSV70 03.84.96.17.38                  Fév.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1D7B-0677-475C-BFE2-619E5C1781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33"/>
                </a:solidFill>
                <a:latin typeface="Times New Roman"/>
              </a:rPr>
              <a:t>Clostridium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1a918"/>
                </a:solidFill>
                <a:latin typeface="Times New Roman"/>
              </a:rPr>
              <a:t>Cause :</a:t>
            </a:r>
            <a:r>
              <a:rPr b="0" lang="fr-FR" sz="2800" spc="-1" strike="noStrike">
                <a:solidFill>
                  <a:srgbClr val="00264c"/>
                </a:solidFill>
                <a:latin typeface="Times New Roman"/>
              </a:rPr>
              <a:t> Clostridium perfringens (toxine produite dans le tube digestif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1a918"/>
                </a:solidFill>
                <a:latin typeface="Times New Roman"/>
              </a:rPr>
              <a:t>Incubation :</a:t>
            </a:r>
            <a:r>
              <a:rPr b="0" lang="fr-FR" sz="2800" spc="-1" strike="noStrike">
                <a:solidFill>
                  <a:srgbClr val="00264c"/>
                </a:solidFill>
                <a:latin typeface="Times New Roman"/>
              </a:rPr>
              <a:t> 12 à 18 heure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1a918"/>
                </a:solidFill>
                <a:latin typeface="Times New Roman"/>
              </a:rPr>
              <a:t>Symptômes :</a:t>
            </a:r>
            <a:r>
              <a:rPr b="0" lang="fr-FR" sz="2800" spc="-1" strike="noStrike">
                <a:solidFill>
                  <a:srgbClr val="00264c"/>
                </a:solidFill>
                <a:latin typeface="Times New Roman"/>
              </a:rPr>
              <a:t> douleurs abdominales, diarrhées, pas de vomissement, pas de fièvr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1a918"/>
                </a:solidFill>
                <a:latin typeface="Times New Roman"/>
              </a:rPr>
              <a:t>Traitement :</a:t>
            </a:r>
            <a:r>
              <a:rPr b="0" lang="fr-FR" sz="2800" spc="-1" strike="noStrike">
                <a:solidFill>
                  <a:srgbClr val="00264c"/>
                </a:solidFill>
                <a:latin typeface="Times New Roman"/>
              </a:rPr>
              <a:t> guérison rapide spontanée en 24 heure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1a918"/>
                </a:solidFill>
                <a:latin typeface="Times New Roman"/>
              </a:rPr>
              <a:t>Origine :</a:t>
            </a:r>
            <a:r>
              <a:rPr b="0" lang="fr-FR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264c"/>
                </a:solidFill>
                <a:latin typeface="Times New Roman"/>
              </a:rPr>
              <a:t>tube digestif des animaux, terre, eau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1a918"/>
                </a:solidFill>
                <a:latin typeface="Times New Roman"/>
              </a:rPr>
              <a:t>Denrées à risques : </a:t>
            </a:r>
            <a:r>
              <a:rPr b="0" lang="fr-FR" sz="2800" spc="-1" strike="noStrike">
                <a:solidFill>
                  <a:srgbClr val="00264c"/>
                </a:solidFill>
                <a:latin typeface="Times New Roman"/>
              </a:rPr>
              <a:t>viandes en sauce, en bouillon, rôtis, rillettes, riz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éphanie TISSERAND - DDSV70 03.84.96.17.38                  Fév.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76EB-3F25-401A-A998-C18FE469D8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33"/>
                </a:solidFill>
                <a:latin typeface="Times New Roman"/>
              </a:rPr>
              <a:t>Histamin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1a918"/>
                </a:solidFill>
                <a:latin typeface="Times New Roman"/>
              </a:rPr>
              <a:t>Cause :</a:t>
            </a:r>
            <a:r>
              <a:rPr b="0" lang="fr-FR" sz="2800" spc="-1" strike="noStrike">
                <a:solidFill>
                  <a:srgbClr val="00264c"/>
                </a:solidFill>
                <a:latin typeface="Times New Roman"/>
              </a:rPr>
              <a:t> amine de dégradation des protéines, l’histamin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1a918"/>
                </a:solidFill>
                <a:latin typeface="Times New Roman"/>
              </a:rPr>
              <a:t>Incubation :</a:t>
            </a:r>
            <a:r>
              <a:rPr b="0" lang="fr-FR" sz="2800" spc="-1" strike="noStrike">
                <a:solidFill>
                  <a:srgbClr val="00264c"/>
                </a:solidFill>
                <a:latin typeface="Times New Roman"/>
              </a:rPr>
              <a:t> 2 heures au moin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1a918"/>
                </a:solidFill>
                <a:latin typeface="Times New Roman"/>
              </a:rPr>
              <a:t>Symptômes :</a:t>
            </a:r>
            <a:r>
              <a:rPr b="0" lang="fr-FR" sz="2800" spc="-1" strike="noStrike">
                <a:solidFill>
                  <a:srgbClr val="00264c"/>
                </a:solidFill>
                <a:latin typeface="Times New Roman"/>
              </a:rPr>
              <a:t> bouffées de chaleur, prurit, nausées, vomissements, oedèm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1a918"/>
                </a:solidFill>
                <a:latin typeface="Times New Roman"/>
              </a:rPr>
              <a:t>Traitement :</a:t>
            </a:r>
            <a:r>
              <a:rPr b="0" lang="fr-FR" sz="2800" spc="-1" strike="noStrike">
                <a:solidFill>
                  <a:srgbClr val="00264c"/>
                </a:solidFill>
                <a:latin typeface="Times New Roman"/>
              </a:rPr>
              <a:t> guérison rapide, antihistaminique à action rapid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1a918"/>
                </a:solidFill>
                <a:latin typeface="Times New Roman"/>
              </a:rPr>
              <a:t>Denrées à risques :</a:t>
            </a:r>
            <a:r>
              <a:rPr b="0" lang="fr-FR" sz="2800" spc="-1" strike="noStrike">
                <a:solidFill>
                  <a:srgbClr val="00264c"/>
                </a:solidFill>
                <a:latin typeface="Times New Roman"/>
              </a:rPr>
              <a:t> tho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éphanie TISSERAND - DDSV70 03.84.96.17.38                  Fév.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7090-A2B8-4EB7-9A9A-81D74C55BC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3:17:59Z</dcterms:created>
  <dc:creator>ddsv70</dc:creator>
  <dc:description/>
  <dc:language>en-US</dc:language>
  <cp:lastModifiedBy>raguin</cp:lastModifiedBy>
  <dcterms:modified xsi:type="dcterms:W3CDTF">2007-02-19T08:50:05Z</dcterms:modified>
  <cp:revision>71</cp:revision>
  <dc:subject/>
  <dc:title>La Restauration Collective en cuisine satellite</dc:title>
</cp:coreProperties>
</file>