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7299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0880" y="11430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7299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0880" y="37299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6720" y="11430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83600" y="11430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7299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6720" y="37299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83600" y="37299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0880" y="11430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78296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0880" y="11430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7299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0880" y="11430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0880" y="37299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0880" y="11430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299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659080" y="6486480"/>
            <a:ext cx="1438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CBD37C-2E21-4BD7-9155-CC8E95F78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00880" y="250920"/>
            <a:ext cx="14558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formation inter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28600" y="6307200"/>
            <a:ext cx="5077440" cy="455400"/>
            <a:chOff x="228600" y="6307200"/>
            <a:chExt cx="5077440" cy="4554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228600" y="6307200"/>
              <a:ext cx="2039760" cy="45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2428560" y="6432480"/>
              <a:ext cx="28774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d00ee"/>
                  </a:solidFill>
                  <a:latin typeface="Arial"/>
                </a:rPr>
                <a:t>Organisme National de Soutien Ges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8209080" y="582480"/>
            <a:ext cx="1220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stral"/>
              </a:rPr>
              <a:t>SENSIPRO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914400"/>
            <a:ext cx="8839080" cy="7632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824960" y="6404040"/>
            <a:ext cx="5047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1000" spc="-1" strike="noStrike">
                <a:solidFill>
                  <a:srgbClr val="0d00ee"/>
                </a:solidFill>
                <a:latin typeface="Arial"/>
              </a:rPr>
              <a:t>I.A.A.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14520" y="2286000"/>
            <a:ext cx="6877080" cy="31240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3276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Mistral"/>
              </a:rPr>
              <a:t>Introduction à la</a:t>
            </a:r>
            <a:br>
              <a:rPr sz="6000"/>
            </a:br>
            <a:r>
              <a:rPr b="1" i="1" lang="en-US" sz="6000" spc="-1" strike="noStrike">
                <a:solidFill>
                  <a:srgbClr val="000000"/>
                </a:solidFill>
                <a:latin typeface="Mistral"/>
              </a:rPr>
              <a:t>notion de projet</a:t>
            </a:r>
            <a:endParaRPr b="1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9680" y="1133640"/>
            <a:ext cx="1858680" cy="17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é-étude et statuts d'un proje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2674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500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lques précisions sur la phase d'étu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3376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en n'est ac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3376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arbitrage est perma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3376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peut s'écouler plusieurs mois entre l'arbitrage et le début de la ré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7760" y="5038560"/>
            <a:ext cx="69145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ego1"/>
              </a:rPr>
              <a:t>Une pré-étude n'est jamais perdu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Diego1"/>
              </a:rPr>
              <a:t>quelles qu'en soient les suit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489440" y="5721480"/>
            <a:ext cx="673560" cy="539640"/>
            <a:chOff x="7489440" y="5721480"/>
            <a:chExt cx="673560" cy="539640"/>
          </a:xfrm>
        </p:grpSpPr>
        <p:sp>
          <p:nvSpPr>
            <p:cNvPr id="122" name=""/>
            <p:cNvSpPr/>
            <p:nvPr/>
          </p:nvSpPr>
          <p:spPr>
            <a:xfrm>
              <a:off x="7535880" y="5721480"/>
              <a:ext cx="577800" cy="539640"/>
            </a:xfrm>
            <a:custGeom>
              <a:avLst/>
              <a:gdLst>
                <a:gd name="textAreaLeft" fmla="*/ 131760 w 577800"/>
                <a:gd name="textAreaRight" fmla="*/ 446040 w 577800"/>
                <a:gd name="textAreaTop" fmla="*/ 123120 h 539640"/>
                <a:gd name="textAreaBottom" fmla="*/ 41652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89440" y="5794200"/>
              <a:ext cx="67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Diego1"/>
                </a:rPr>
                <a:t>Ve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844880" y="1174680"/>
            <a:ext cx="4732920" cy="4508640"/>
            <a:chOff x="4844880" y="1174680"/>
            <a:chExt cx="4732920" cy="4508640"/>
          </a:xfrm>
        </p:grpSpPr>
        <p:sp>
          <p:nvSpPr>
            <p:cNvPr id="125" name=""/>
            <p:cNvSpPr/>
            <p:nvPr/>
          </p:nvSpPr>
          <p:spPr>
            <a:xfrm>
              <a:off x="8686800" y="4597560"/>
              <a:ext cx="8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362280" y="4597560"/>
              <a:ext cx="72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428800" y="2800440"/>
              <a:ext cx="168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7824960" y="1676520"/>
              <a:ext cx="0" cy="11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24960" y="1504800"/>
              <a:ext cx="0" cy="386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07120" y="2558880"/>
              <a:ext cx="1435320" cy="482760"/>
            </a:xfrm>
            <a:prstGeom prst="diamond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7230960" y="1174680"/>
              <a:ext cx="1187640" cy="393840"/>
              <a:chOff x="7230960" y="1174680"/>
              <a:chExt cx="1187640" cy="393840"/>
            </a:xfrm>
          </p:grpSpPr>
          <p:sp>
            <p:nvSpPr>
              <p:cNvPr id="132" name=""/>
              <p:cNvSpPr/>
              <p:nvPr/>
            </p:nvSpPr>
            <p:spPr>
              <a:xfrm>
                <a:off x="7230960" y="1216080"/>
                <a:ext cx="1187640" cy="3110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468200" y="1174680"/>
                <a:ext cx="7117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Diego1"/>
                  </a:rPr>
                  <a:t>Idé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7089840" y="3517920"/>
              <a:ext cx="1548360" cy="393840"/>
              <a:chOff x="7089840" y="3517920"/>
              <a:chExt cx="1548360" cy="393840"/>
            </a:xfrm>
          </p:grpSpPr>
          <p:sp>
            <p:nvSpPr>
              <p:cNvPr id="135" name=""/>
              <p:cNvSpPr/>
              <p:nvPr/>
            </p:nvSpPr>
            <p:spPr>
              <a:xfrm>
                <a:off x="7230960" y="3559320"/>
                <a:ext cx="1187640" cy="3110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89840" y="3517920"/>
                <a:ext cx="1548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Diego1"/>
                  </a:rPr>
                  <a:t>Autorisab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7230960" y="5289480"/>
              <a:ext cx="1201320" cy="393840"/>
              <a:chOff x="7230960" y="5289480"/>
              <a:chExt cx="1201320" cy="393840"/>
            </a:xfrm>
          </p:grpSpPr>
          <p:sp>
            <p:nvSpPr>
              <p:cNvPr id="138" name=""/>
              <p:cNvSpPr/>
              <p:nvPr/>
            </p:nvSpPr>
            <p:spPr>
              <a:xfrm>
                <a:off x="7230960" y="5330880"/>
                <a:ext cx="1187640" cy="3110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49680" y="5289480"/>
                <a:ext cx="11826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Diego1"/>
                  </a:rPr>
                  <a:t>Autoris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117200" y="1860480"/>
              <a:ext cx="1357920" cy="393840"/>
              <a:chOff x="7117200" y="1860480"/>
              <a:chExt cx="1357920" cy="393840"/>
            </a:xfrm>
          </p:grpSpPr>
          <p:sp>
            <p:nvSpPr>
              <p:cNvPr id="141" name=""/>
              <p:cNvSpPr/>
              <p:nvPr/>
            </p:nvSpPr>
            <p:spPr>
              <a:xfrm>
                <a:off x="7230960" y="1901880"/>
                <a:ext cx="1187640" cy="3110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17200" y="1860480"/>
                <a:ext cx="13579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Diego1"/>
                  </a:rPr>
                  <a:t>Pré-étu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7116840" y="2603520"/>
              <a:ext cx="148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Diego1"/>
                </a:rPr>
                <a:t>Arbitrage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78520" y="4184640"/>
              <a:ext cx="1892520" cy="825480"/>
            </a:xfrm>
            <a:prstGeom prst="diamond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03800" y="4400640"/>
              <a:ext cx="1685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Diego1"/>
                </a:rPr>
                <a:t>Lancement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829280" y="1666800"/>
              <a:ext cx="171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9553680" y="1666440"/>
              <a:ext cx="0" cy="293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8783640" y="1996920"/>
              <a:ext cx="794160" cy="540000"/>
              <a:chOff x="8783640" y="1996920"/>
              <a:chExt cx="794160" cy="540000"/>
            </a:xfrm>
          </p:grpSpPr>
          <p:sp>
            <p:nvSpPr>
              <p:cNvPr id="149" name=""/>
              <p:cNvSpPr/>
              <p:nvPr/>
            </p:nvSpPr>
            <p:spPr>
              <a:xfrm>
                <a:off x="8896320" y="1996920"/>
                <a:ext cx="577800" cy="540000"/>
              </a:xfrm>
              <a:custGeom>
                <a:avLst/>
                <a:gdLst>
                  <a:gd name="textAreaLeft" fmla="*/ 131760 w 577800"/>
                  <a:gd name="textAreaRight" fmla="*/ 446040 w 577800"/>
                  <a:gd name="textAreaTop" fmla="*/ 123120 h 540000"/>
                  <a:gd name="textAreaBottom" fmla="*/ 416880 h 54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010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83640" y="2100240"/>
                <a:ext cx="794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Diego1"/>
                  </a:rPr>
                  <a:t>Rou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354000" y="3425760"/>
              <a:ext cx="902160" cy="539640"/>
              <a:chOff x="6354000" y="3425760"/>
              <a:chExt cx="902160" cy="539640"/>
            </a:xfrm>
          </p:grpSpPr>
          <p:sp>
            <p:nvSpPr>
              <p:cNvPr id="152" name=""/>
              <p:cNvSpPr/>
              <p:nvPr/>
            </p:nvSpPr>
            <p:spPr>
              <a:xfrm>
                <a:off x="6488280" y="3425760"/>
                <a:ext cx="577800" cy="539640"/>
              </a:xfrm>
              <a:custGeom>
                <a:avLst/>
                <a:gdLst>
                  <a:gd name="textAreaLeft" fmla="*/ 131760 w 577800"/>
                  <a:gd name="textAreaRight" fmla="*/ 446040 w 577800"/>
                  <a:gd name="textAreaTop" fmla="*/ 123120 h 539640"/>
                  <a:gd name="textAreaBottom" fmla="*/ 416520 h 53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354000" y="3529080"/>
                <a:ext cx="902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Diego1"/>
                  </a:rPr>
                  <a:t>Oran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flipV="1">
              <a:off x="6362640" y="3238560"/>
              <a:ext cx="0" cy="13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62640" y="3238560"/>
              <a:ext cx="139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29160" y="2800440"/>
              <a:ext cx="0" cy="9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44880" y="3067200"/>
              <a:ext cx="1187640" cy="958680"/>
              <a:chOff x="4844880" y="3067200"/>
              <a:chExt cx="1187640" cy="958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4844880" y="3632040"/>
                <a:ext cx="1187640" cy="393840"/>
                <a:chOff x="4844880" y="3632040"/>
                <a:chExt cx="1187640" cy="3938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844880" y="3673440"/>
                  <a:ext cx="1187640" cy="3110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945320" y="3632040"/>
                  <a:ext cx="92664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Diego1"/>
                    </a:rPr>
                    <a:t>Rejet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5159160" y="3067200"/>
                <a:ext cx="739080" cy="539640"/>
                <a:chOff x="5159160" y="3067200"/>
                <a:chExt cx="739080" cy="5396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181480" y="3067200"/>
                  <a:ext cx="577800" cy="539640"/>
                </a:xfrm>
                <a:custGeom>
                  <a:avLst/>
                  <a:gdLst>
                    <a:gd name="textAreaLeft" fmla="*/ 131760 w 577800"/>
                    <a:gd name="textAreaRight" fmla="*/ 446040 w 577800"/>
                    <a:gd name="textAreaTop" fmla="*/ 123120 h 539640"/>
                    <a:gd name="textAreaBottom" fmla="*/ 416520 h 539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159160" y="3139920"/>
                  <a:ext cx="7390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Diego1"/>
                    </a:rPr>
                    <a:t>Noi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4" name=""/>
            <p:cNvSpPr/>
            <p:nvPr/>
          </p:nvSpPr>
          <p:spPr>
            <a:xfrm>
              <a:off x="8534520" y="280368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763120" y="1673280"/>
              <a:ext cx="0" cy="11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1666440" y="2600280"/>
            <a:ext cx="8098560" cy="1733760"/>
            <a:chOff x="1666440" y="2600280"/>
            <a:chExt cx="8098560" cy="1733760"/>
          </a:xfrm>
        </p:grpSpPr>
        <p:sp>
          <p:nvSpPr>
            <p:cNvPr id="167" name=""/>
            <p:cNvSpPr/>
            <p:nvPr/>
          </p:nvSpPr>
          <p:spPr>
            <a:xfrm>
              <a:off x="1711440" y="2600280"/>
              <a:ext cx="6483240" cy="173376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66440" y="2965320"/>
              <a:ext cx="80985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Mistral"/>
                </a:rPr>
                <a:t>Les acteurs concerné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acteurs : le chef de proje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2674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animate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fédère l'équipe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Communicate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est en mesure à tous les stades d'informer le comité de pilo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informe également ses parte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respons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dispose de moyens et d'obl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doit tenir ses object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033880" y="1184400"/>
          <a:ext cx="427032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3880" y="1184400"/>
                    <a:ext cx="427032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31560" y="5248440"/>
            <a:ext cx="4552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ego1"/>
              </a:rPr>
              <a:t>Il ne porte pas tout su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Diego1"/>
              </a:rPr>
              <a:t>ses épaul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acteurs : le chef de proje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s missions du Chef de proj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finition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lanification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ilotage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égociations internes et externes a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nimation des équ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porting interne et ex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stion du fond documen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567400" y="2557440"/>
          <a:ext cx="3765600" cy="35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7400" y="2557440"/>
                    <a:ext cx="376560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qualités d'un chef de proje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perle r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209600" y="1639800"/>
          <a:ext cx="750096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9600" y="1639800"/>
                    <a:ext cx="750096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219320" y="3468600"/>
            <a:ext cx="14997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Imag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Raison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Savoir-f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Expert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Curios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Sensibil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Eco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Ouverture d'espr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3000" y="3468600"/>
            <a:ext cx="1339560" cy="24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elatio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fl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olidar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esponsabil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ynthè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28120" y="3468600"/>
            <a:ext cx="106092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fficac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élé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ob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utonom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31440" y="3468600"/>
            <a:ext cx="19537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nf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réativ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éthod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iti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apacité à défend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une id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apacité d'interpe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acteurs : la structure de pilotag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2674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élément indispensable au déroulement du process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es de dé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rbit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élément indispensable à la pérennisation de la démar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licitation de la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ilitation auprès des autres services (transversalit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tien au chef de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gar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la cohérence du projet avec la stratégie et les objectifs de l'ent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033880" y="1808280"/>
          <a:ext cx="4270320" cy="36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3880" y="1808280"/>
                    <a:ext cx="4270320" cy="36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acteurs : l'équipe proje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2674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réativité perman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innovation et l'optimisation doivent rester un souci perma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partenai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considérant le projet dans sa globalité et non exclusivement au niveau de la tâ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transpar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la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tôt une dérive est connue, mieux elle se g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033880" y="2173320"/>
          <a:ext cx="42703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3880" y="2173320"/>
                    <a:ext cx="42703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 management d'un proje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rétison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23360" y="2111400"/>
            <a:ext cx="2302920" cy="374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recteur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ité de Proj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ité de pilo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i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ef de pro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quipe pro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67160" y="2111400"/>
            <a:ext cx="2545200" cy="374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il muni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urban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eur des TV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49200" y="1873080"/>
            <a:ext cx="2578320" cy="210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08160" y="1973160"/>
            <a:ext cx="7682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élai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075040" y="1947960"/>
          <a:ext cx="576864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5040" y="1947960"/>
                    <a:ext cx="576864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e qui rassemble les acteur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6364800" y="1090440"/>
            <a:ext cx="3081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bilité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Dossier proj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Tableau de bor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18520" y="5977080"/>
            <a:ext cx="2671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règles du j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960" y="5376960"/>
            <a:ext cx="248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8000" y="1461960"/>
            <a:ext cx="311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îtrise des ris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073400" y="3102120"/>
            <a:ext cx="1846800" cy="844560"/>
            <a:chOff x="4073400" y="3102120"/>
            <a:chExt cx="1846800" cy="844560"/>
          </a:xfrm>
        </p:grpSpPr>
        <p:sp>
          <p:nvSpPr>
            <p:cNvPr id="208" name=""/>
            <p:cNvSpPr/>
            <p:nvPr/>
          </p:nvSpPr>
          <p:spPr>
            <a:xfrm>
              <a:off x="4073400" y="3102120"/>
              <a:ext cx="1758960" cy="84456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2040" y="3267000"/>
              <a:ext cx="1658160" cy="5155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Mistral"/>
                </a:rPr>
                <a:t>Le proj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768240" y="2330280"/>
            <a:ext cx="1683000" cy="1283040"/>
            <a:chOff x="768240" y="2330280"/>
            <a:chExt cx="1683000" cy="1283040"/>
          </a:xfrm>
        </p:grpSpPr>
        <p:sp>
          <p:nvSpPr>
            <p:cNvPr id="211" name=""/>
            <p:cNvSpPr/>
            <p:nvPr/>
          </p:nvSpPr>
          <p:spPr>
            <a:xfrm>
              <a:off x="768240" y="2330280"/>
              <a:ext cx="1683000" cy="1283040"/>
            </a:xfrm>
            <a:prstGeom prst="triangle">
              <a:avLst>
                <a:gd name="adj" fmla="val 49986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24280" y="2982960"/>
              <a:ext cx="9738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isqu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087280" y="3659040"/>
            <a:ext cx="7452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û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6400" y="3659040"/>
            <a:ext cx="8625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Qualité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594080" y="2819520"/>
            <a:ext cx="8591040" cy="1790640"/>
            <a:chOff x="1594080" y="2819520"/>
            <a:chExt cx="8591040" cy="1790640"/>
          </a:xfrm>
        </p:grpSpPr>
        <p:sp>
          <p:nvSpPr>
            <p:cNvPr id="216" name=""/>
            <p:cNvSpPr/>
            <p:nvPr/>
          </p:nvSpPr>
          <p:spPr>
            <a:xfrm>
              <a:off x="1998720" y="2819520"/>
              <a:ext cx="6343560" cy="17906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94080" y="3213000"/>
              <a:ext cx="859104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Mistral"/>
                </a:rPr>
                <a:t>Le dossier de pré-étude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952880" y="3467160"/>
          <a:ext cx="4754520" cy="27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467160"/>
                    <a:ext cx="475452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elques question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acteurs concer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dossier de pré-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management d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munication, planification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lais, coûts, risques,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out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ude d'opportun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nification, suivi des délai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ivi des coû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'aide d'un logic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sensibilisation à la notion de proje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460760" y="1809720"/>
            <a:ext cx="2776680" cy="1650960"/>
            <a:chOff x="4460760" y="1809720"/>
            <a:chExt cx="2776680" cy="1650960"/>
          </a:xfrm>
        </p:grpSpPr>
        <p:grpSp>
          <p:nvGrpSpPr>
            <p:cNvPr id="54" name=""/>
            <p:cNvGrpSpPr/>
            <p:nvPr/>
          </p:nvGrpSpPr>
          <p:grpSpPr>
            <a:xfrm>
              <a:off x="4460760" y="1809720"/>
              <a:ext cx="2776680" cy="1650960"/>
              <a:chOff x="4460760" y="1809720"/>
              <a:chExt cx="2776680" cy="1650960"/>
            </a:xfrm>
          </p:grpSpPr>
          <p:sp>
            <p:nvSpPr>
              <p:cNvPr id="55" name=""/>
              <p:cNvSpPr/>
              <p:nvPr/>
            </p:nvSpPr>
            <p:spPr>
              <a:xfrm>
                <a:off x="4460760" y="1809720"/>
                <a:ext cx="2776680" cy="944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919840" y="2816280"/>
                <a:ext cx="557280" cy="150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273720" y="3043080"/>
                <a:ext cx="363600" cy="131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492960" y="3236760"/>
                <a:ext cx="204840" cy="84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613560" y="3397320"/>
                <a:ext cx="136440" cy="63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4636800" y="1954080"/>
              <a:ext cx="24246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4920" bIns="3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41440"/>
                  <a:tab algn="l" pos="1082520"/>
                  <a:tab algn="l" pos="1623960"/>
                  <a:tab algn="l" pos="2165400"/>
                  <a:tab algn="l" pos="2706840"/>
                  <a:tab algn="l" pos="3247920"/>
                  <a:tab algn="l" pos="3789360"/>
                  <a:tab algn="l" pos="4330800"/>
                  <a:tab algn="l" pos="4871880"/>
                  <a:tab algn="l" pos="5413320"/>
                  <a:tab algn="l" pos="5954760"/>
                  <a:tab algn="l" pos="6496200"/>
                  <a:tab algn="l" pos="7037280"/>
                  <a:tab algn="l" pos="7578720"/>
                  <a:tab algn="l" pos="8120160"/>
                  <a:tab algn="l" pos="8661240"/>
                  <a:tab algn="l" pos="9202680"/>
                  <a:tab algn="l" pos="9744120"/>
                  <a:tab algn="l" pos="10285560"/>
                  <a:tab algn="l" pos="1082664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iego1"/>
                </a:rPr>
                <a:t>C'est quoi la ges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41440"/>
                  <a:tab algn="l" pos="1082520"/>
                  <a:tab algn="l" pos="1623960"/>
                  <a:tab algn="l" pos="2165400"/>
                  <a:tab algn="l" pos="2706840"/>
                  <a:tab algn="l" pos="3247920"/>
                  <a:tab algn="l" pos="3789360"/>
                  <a:tab algn="l" pos="4330800"/>
                  <a:tab algn="l" pos="4871880"/>
                  <a:tab algn="l" pos="5413320"/>
                  <a:tab algn="l" pos="5954760"/>
                  <a:tab algn="l" pos="6496200"/>
                  <a:tab algn="l" pos="7037280"/>
                  <a:tab algn="l" pos="7578720"/>
                  <a:tab algn="l" pos="8120160"/>
                  <a:tab algn="l" pos="8661240"/>
                  <a:tab algn="l" pos="9202680"/>
                  <a:tab algn="l" pos="9744120"/>
                  <a:tab algn="l" pos="10285560"/>
                  <a:tab algn="l" pos="1082664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iego1"/>
                </a:rPr>
                <a:t>de projet ?..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 dossier de pré-étude en phase exploratoir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instrument de réflexion et de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cloisonner, se poser les bonnes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ermettant de définir le contenu du proj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actions, mais aussi les partenaires ou contribu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marges de manoeuvre pendant qu'elles donnent encore un degré de latitude. Il s'agira plus tard de gérer des contraint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ilitant la validation de ce cont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rbitrage, évaluation à partir de l'urgence, du retour financier et du retour opérationnel, eclairage sur les ris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ttre de mission ...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éparant la mise en place et la structuration du proj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ptimisation avant mise en oe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972360" y="2467080"/>
            <a:ext cx="9482400" cy="2000160"/>
            <a:chOff x="972360" y="2467080"/>
            <a:chExt cx="9482400" cy="2000160"/>
          </a:xfrm>
        </p:grpSpPr>
        <p:sp>
          <p:nvSpPr>
            <p:cNvPr id="221" name=""/>
            <p:cNvSpPr/>
            <p:nvPr/>
          </p:nvSpPr>
          <p:spPr>
            <a:xfrm>
              <a:off x="1266840" y="2467080"/>
              <a:ext cx="7372440" cy="200016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72360" y="2965320"/>
              <a:ext cx="94824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Mistral"/>
                </a:rPr>
                <a:t>Le management de projet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uand faut-il travailler par proje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5920" y="1150920"/>
          <a:ext cx="7248240" cy="430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1150920"/>
                    <a:ext cx="724824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638680" y="5581800"/>
          <a:ext cx="3851280" cy="79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5581800"/>
                    <a:ext cx="385128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4356000" y="2782800"/>
          <a:ext cx="504684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782800"/>
                    <a:ext cx="50468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ourquoi une gestion de projet ?..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'inadéquation de l'environnement et de l'organi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structures organisationnelles s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produits de plus en plus flu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antir l'atteinte d'un objectif en réalisant le meilleur compromis par la bonne gestion des contraintes 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é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l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voriser l'atteinte des résulta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nd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 l'optimisation de la planif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 des moy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 l'optimisation 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'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avantages d'un fonctionnement par proje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701520" y="1072800"/>
            <a:ext cx="5473800" cy="93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ération extraordinai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 à risq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fs ambitieu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2857680"/>
            <a:ext cx="4343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4400640"/>
            <a:ext cx="4343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2857680"/>
            <a:ext cx="4343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1880" y="2320920"/>
            <a:ext cx="5473800" cy="61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gence de dél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tuation tempor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01880" y="3216240"/>
            <a:ext cx="5473800" cy="2406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nagement d'une équipe pluridisciplin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utorité recon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manditaire : maître d'ouv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sponsable : maître d'oeuv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bjectifs partag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ttre de 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ransversalité maîtris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quipe et contributions négociées et officialis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01880" y="5911920"/>
            <a:ext cx="54738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ation des ressources aux objecti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06440" y="1311120"/>
            <a:ext cx="1511280" cy="463680"/>
            <a:chOff x="406440" y="1311120"/>
            <a:chExt cx="1511280" cy="463680"/>
          </a:xfrm>
        </p:grpSpPr>
        <p:sp>
          <p:nvSpPr>
            <p:cNvPr id="242" name=""/>
            <p:cNvSpPr/>
            <p:nvPr/>
          </p:nvSpPr>
          <p:spPr>
            <a:xfrm>
              <a:off x="406440" y="1311120"/>
              <a:ext cx="1511280" cy="46368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0160" y="1362240"/>
              <a:ext cx="1383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bilis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06440" y="2397240"/>
            <a:ext cx="1511280" cy="463320"/>
            <a:chOff x="406440" y="2397240"/>
            <a:chExt cx="1511280" cy="463320"/>
          </a:xfrm>
        </p:grpSpPr>
        <p:sp>
          <p:nvSpPr>
            <p:cNvPr id="245" name=""/>
            <p:cNvSpPr/>
            <p:nvPr/>
          </p:nvSpPr>
          <p:spPr>
            <a:xfrm>
              <a:off x="406440" y="2397240"/>
              <a:ext cx="1511280" cy="46332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3400" y="2448000"/>
              <a:ext cx="101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pidit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06440" y="4187880"/>
            <a:ext cx="1511280" cy="463320"/>
            <a:chOff x="406440" y="4187880"/>
            <a:chExt cx="1511280" cy="463320"/>
          </a:xfrm>
        </p:grpSpPr>
        <p:sp>
          <p:nvSpPr>
            <p:cNvPr id="248" name=""/>
            <p:cNvSpPr/>
            <p:nvPr/>
          </p:nvSpPr>
          <p:spPr>
            <a:xfrm>
              <a:off x="406440" y="4187880"/>
              <a:ext cx="1511280" cy="46332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5520" y="4238640"/>
              <a:ext cx="1472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ordin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06440" y="5864400"/>
            <a:ext cx="1511280" cy="463320"/>
            <a:chOff x="406440" y="5864400"/>
            <a:chExt cx="1511280" cy="463320"/>
          </a:xfrm>
        </p:grpSpPr>
        <p:sp>
          <p:nvSpPr>
            <p:cNvPr id="251" name=""/>
            <p:cNvSpPr/>
            <p:nvPr/>
          </p:nvSpPr>
          <p:spPr>
            <a:xfrm>
              <a:off x="406440" y="5864400"/>
              <a:ext cx="1511280" cy="46332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9440" y="5915160"/>
              <a:ext cx="1385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sour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521080" y="1235160"/>
            <a:ext cx="520560" cy="615960"/>
          </a:xfrm>
          <a:prstGeom prst="rightArrow">
            <a:avLst>
              <a:gd name="adj1" fmla="val 75000"/>
              <a:gd name="adj2" fmla="val 50014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21080" y="5788080"/>
            <a:ext cx="520560" cy="615960"/>
          </a:xfrm>
          <a:prstGeom prst="rightArrow">
            <a:avLst>
              <a:gd name="adj1" fmla="val 75000"/>
              <a:gd name="adj2" fmla="val 50014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21080" y="4111560"/>
            <a:ext cx="520560" cy="615960"/>
          </a:xfrm>
          <a:prstGeom prst="rightArrow">
            <a:avLst>
              <a:gd name="adj1" fmla="val 75000"/>
              <a:gd name="adj2" fmla="val 50014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21080" y="2320920"/>
            <a:ext cx="520560" cy="615960"/>
          </a:xfrm>
          <a:prstGeom prst="rightArrow">
            <a:avLst>
              <a:gd name="adj1" fmla="val 75000"/>
              <a:gd name="adj2" fmla="val 50014"/>
            </a:avLst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ttention à la planification du proje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planification d'un projet doit être distinguée de celle des activités menées à l'intérieur d'un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13880" y="2209680"/>
            <a:ext cx="8471520" cy="3945240"/>
            <a:chOff x="713880" y="2209680"/>
            <a:chExt cx="8471520" cy="3945240"/>
          </a:xfrm>
        </p:grpSpPr>
        <p:sp>
          <p:nvSpPr>
            <p:cNvPr id="260" name=""/>
            <p:cNvSpPr/>
            <p:nvPr/>
          </p:nvSpPr>
          <p:spPr>
            <a:xfrm>
              <a:off x="968400" y="2978280"/>
              <a:ext cx="8217000" cy="1206360"/>
            </a:xfrm>
            <a:prstGeom prst="roundRect">
              <a:avLst>
                <a:gd name="adj" fmla="val 1248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35160" y="220968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6783480" y="2209680"/>
              <a:ext cx="1447560" cy="2743200"/>
              <a:chOff x="6783480" y="2209680"/>
              <a:chExt cx="1447560" cy="2743200"/>
            </a:xfrm>
          </p:grpSpPr>
          <p:sp>
            <p:nvSpPr>
              <p:cNvPr id="263" name=""/>
              <p:cNvSpPr/>
              <p:nvPr/>
            </p:nvSpPr>
            <p:spPr>
              <a:xfrm>
                <a:off x="6783480" y="2209680"/>
                <a:ext cx="0" cy="27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231040" y="2209680"/>
                <a:ext cx="0" cy="27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3659040" y="2209680"/>
              <a:ext cx="1570320" cy="2743200"/>
              <a:chOff x="3659040" y="2209680"/>
              <a:chExt cx="1570320" cy="2743200"/>
            </a:xfrm>
          </p:grpSpPr>
          <p:sp>
            <p:nvSpPr>
              <p:cNvPr id="266" name=""/>
              <p:cNvSpPr/>
              <p:nvPr/>
            </p:nvSpPr>
            <p:spPr>
              <a:xfrm>
                <a:off x="3659040" y="2209680"/>
                <a:ext cx="0" cy="27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229360" y="2209680"/>
                <a:ext cx="0" cy="27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1065600" y="3232080"/>
              <a:ext cx="11156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ef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20200" y="2362320"/>
              <a:ext cx="1152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rectio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07800" y="2362320"/>
              <a:ext cx="1152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rectio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30360" y="2362320"/>
              <a:ext cx="1152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rection 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3880" y="4756320"/>
              <a:ext cx="2837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lanification de proj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73600" y="5456160"/>
              <a:ext cx="4352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lanification des char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t des ressources de la direction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4" name=""/>
            <p:cNvGraphicFramePr/>
            <p:nvPr/>
          </p:nvGraphicFramePr>
          <p:xfrm>
            <a:off x="2257560" y="3062160"/>
            <a:ext cx="1365120" cy="1052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57560" y="3062160"/>
                      <a:ext cx="1365120" cy="105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6" name=""/>
            <p:cNvGraphicFramePr/>
            <p:nvPr/>
          </p:nvGraphicFramePr>
          <p:xfrm>
            <a:off x="3754440" y="2865600"/>
            <a:ext cx="1417680" cy="1444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54440" y="2865600"/>
                      <a:ext cx="1417680" cy="14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5229360" y="2843280"/>
            <a:ext cx="1428480" cy="1490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29360" y="2843280"/>
                      <a:ext cx="1428480" cy="149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"/>
            <p:cNvGraphicFramePr/>
            <p:nvPr/>
          </p:nvGraphicFramePr>
          <p:xfrm>
            <a:off x="6942240" y="2843280"/>
            <a:ext cx="1141200" cy="1490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42240" y="2843280"/>
                      <a:ext cx="1141200" cy="149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82" name=""/>
            <p:cNvGrpSpPr/>
            <p:nvPr/>
          </p:nvGrpSpPr>
          <p:grpSpPr>
            <a:xfrm>
              <a:off x="716040" y="4230720"/>
              <a:ext cx="1066680" cy="517320"/>
              <a:chOff x="716040" y="4230720"/>
              <a:chExt cx="1066680" cy="517320"/>
            </a:xfrm>
          </p:grpSpPr>
          <p:sp>
            <p:nvSpPr>
              <p:cNvPr id="283" name=""/>
              <p:cNvSpPr/>
              <p:nvPr/>
            </p:nvSpPr>
            <p:spPr>
              <a:xfrm>
                <a:off x="716040" y="4232160"/>
                <a:ext cx="1066680" cy="515880"/>
              </a:xfrm>
              <a:custGeom>
                <a:avLst/>
                <a:gdLst/>
                <a:ahLst/>
                <a:rect l="l" t="t" r="r" b="b"/>
                <a:pathLst>
                  <a:path w="672" h="325">
                    <a:moveTo>
                      <a:pt x="414" y="304"/>
                    </a:moveTo>
                    <a:lnTo>
                      <a:pt x="385" y="324"/>
                    </a:lnTo>
                    <a:lnTo>
                      <a:pt x="232" y="324"/>
                    </a:lnTo>
                    <a:lnTo>
                      <a:pt x="147" y="298"/>
                    </a:lnTo>
                    <a:lnTo>
                      <a:pt x="130" y="293"/>
                    </a:lnTo>
                    <a:lnTo>
                      <a:pt x="120" y="285"/>
                    </a:lnTo>
                    <a:lnTo>
                      <a:pt x="110" y="275"/>
                    </a:lnTo>
                    <a:lnTo>
                      <a:pt x="101" y="265"/>
                    </a:lnTo>
                    <a:lnTo>
                      <a:pt x="0" y="258"/>
                    </a:lnTo>
                    <a:lnTo>
                      <a:pt x="0" y="92"/>
                    </a:lnTo>
                    <a:lnTo>
                      <a:pt x="56" y="90"/>
                    </a:lnTo>
                    <a:lnTo>
                      <a:pt x="77" y="84"/>
                    </a:lnTo>
                    <a:lnTo>
                      <a:pt x="99" y="77"/>
                    </a:lnTo>
                    <a:lnTo>
                      <a:pt x="118" y="60"/>
                    </a:lnTo>
                    <a:lnTo>
                      <a:pt x="142" y="27"/>
                    </a:lnTo>
                    <a:lnTo>
                      <a:pt x="206" y="0"/>
                    </a:lnTo>
                    <a:lnTo>
                      <a:pt x="268" y="6"/>
                    </a:lnTo>
                    <a:lnTo>
                      <a:pt x="317" y="31"/>
                    </a:lnTo>
                    <a:lnTo>
                      <a:pt x="644" y="31"/>
                    </a:lnTo>
                    <a:lnTo>
                      <a:pt x="657" y="32"/>
                    </a:lnTo>
                    <a:lnTo>
                      <a:pt x="663" y="36"/>
                    </a:lnTo>
                    <a:lnTo>
                      <a:pt x="669" y="43"/>
                    </a:lnTo>
                    <a:lnTo>
                      <a:pt x="671" y="58"/>
                    </a:lnTo>
                    <a:lnTo>
                      <a:pt x="671" y="72"/>
                    </a:lnTo>
                    <a:lnTo>
                      <a:pt x="668" y="83"/>
                    </a:lnTo>
                    <a:lnTo>
                      <a:pt x="664" y="89"/>
                    </a:lnTo>
                    <a:lnTo>
                      <a:pt x="659" y="91"/>
                    </a:lnTo>
                    <a:lnTo>
                      <a:pt x="644" y="92"/>
                    </a:lnTo>
                    <a:lnTo>
                      <a:pt x="414" y="100"/>
                    </a:lnTo>
                    <a:lnTo>
                      <a:pt x="414" y="304"/>
                    </a:lnTo>
                  </a:path>
                </a:pathLst>
              </a:custGeom>
              <a:solidFill>
                <a:srgbClr val="ff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174680" y="4384800"/>
                <a:ext cx="241200" cy="117360"/>
              </a:xfrm>
              <a:custGeom>
                <a:avLst/>
                <a:gdLst/>
                <a:ahLst/>
                <a:rect l="l" t="t" r="r" b="b"/>
                <a:pathLst>
                  <a:path w="152" h="74">
                    <a:moveTo>
                      <a:pt x="129" y="0"/>
                    </a:moveTo>
                    <a:lnTo>
                      <a:pt x="137" y="3"/>
                    </a:lnTo>
                    <a:lnTo>
                      <a:pt x="142" y="8"/>
                    </a:lnTo>
                    <a:lnTo>
                      <a:pt x="147" y="15"/>
                    </a:lnTo>
                    <a:lnTo>
                      <a:pt x="151" y="31"/>
                    </a:lnTo>
                    <a:lnTo>
                      <a:pt x="151" y="52"/>
                    </a:lnTo>
                    <a:lnTo>
                      <a:pt x="149" y="60"/>
                    </a:lnTo>
                    <a:lnTo>
                      <a:pt x="146" y="67"/>
                    </a:lnTo>
                    <a:lnTo>
                      <a:pt x="142" y="70"/>
                    </a:lnTo>
                    <a:lnTo>
                      <a:pt x="139" y="72"/>
                    </a:lnTo>
                    <a:lnTo>
                      <a:pt x="109" y="72"/>
                    </a:lnTo>
                    <a:lnTo>
                      <a:pt x="41" y="73"/>
                    </a:lnTo>
                    <a:lnTo>
                      <a:pt x="20" y="73"/>
                    </a:lnTo>
                    <a:lnTo>
                      <a:pt x="9" y="71"/>
                    </a:lnTo>
                    <a:lnTo>
                      <a:pt x="2" y="65"/>
                    </a:lnTo>
                    <a:lnTo>
                      <a:pt x="0" y="53"/>
                    </a:lnTo>
                    <a:lnTo>
                      <a:pt x="0" y="34"/>
                    </a:lnTo>
                    <a:lnTo>
                      <a:pt x="2" y="25"/>
                    </a:lnTo>
                    <a:lnTo>
                      <a:pt x="6" y="23"/>
                    </a:lnTo>
                    <a:lnTo>
                      <a:pt x="19" y="18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76480" y="4497480"/>
                <a:ext cx="241200" cy="110880"/>
              </a:xfrm>
              <a:custGeom>
                <a:avLst/>
                <a:gdLst/>
                <a:ahLst/>
                <a:rect l="l" t="t" r="r" b="b"/>
                <a:pathLst>
                  <a:path w="152" h="70">
                    <a:moveTo>
                      <a:pt x="130" y="0"/>
                    </a:moveTo>
                    <a:lnTo>
                      <a:pt x="138" y="2"/>
                    </a:lnTo>
                    <a:lnTo>
                      <a:pt x="143" y="7"/>
                    </a:lnTo>
                    <a:lnTo>
                      <a:pt x="148" y="15"/>
                    </a:lnTo>
                    <a:lnTo>
                      <a:pt x="151" y="26"/>
                    </a:lnTo>
                    <a:lnTo>
                      <a:pt x="151" y="46"/>
                    </a:lnTo>
                    <a:lnTo>
                      <a:pt x="149" y="57"/>
                    </a:lnTo>
                    <a:lnTo>
                      <a:pt x="146" y="64"/>
                    </a:lnTo>
                    <a:lnTo>
                      <a:pt x="140" y="68"/>
                    </a:lnTo>
                    <a:lnTo>
                      <a:pt x="129" y="69"/>
                    </a:lnTo>
                    <a:lnTo>
                      <a:pt x="94" y="69"/>
                    </a:lnTo>
                    <a:lnTo>
                      <a:pt x="35" y="66"/>
                    </a:lnTo>
                    <a:lnTo>
                      <a:pt x="15" y="64"/>
                    </a:lnTo>
                    <a:lnTo>
                      <a:pt x="5" y="59"/>
                    </a:lnTo>
                    <a:lnTo>
                      <a:pt x="2" y="53"/>
                    </a:lnTo>
                    <a:lnTo>
                      <a:pt x="0" y="41"/>
                    </a:lnTo>
                    <a:lnTo>
                      <a:pt x="0" y="21"/>
                    </a:lnTo>
                    <a:lnTo>
                      <a:pt x="5" y="11"/>
                    </a:lnTo>
                    <a:lnTo>
                      <a:pt x="11" y="7"/>
                    </a:lnTo>
                    <a:lnTo>
                      <a:pt x="20" y="4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ff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174680" y="4603680"/>
                <a:ext cx="233280" cy="115920"/>
              </a:xfrm>
              <a:custGeom>
                <a:avLst/>
                <a:gdLst/>
                <a:ahLst/>
                <a:rect l="l" t="t" r="r" b="b"/>
                <a:pathLst>
                  <a:path w="147" h="73">
                    <a:moveTo>
                      <a:pt x="125" y="72"/>
                    </a:moveTo>
                    <a:lnTo>
                      <a:pt x="133" y="69"/>
                    </a:lnTo>
                    <a:lnTo>
                      <a:pt x="138" y="64"/>
                    </a:lnTo>
                    <a:lnTo>
                      <a:pt x="142" y="57"/>
                    </a:lnTo>
                    <a:lnTo>
                      <a:pt x="146" y="42"/>
                    </a:lnTo>
                    <a:lnTo>
                      <a:pt x="146" y="21"/>
                    </a:lnTo>
                    <a:lnTo>
                      <a:pt x="145" y="14"/>
                    </a:lnTo>
                    <a:lnTo>
                      <a:pt x="141" y="6"/>
                    </a:lnTo>
                    <a:lnTo>
                      <a:pt x="138" y="3"/>
                    </a:lnTo>
                    <a:lnTo>
                      <a:pt x="134" y="1"/>
                    </a:lnTo>
                    <a:lnTo>
                      <a:pt x="106" y="1"/>
                    </a:lnTo>
                    <a:lnTo>
                      <a:pt x="39" y="0"/>
                    </a:lnTo>
                    <a:lnTo>
                      <a:pt x="21" y="0"/>
                    </a:lnTo>
                    <a:lnTo>
                      <a:pt x="10" y="3"/>
                    </a:lnTo>
                    <a:lnTo>
                      <a:pt x="2" y="11"/>
                    </a:lnTo>
                    <a:lnTo>
                      <a:pt x="0" y="21"/>
                    </a:lnTo>
                    <a:lnTo>
                      <a:pt x="0" y="39"/>
                    </a:lnTo>
                    <a:lnTo>
                      <a:pt x="2" y="48"/>
                    </a:lnTo>
                    <a:lnTo>
                      <a:pt x="6" y="52"/>
                    </a:lnTo>
                    <a:lnTo>
                      <a:pt x="18" y="55"/>
                    </a:lnTo>
                    <a:lnTo>
                      <a:pt x="125" y="72"/>
                    </a:lnTo>
                  </a:path>
                </a:pathLst>
              </a:custGeom>
              <a:solidFill>
                <a:srgbClr val="ff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906480" y="4230720"/>
                <a:ext cx="404640" cy="282600"/>
                <a:chOff x="906480" y="4230720"/>
                <a:chExt cx="404640" cy="2826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909720" y="4233960"/>
                  <a:ext cx="401400" cy="266760"/>
                </a:xfrm>
                <a:custGeom>
                  <a:avLst/>
                  <a:gdLst/>
                  <a:ahLst/>
                  <a:rect l="l" t="t" r="r" b="b"/>
                  <a:pathLst>
                    <a:path w="253" h="168">
                      <a:moveTo>
                        <a:pt x="193" y="28"/>
                      </a:moveTo>
                      <a:lnTo>
                        <a:pt x="222" y="40"/>
                      </a:lnTo>
                      <a:lnTo>
                        <a:pt x="245" y="106"/>
                      </a:lnTo>
                      <a:lnTo>
                        <a:pt x="252" y="143"/>
                      </a:lnTo>
                      <a:lnTo>
                        <a:pt x="250" y="150"/>
                      </a:lnTo>
                      <a:lnTo>
                        <a:pt x="245" y="157"/>
                      </a:lnTo>
                      <a:lnTo>
                        <a:pt x="239" y="161"/>
                      </a:lnTo>
                      <a:lnTo>
                        <a:pt x="230" y="165"/>
                      </a:lnTo>
                      <a:lnTo>
                        <a:pt x="218" y="167"/>
                      </a:lnTo>
                      <a:lnTo>
                        <a:pt x="207" y="167"/>
                      </a:lnTo>
                      <a:lnTo>
                        <a:pt x="199" y="164"/>
                      </a:lnTo>
                      <a:lnTo>
                        <a:pt x="190" y="159"/>
                      </a:lnTo>
                      <a:lnTo>
                        <a:pt x="160" y="98"/>
                      </a:lnTo>
                      <a:lnTo>
                        <a:pt x="86" y="84"/>
                      </a:lnTo>
                      <a:lnTo>
                        <a:pt x="75" y="106"/>
                      </a:lnTo>
                      <a:lnTo>
                        <a:pt x="47" y="123"/>
                      </a:lnTo>
                      <a:lnTo>
                        <a:pt x="13" y="109"/>
                      </a:lnTo>
                      <a:lnTo>
                        <a:pt x="0" y="88"/>
                      </a:lnTo>
                      <a:lnTo>
                        <a:pt x="5" y="59"/>
                      </a:lnTo>
                      <a:lnTo>
                        <a:pt x="25" y="26"/>
                      </a:lnTo>
                      <a:lnTo>
                        <a:pt x="88" y="0"/>
                      </a:lnTo>
                      <a:lnTo>
                        <a:pt x="149" y="6"/>
                      </a:lnTo>
                      <a:lnTo>
                        <a:pt x="193" y="28"/>
                      </a:lnTo>
                    </a:path>
                  </a:pathLst>
                </a:custGeom>
                <a:solidFill>
                  <a:srgbClr val="ff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906480" y="4230720"/>
                  <a:ext cx="404640" cy="282600"/>
                </a:xfrm>
                <a:custGeom>
                  <a:avLst/>
                  <a:gdLst/>
                  <a:ahLst/>
                  <a:rect l="l" t="t" r="r" b="b"/>
                  <a:pathLst>
                    <a:path w="255" h="178">
                      <a:moveTo>
                        <a:pt x="0" y="58"/>
                      </a:moveTo>
                      <a:lnTo>
                        <a:pt x="21" y="27"/>
                      </a:lnTo>
                      <a:lnTo>
                        <a:pt x="86" y="0"/>
                      </a:lnTo>
                      <a:lnTo>
                        <a:pt x="148" y="8"/>
                      </a:lnTo>
                      <a:lnTo>
                        <a:pt x="223" y="44"/>
                      </a:lnTo>
                      <a:lnTo>
                        <a:pt x="244" y="104"/>
                      </a:lnTo>
                      <a:lnTo>
                        <a:pt x="254" y="143"/>
                      </a:lnTo>
                      <a:lnTo>
                        <a:pt x="254" y="152"/>
                      </a:lnTo>
                      <a:lnTo>
                        <a:pt x="251" y="161"/>
                      </a:lnTo>
                      <a:lnTo>
                        <a:pt x="246" y="167"/>
                      </a:lnTo>
                      <a:lnTo>
                        <a:pt x="236" y="172"/>
                      </a:lnTo>
                      <a:lnTo>
                        <a:pt x="222" y="176"/>
                      </a:lnTo>
                      <a:lnTo>
                        <a:pt x="213" y="177"/>
                      </a:lnTo>
                      <a:lnTo>
                        <a:pt x="201" y="175"/>
                      </a:lnTo>
                      <a:lnTo>
                        <a:pt x="194" y="172"/>
                      </a:lnTo>
                      <a:lnTo>
                        <a:pt x="189" y="166"/>
                      </a:lnTo>
                      <a:lnTo>
                        <a:pt x="159" y="104"/>
                      </a:lnTo>
                      <a:lnTo>
                        <a:pt x="84" y="8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0" name=""/>
            <p:cNvGrpSpPr/>
            <p:nvPr/>
          </p:nvGrpSpPr>
          <p:grpSpPr>
            <a:xfrm>
              <a:off x="4278240" y="4432320"/>
              <a:ext cx="517680" cy="1066680"/>
              <a:chOff x="4278240" y="4432320"/>
              <a:chExt cx="517680" cy="1066680"/>
            </a:xfrm>
          </p:grpSpPr>
          <p:sp>
            <p:nvSpPr>
              <p:cNvPr id="291" name=""/>
              <p:cNvSpPr/>
              <p:nvPr/>
            </p:nvSpPr>
            <p:spPr>
              <a:xfrm>
                <a:off x="4280040" y="4432320"/>
                <a:ext cx="515880" cy="1066680"/>
              </a:xfrm>
              <a:custGeom>
                <a:avLst/>
                <a:gdLst/>
                <a:ahLst/>
                <a:rect l="l" t="t" r="r" b="b"/>
                <a:pathLst>
                  <a:path w="325" h="672">
                    <a:moveTo>
                      <a:pt x="304" y="257"/>
                    </a:moveTo>
                    <a:lnTo>
                      <a:pt x="324" y="286"/>
                    </a:lnTo>
                    <a:lnTo>
                      <a:pt x="324" y="439"/>
                    </a:lnTo>
                    <a:lnTo>
                      <a:pt x="298" y="524"/>
                    </a:lnTo>
                    <a:lnTo>
                      <a:pt x="293" y="541"/>
                    </a:lnTo>
                    <a:lnTo>
                      <a:pt x="285" y="551"/>
                    </a:lnTo>
                    <a:lnTo>
                      <a:pt x="275" y="561"/>
                    </a:lnTo>
                    <a:lnTo>
                      <a:pt x="265" y="570"/>
                    </a:lnTo>
                    <a:lnTo>
                      <a:pt x="258" y="671"/>
                    </a:lnTo>
                    <a:lnTo>
                      <a:pt x="92" y="671"/>
                    </a:lnTo>
                    <a:lnTo>
                      <a:pt x="90" y="615"/>
                    </a:lnTo>
                    <a:lnTo>
                      <a:pt x="84" y="594"/>
                    </a:lnTo>
                    <a:lnTo>
                      <a:pt x="77" y="572"/>
                    </a:lnTo>
                    <a:lnTo>
                      <a:pt x="60" y="553"/>
                    </a:lnTo>
                    <a:lnTo>
                      <a:pt x="27" y="529"/>
                    </a:lnTo>
                    <a:lnTo>
                      <a:pt x="0" y="465"/>
                    </a:lnTo>
                    <a:lnTo>
                      <a:pt x="6" y="403"/>
                    </a:lnTo>
                    <a:lnTo>
                      <a:pt x="31" y="354"/>
                    </a:lnTo>
                    <a:lnTo>
                      <a:pt x="31" y="27"/>
                    </a:lnTo>
                    <a:lnTo>
                      <a:pt x="32" y="14"/>
                    </a:lnTo>
                    <a:lnTo>
                      <a:pt x="36" y="8"/>
                    </a:lnTo>
                    <a:lnTo>
                      <a:pt x="43" y="2"/>
                    </a:lnTo>
                    <a:lnTo>
                      <a:pt x="58" y="0"/>
                    </a:lnTo>
                    <a:lnTo>
                      <a:pt x="72" y="0"/>
                    </a:lnTo>
                    <a:lnTo>
                      <a:pt x="83" y="3"/>
                    </a:lnTo>
                    <a:lnTo>
                      <a:pt x="89" y="7"/>
                    </a:lnTo>
                    <a:lnTo>
                      <a:pt x="91" y="12"/>
                    </a:lnTo>
                    <a:lnTo>
                      <a:pt x="92" y="27"/>
                    </a:lnTo>
                    <a:lnTo>
                      <a:pt x="100" y="257"/>
                    </a:lnTo>
                    <a:lnTo>
                      <a:pt x="304" y="257"/>
                    </a:lnTo>
                  </a:path>
                </a:pathLst>
              </a:custGeom>
              <a:solidFill>
                <a:srgbClr val="ff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432320" y="4799160"/>
                <a:ext cx="117360" cy="241200"/>
              </a:xfrm>
              <a:custGeom>
                <a:avLst/>
                <a:gdLst/>
                <a:ahLst/>
                <a:rect l="l" t="t" r="r" b="b"/>
                <a:pathLst>
                  <a:path w="74" h="152">
                    <a:moveTo>
                      <a:pt x="0" y="22"/>
                    </a:moveTo>
                    <a:lnTo>
                      <a:pt x="3" y="14"/>
                    </a:lnTo>
                    <a:lnTo>
                      <a:pt x="8" y="9"/>
                    </a:lnTo>
                    <a:lnTo>
                      <a:pt x="15" y="4"/>
                    </a:lnTo>
                    <a:lnTo>
                      <a:pt x="31" y="0"/>
                    </a:lnTo>
                    <a:lnTo>
                      <a:pt x="52" y="0"/>
                    </a:lnTo>
                    <a:lnTo>
                      <a:pt x="60" y="2"/>
                    </a:lnTo>
                    <a:lnTo>
                      <a:pt x="67" y="5"/>
                    </a:lnTo>
                    <a:lnTo>
                      <a:pt x="70" y="9"/>
                    </a:lnTo>
                    <a:lnTo>
                      <a:pt x="72" y="12"/>
                    </a:lnTo>
                    <a:lnTo>
                      <a:pt x="72" y="42"/>
                    </a:lnTo>
                    <a:lnTo>
                      <a:pt x="73" y="110"/>
                    </a:lnTo>
                    <a:lnTo>
                      <a:pt x="73" y="131"/>
                    </a:lnTo>
                    <a:lnTo>
                      <a:pt x="71" y="142"/>
                    </a:lnTo>
                    <a:lnTo>
                      <a:pt x="65" y="149"/>
                    </a:lnTo>
                    <a:lnTo>
                      <a:pt x="53" y="151"/>
                    </a:lnTo>
                    <a:lnTo>
                      <a:pt x="34" y="151"/>
                    </a:lnTo>
                    <a:lnTo>
                      <a:pt x="25" y="149"/>
                    </a:lnTo>
                    <a:lnTo>
                      <a:pt x="23" y="145"/>
                    </a:lnTo>
                    <a:lnTo>
                      <a:pt x="18" y="13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545000" y="4797360"/>
                <a:ext cx="111240" cy="241200"/>
              </a:xfrm>
              <a:custGeom>
                <a:avLst/>
                <a:gdLst/>
                <a:ahLst/>
                <a:rect l="l" t="t" r="r" b="b"/>
                <a:pathLst>
                  <a:path w="70" h="152">
                    <a:moveTo>
                      <a:pt x="0" y="21"/>
                    </a:moveTo>
                    <a:lnTo>
                      <a:pt x="2" y="13"/>
                    </a:lnTo>
                    <a:lnTo>
                      <a:pt x="7" y="8"/>
                    </a:lnTo>
                    <a:lnTo>
                      <a:pt x="15" y="3"/>
                    </a:lnTo>
                    <a:lnTo>
                      <a:pt x="26" y="0"/>
                    </a:lnTo>
                    <a:lnTo>
                      <a:pt x="46" y="0"/>
                    </a:lnTo>
                    <a:lnTo>
                      <a:pt x="57" y="2"/>
                    </a:lnTo>
                    <a:lnTo>
                      <a:pt x="64" y="5"/>
                    </a:lnTo>
                    <a:lnTo>
                      <a:pt x="68" y="11"/>
                    </a:lnTo>
                    <a:lnTo>
                      <a:pt x="69" y="22"/>
                    </a:lnTo>
                    <a:lnTo>
                      <a:pt x="69" y="57"/>
                    </a:lnTo>
                    <a:lnTo>
                      <a:pt x="66" y="116"/>
                    </a:lnTo>
                    <a:lnTo>
                      <a:pt x="64" y="136"/>
                    </a:lnTo>
                    <a:lnTo>
                      <a:pt x="59" y="146"/>
                    </a:lnTo>
                    <a:lnTo>
                      <a:pt x="53" y="149"/>
                    </a:lnTo>
                    <a:lnTo>
                      <a:pt x="41" y="151"/>
                    </a:lnTo>
                    <a:lnTo>
                      <a:pt x="21" y="151"/>
                    </a:lnTo>
                    <a:lnTo>
                      <a:pt x="11" y="146"/>
                    </a:lnTo>
                    <a:lnTo>
                      <a:pt x="7" y="140"/>
                    </a:lnTo>
                    <a:lnTo>
                      <a:pt x="4" y="131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ff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51200" y="4807080"/>
                <a:ext cx="115920" cy="233280"/>
              </a:xfrm>
              <a:custGeom>
                <a:avLst/>
                <a:gdLst/>
                <a:ahLst/>
                <a:rect l="l" t="t" r="r" b="b"/>
                <a:pathLst>
                  <a:path w="73" h="147">
                    <a:moveTo>
                      <a:pt x="72" y="21"/>
                    </a:moveTo>
                    <a:lnTo>
                      <a:pt x="69" y="13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2" y="0"/>
                    </a:lnTo>
                    <a:lnTo>
                      <a:pt x="21" y="0"/>
                    </a:lnTo>
                    <a:lnTo>
                      <a:pt x="14" y="1"/>
                    </a:lnTo>
                    <a:lnTo>
                      <a:pt x="6" y="5"/>
                    </a:lnTo>
                    <a:lnTo>
                      <a:pt x="3" y="8"/>
                    </a:lnTo>
                    <a:lnTo>
                      <a:pt x="1" y="12"/>
                    </a:lnTo>
                    <a:lnTo>
                      <a:pt x="1" y="40"/>
                    </a:lnTo>
                    <a:lnTo>
                      <a:pt x="0" y="107"/>
                    </a:lnTo>
                    <a:lnTo>
                      <a:pt x="0" y="125"/>
                    </a:lnTo>
                    <a:lnTo>
                      <a:pt x="3" y="136"/>
                    </a:lnTo>
                    <a:lnTo>
                      <a:pt x="11" y="144"/>
                    </a:lnTo>
                    <a:lnTo>
                      <a:pt x="21" y="146"/>
                    </a:lnTo>
                    <a:lnTo>
                      <a:pt x="39" y="146"/>
                    </a:lnTo>
                    <a:lnTo>
                      <a:pt x="48" y="144"/>
                    </a:lnTo>
                    <a:lnTo>
                      <a:pt x="52" y="140"/>
                    </a:lnTo>
                    <a:lnTo>
                      <a:pt x="55" y="128"/>
                    </a:lnTo>
                    <a:lnTo>
                      <a:pt x="72" y="21"/>
                    </a:lnTo>
                  </a:path>
                </a:pathLst>
              </a:custGeom>
              <a:solidFill>
                <a:srgbClr val="ff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4278240" y="4903920"/>
                <a:ext cx="282600" cy="404640"/>
                <a:chOff x="4278240" y="4903920"/>
                <a:chExt cx="282600" cy="4046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281480" y="4903920"/>
                  <a:ext cx="266760" cy="401400"/>
                </a:xfrm>
                <a:custGeom>
                  <a:avLst/>
                  <a:gdLst/>
                  <a:ahLst/>
                  <a:rect l="l" t="t" r="r" b="b"/>
                  <a:pathLst>
                    <a:path w="168" h="253">
                      <a:moveTo>
                        <a:pt x="28" y="59"/>
                      </a:moveTo>
                      <a:lnTo>
                        <a:pt x="40" y="30"/>
                      </a:lnTo>
                      <a:lnTo>
                        <a:pt x="106" y="7"/>
                      </a:lnTo>
                      <a:lnTo>
                        <a:pt x="143" y="0"/>
                      </a:lnTo>
                      <a:lnTo>
                        <a:pt x="150" y="2"/>
                      </a:lnTo>
                      <a:lnTo>
                        <a:pt x="157" y="7"/>
                      </a:lnTo>
                      <a:lnTo>
                        <a:pt x="161" y="13"/>
                      </a:lnTo>
                      <a:lnTo>
                        <a:pt x="165" y="22"/>
                      </a:lnTo>
                      <a:lnTo>
                        <a:pt x="167" y="34"/>
                      </a:lnTo>
                      <a:lnTo>
                        <a:pt x="167" y="45"/>
                      </a:lnTo>
                      <a:lnTo>
                        <a:pt x="164" y="53"/>
                      </a:lnTo>
                      <a:lnTo>
                        <a:pt x="159" y="62"/>
                      </a:lnTo>
                      <a:lnTo>
                        <a:pt x="98" y="92"/>
                      </a:lnTo>
                      <a:lnTo>
                        <a:pt x="84" y="166"/>
                      </a:lnTo>
                      <a:lnTo>
                        <a:pt x="106" y="177"/>
                      </a:lnTo>
                      <a:lnTo>
                        <a:pt x="123" y="205"/>
                      </a:lnTo>
                      <a:lnTo>
                        <a:pt x="109" y="239"/>
                      </a:lnTo>
                      <a:lnTo>
                        <a:pt x="88" y="252"/>
                      </a:lnTo>
                      <a:lnTo>
                        <a:pt x="59" y="247"/>
                      </a:lnTo>
                      <a:lnTo>
                        <a:pt x="26" y="227"/>
                      </a:lnTo>
                      <a:lnTo>
                        <a:pt x="0" y="164"/>
                      </a:lnTo>
                      <a:lnTo>
                        <a:pt x="6" y="103"/>
                      </a:lnTo>
                      <a:lnTo>
                        <a:pt x="28" y="59"/>
                      </a:lnTo>
                    </a:path>
                  </a:pathLst>
                </a:custGeom>
                <a:solidFill>
                  <a:srgbClr val="ff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278240" y="4903920"/>
                  <a:ext cx="282600" cy="404640"/>
                </a:xfrm>
                <a:custGeom>
                  <a:avLst/>
                  <a:gdLst/>
                  <a:ahLst/>
                  <a:rect l="l" t="t" r="r" b="b"/>
                  <a:pathLst>
                    <a:path w="178" h="255">
                      <a:moveTo>
                        <a:pt x="58" y="254"/>
                      </a:moveTo>
                      <a:lnTo>
                        <a:pt x="27" y="233"/>
                      </a:lnTo>
                      <a:lnTo>
                        <a:pt x="0" y="168"/>
                      </a:lnTo>
                      <a:lnTo>
                        <a:pt x="8" y="106"/>
                      </a:lnTo>
                      <a:lnTo>
                        <a:pt x="44" y="31"/>
                      </a:lnTo>
                      <a:lnTo>
                        <a:pt x="104" y="10"/>
                      </a:lnTo>
                      <a:lnTo>
                        <a:pt x="143" y="0"/>
                      </a:lnTo>
                      <a:lnTo>
                        <a:pt x="152" y="0"/>
                      </a:lnTo>
                      <a:lnTo>
                        <a:pt x="161" y="3"/>
                      </a:lnTo>
                      <a:lnTo>
                        <a:pt x="167" y="8"/>
                      </a:lnTo>
                      <a:lnTo>
                        <a:pt x="172" y="18"/>
                      </a:lnTo>
                      <a:lnTo>
                        <a:pt x="176" y="32"/>
                      </a:lnTo>
                      <a:lnTo>
                        <a:pt x="177" y="41"/>
                      </a:lnTo>
                      <a:lnTo>
                        <a:pt x="175" y="53"/>
                      </a:lnTo>
                      <a:lnTo>
                        <a:pt x="172" y="60"/>
                      </a:lnTo>
                      <a:lnTo>
                        <a:pt x="166" y="65"/>
                      </a:lnTo>
                      <a:lnTo>
                        <a:pt x="104" y="95"/>
                      </a:lnTo>
                      <a:lnTo>
                        <a:pt x="89" y="17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caractéristiques de la gestion de proje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ournée vers l'atteinte d'un objectif clair et quantifi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ssentiellement prévis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nsversal par rapport aux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on répéti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e en place d'une structure tempor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éa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éas de la réalisation, réarbitrag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ification du cahier des charges, évolution de l'environnemen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ersonnalisée si possible par un chef de projet ayant une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obligation de résult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oumise à des contrain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raintes de délais, de res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 management d'un proje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s dix commandements du fonctionnement en proj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Le maître d'ouvrage fixe les orientations générales du projet et avalise toute modification de ses object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 Le maître d'ouvrage est garant de la conformité du projet aux objectifs stratégiques et de sa rentabi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 La maîtrise d'ouvrage et la maîtrise d'oeuvre doivent être sépar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4 Le maître d'oeuvre est garant de la tenue des objectifs du projet (délais, coûts, qual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5 Le maître d'oeuvre détermine le découpage de son projet en sous-projets avec des résultats intermédiaires et des dates-c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 management d'un proje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s dix commandements (suite..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6 Le maître d'oeuvre fait résoudre les problèmes à tous les nive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7 Chaque service contributeur est responsable vis-à-vis du maître d'oeuvre des objectifs de coûts, délais,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8 Chaque contributeur informe systématiquement le maître d'oe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9 Chaque contributeur communique sans contrainte avec les autres contributeurs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0 Chaque responsable de centre de compétences garantit l'efficacité des moyens qu'il engage sur les proj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 principe de la gestion d'un proje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e fixer un référenti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nanc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arer périodiquement la réalisation et le référenti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valuer périodiquement la ré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parer réalisation et référent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clencher des 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fixer un nouveau référent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ffectuer des bi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ilan de ré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ilan d'explo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0" y="2523960"/>
            <a:ext cx="5334120" cy="188604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2895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istral"/>
              </a:rPr>
              <a:t>Quelques questions...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 principe : Se fixer un référenti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dentifier les contraintes (délais, coûts..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laborer les spécifications du proj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éparer le plan de développ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composer le projet en tâches élément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dentifier tous les contribu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finir le séquencement des tâ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ffectuer des prévi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ur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û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ptimiser la réfé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dentifier les tâches détermin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eiller à ce qu'elles présentent le moins de risque de déra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20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 principe : évaluer périodiquement la réalis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ntée des informations sur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 qui est f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é de ce qui est réali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ûts liquid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s pas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 qui reste à f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tion du cahier des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ûts prévisio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s restant à allo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olidation au niveau du proj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16800" y="5396040"/>
            <a:ext cx="4440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ego1"/>
              </a:rPr>
              <a:t>Communiquer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 principe : comparer réalisation et référenti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e en évidence des écarts consta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é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l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e de la cause de ces éc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rive constat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rive prévisionnelle en fin d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ition d'actions correc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0800" y="5319720"/>
            <a:ext cx="86335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ego1"/>
              </a:rPr>
              <a:t>Informer le comité de pilotag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communication est essentiell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de la règle des 5 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quer vers qu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ateurs finaux, équipe projet, Direc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quer pourquo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édérer, mobiliser l'équipe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er les utilisateurs fi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quer quo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objectifs, les enjeux, les risques, les résultats intermédiaires, l'organisation, le planning, l'avancemen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quer quan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lancement, aux échéances annoncées, lors de tout évè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quer commen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s les moyens sont bons, mais l'implication du chef de projet et de l'équipe est primordial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5038560" y="3639960"/>
          <a:ext cx="4270680" cy="24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8560" y="3639960"/>
                    <a:ext cx="427068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gestion des risqu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finalité de tous les outils et méthodes liés au management de projet, c'est la maîtrise des ris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chef de projet n'est donc pas nommé pour "faire un planning", mais pour prendre des mesures préven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faut donc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velopper la capacité d'analy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 préa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r et mettre en pla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mesures préven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typologie des risqu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spcAft>
                <a:spcPts val="45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isques organisationn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larté des objectifs, cahier des charg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spcAft>
                <a:spcPts val="45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isques de type hum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sponibilité des ressources, compétences, formation, motiva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spcAft>
                <a:spcPts val="45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isques commerciaux et 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ffres de la concurrence, client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spcAft>
                <a:spcPts val="45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isques techn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rmalisation, cohérence des spécifications, documenta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spcAft>
                <a:spcPts val="45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isques liés à la maîtrise de la sous-tra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spcAft>
                <a:spcPts val="45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isques jurid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spcAft>
                <a:spcPts val="45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isques liés à la sécurit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5484960" y="1143000"/>
          <a:ext cx="335736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4960" y="1143000"/>
                    <a:ext cx="335736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 principe : déclencher des actions correctiv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2674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affectation de moy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ffectation de nouvelles res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dification de la cible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uveau découpage des tâ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rrêt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Validation suivant l'importance de ces a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 le chef de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 la maîtrise d'ouv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5065560" y="4257720"/>
          <a:ext cx="4226040" cy="19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560" y="4257720"/>
                    <a:ext cx="4226040" cy="19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 principe : faire des bila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 bilans intermédiaires et de fin de réali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urer les écarts par rapport aux prévisions init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r ces éc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iser pour les futures réal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 bilans d'exploi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urer les retours opérationnels  et financiers obte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r à l'étude de jus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iser pour les futu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éal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finalité des bila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s bilans intermédiai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érifier que les jalons sont respec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nalyser les causes de déra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ider à la prise de dé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bilan de fin de réali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irer les enseignements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ciliter la capitalisation pour des expériences fu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éparer les modalités de transfert à la maitrise d'ouv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ou les bilans d'exploi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érifier que le projet rapporte bien ce pour quoi il a été lancé (notion de retour sur investiss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peut s'agir d'analyse de produits, de réduction de coûts ou de charges, d'amélioration du climat social, des conditions de travail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uand faire un bilan, pour qui, par qui ?..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 chaque jalon d'étap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le maître d'oeuvre pour le maître d'ouv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 chaque livr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le contributeur responsable pour le chef d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 la fin de réali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le maître d'oeuvre et l'équipe projet pour la maîtrise d'ouvrage et la structure de pilo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près une première étape d'exploi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le contrôleur de gestion pour la structure de pilotage de l'ent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caractéristiques d'un proje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caractéristique d'un projet est d'avoir un début et une fin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rai ou faux ?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mi les caractéristiques suivantes, identifier celles qui s'appliquent au projet 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marche structurée, permanent, répétitif, innovant, transverse, contraintes de délais, temporair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mi les adjectifs suivants, lesquels caractérisent le résultat d'un projet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atériel, matériel, unique, mesurable, quantifié, flou, national, régional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particularité du suivi des coût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principes précédents s'appliquent au suivi des coûts, cependant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faut prendre également en compte de nouveaux paramè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332160" y="2451240"/>
          <a:ext cx="3254400" cy="38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2160" y="2451240"/>
                    <a:ext cx="3254400" cy="38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5029200" y="1596960"/>
          <a:ext cx="4270320" cy="40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596960"/>
                    <a:ext cx="427032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particularité du suivi des coût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2674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l est nécessaire de faire un suivi des coûts à avancement donn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écessaire à la reprogram-mation éventuelle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450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écessaire à la connaissance du coût final prévi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l est également nécessaire de faire un suivi des coûts à échéance donné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écessaire aux financ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gestion des coût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courbe en "S"prévisionne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363320" y="1805040"/>
            <a:ext cx="6945120" cy="4384440"/>
            <a:chOff x="1363320" y="1805040"/>
            <a:chExt cx="6945120" cy="4384440"/>
          </a:xfrm>
        </p:grpSpPr>
        <p:sp>
          <p:nvSpPr>
            <p:cNvPr id="345" name=""/>
            <p:cNvSpPr/>
            <p:nvPr/>
          </p:nvSpPr>
          <p:spPr>
            <a:xfrm flipV="1">
              <a:off x="3067200" y="2106360"/>
              <a:ext cx="0" cy="353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6200" y="2106720"/>
              <a:ext cx="161640" cy="16020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0" y="100"/>
                  </a:moveTo>
                  <a:lnTo>
                    <a:pt x="51" y="0"/>
                  </a:lnTo>
                  <a:lnTo>
                    <a:pt x="101" y="100"/>
                  </a:lnTo>
                  <a:lnTo>
                    <a:pt x="0" y="10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67200" y="5646600"/>
              <a:ext cx="461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23280" y="5567400"/>
              <a:ext cx="161640" cy="16200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0" y="0"/>
                  </a:moveTo>
                  <a:lnTo>
                    <a:pt x="101" y="50"/>
                  </a:lnTo>
                  <a:lnTo>
                    <a:pt x="0" y="10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067200" y="4083120"/>
              <a:ext cx="2514600" cy="1565280"/>
            </a:xfrm>
            <a:custGeom>
              <a:avLst/>
              <a:gdLst/>
              <a:ahLst/>
              <a:rect l="l" t="t" r="r" b="b"/>
              <a:pathLst>
                <a:path w="1584" h="986">
                  <a:moveTo>
                    <a:pt x="0" y="985"/>
                  </a:moveTo>
                  <a:lnTo>
                    <a:pt x="115" y="985"/>
                  </a:lnTo>
                  <a:lnTo>
                    <a:pt x="136" y="978"/>
                  </a:lnTo>
                  <a:lnTo>
                    <a:pt x="165" y="978"/>
                  </a:lnTo>
                  <a:lnTo>
                    <a:pt x="194" y="971"/>
                  </a:lnTo>
                  <a:lnTo>
                    <a:pt x="223" y="971"/>
                  </a:lnTo>
                  <a:lnTo>
                    <a:pt x="252" y="964"/>
                  </a:lnTo>
                  <a:lnTo>
                    <a:pt x="280" y="964"/>
                  </a:lnTo>
                  <a:lnTo>
                    <a:pt x="302" y="957"/>
                  </a:lnTo>
                  <a:lnTo>
                    <a:pt x="331" y="949"/>
                  </a:lnTo>
                  <a:lnTo>
                    <a:pt x="360" y="949"/>
                  </a:lnTo>
                  <a:lnTo>
                    <a:pt x="388" y="942"/>
                  </a:lnTo>
                  <a:lnTo>
                    <a:pt x="410" y="935"/>
                  </a:lnTo>
                  <a:lnTo>
                    <a:pt x="439" y="928"/>
                  </a:lnTo>
                  <a:lnTo>
                    <a:pt x="467" y="921"/>
                  </a:lnTo>
                  <a:lnTo>
                    <a:pt x="489" y="906"/>
                  </a:lnTo>
                  <a:lnTo>
                    <a:pt x="518" y="899"/>
                  </a:lnTo>
                  <a:lnTo>
                    <a:pt x="547" y="892"/>
                  </a:lnTo>
                  <a:lnTo>
                    <a:pt x="568" y="877"/>
                  </a:lnTo>
                  <a:lnTo>
                    <a:pt x="597" y="870"/>
                  </a:lnTo>
                  <a:lnTo>
                    <a:pt x="619" y="863"/>
                  </a:lnTo>
                  <a:lnTo>
                    <a:pt x="647" y="849"/>
                  </a:lnTo>
                  <a:lnTo>
                    <a:pt x="676" y="834"/>
                  </a:lnTo>
                  <a:lnTo>
                    <a:pt x="698" y="827"/>
                  </a:lnTo>
                  <a:lnTo>
                    <a:pt x="727" y="813"/>
                  </a:lnTo>
                  <a:lnTo>
                    <a:pt x="748" y="798"/>
                  </a:lnTo>
                  <a:lnTo>
                    <a:pt x="777" y="784"/>
                  </a:lnTo>
                  <a:lnTo>
                    <a:pt x="799" y="770"/>
                  </a:lnTo>
                  <a:lnTo>
                    <a:pt x="827" y="755"/>
                  </a:lnTo>
                  <a:lnTo>
                    <a:pt x="849" y="741"/>
                  </a:lnTo>
                  <a:lnTo>
                    <a:pt x="871" y="726"/>
                  </a:lnTo>
                  <a:lnTo>
                    <a:pt x="899" y="712"/>
                  </a:lnTo>
                  <a:lnTo>
                    <a:pt x="921" y="690"/>
                  </a:lnTo>
                  <a:lnTo>
                    <a:pt x="950" y="676"/>
                  </a:lnTo>
                  <a:lnTo>
                    <a:pt x="971" y="654"/>
                  </a:lnTo>
                  <a:lnTo>
                    <a:pt x="993" y="640"/>
                  </a:lnTo>
                  <a:lnTo>
                    <a:pt x="1022" y="618"/>
                  </a:lnTo>
                  <a:lnTo>
                    <a:pt x="1043" y="604"/>
                  </a:lnTo>
                  <a:lnTo>
                    <a:pt x="1065" y="582"/>
                  </a:lnTo>
                  <a:lnTo>
                    <a:pt x="1094" y="561"/>
                  </a:lnTo>
                  <a:lnTo>
                    <a:pt x="1158" y="496"/>
                  </a:lnTo>
                  <a:lnTo>
                    <a:pt x="1187" y="475"/>
                  </a:lnTo>
                  <a:lnTo>
                    <a:pt x="1274" y="388"/>
                  </a:lnTo>
                  <a:lnTo>
                    <a:pt x="1295" y="359"/>
                  </a:lnTo>
                  <a:lnTo>
                    <a:pt x="1324" y="338"/>
                  </a:lnTo>
                  <a:lnTo>
                    <a:pt x="1346" y="309"/>
                  </a:lnTo>
                  <a:lnTo>
                    <a:pt x="1367" y="287"/>
                  </a:lnTo>
                  <a:lnTo>
                    <a:pt x="1389" y="259"/>
                  </a:lnTo>
                  <a:lnTo>
                    <a:pt x="1410" y="230"/>
                  </a:lnTo>
                  <a:lnTo>
                    <a:pt x="1432" y="201"/>
                  </a:lnTo>
                  <a:lnTo>
                    <a:pt x="1454" y="179"/>
                  </a:lnTo>
                  <a:lnTo>
                    <a:pt x="1475" y="151"/>
                  </a:lnTo>
                  <a:lnTo>
                    <a:pt x="1497" y="122"/>
                  </a:lnTo>
                  <a:lnTo>
                    <a:pt x="1518" y="93"/>
                  </a:lnTo>
                  <a:lnTo>
                    <a:pt x="1540" y="57"/>
                  </a:lnTo>
                  <a:lnTo>
                    <a:pt x="1562" y="28"/>
                  </a:lnTo>
                  <a:lnTo>
                    <a:pt x="158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67200" y="3179880"/>
              <a:ext cx="3450960" cy="2468520"/>
            </a:xfrm>
            <a:custGeom>
              <a:avLst/>
              <a:gdLst/>
              <a:ahLst/>
              <a:rect l="l" t="t" r="r" b="b"/>
              <a:pathLst>
                <a:path w="2174" h="1555">
                  <a:moveTo>
                    <a:pt x="0" y="1554"/>
                  </a:moveTo>
                  <a:lnTo>
                    <a:pt x="14" y="1533"/>
                  </a:lnTo>
                  <a:lnTo>
                    <a:pt x="28" y="1511"/>
                  </a:lnTo>
                  <a:lnTo>
                    <a:pt x="36" y="1490"/>
                  </a:lnTo>
                  <a:lnTo>
                    <a:pt x="50" y="1468"/>
                  </a:lnTo>
                  <a:lnTo>
                    <a:pt x="64" y="1454"/>
                  </a:lnTo>
                  <a:lnTo>
                    <a:pt x="79" y="1432"/>
                  </a:lnTo>
                  <a:lnTo>
                    <a:pt x="93" y="1410"/>
                  </a:lnTo>
                  <a:lnTo>
                    <a:pt x="100" y="1389"/>
                  </a:lnTo>
                  <a:lnTo>
                    <a:pt x="115" y="1367"/>
                  </a:lnTo>
                  <a:lnTo>
                    <a:pt x="129" y="1353"/>
                  </a:lnTo>
                  <a:lnTo>
                    <a:pt x="144" y="1331"/>
                  </a:lnTo>
                  <a:lnTo>
                    <a:pt x="151" y="1310"/>
                  </a:lnTo>
                  <a:lnTo>
                    <a:pt x="165" y="1295"/>
                  </a:lnTo>
                  <a:lnTo>
                    <a:pt x="180" y="1274"/>
                  </a:lnTo>
                  <a:lnTo>
                    <a:pt x="194" y="1259"/>
                  </a:lnTo>
                  <a:lnTo>
                    <a:pt x="201" y="1238"/>
                  </a:lnTo>
                  <a:lnTo>
                    <a:pt x="216" y="1223"/>
                  </a:lnTo>
                  <a:lnTo>
                    <a:pt x="230" y="1202"/>
                  </a:lnTo>
                  <a:lnTo>
                    <a:pt x="237" y="1187"/>
                  </a:lnTo>
                  <a:lnTo>
                    <a:pt x="252" y="1166"/>
                  </a:lnTo>
                  <a:lnTo>
                    <a:pt x="266" y="1151"/>
                  </a:lnTo>
                  <a:lnTo>
                    <a:pt x="273" y="1130"/>
                  </a:lnTo>
                  <a:lnTo>
                    <a:pt x="288" y="1115"/>
                  </a:lnTo>
                  <a:lnTo>
                    <a:pt x="295" y="1101"/>
                  </a:lnTo>
                  <a:lnTo>
                    <a:pt x="309" y="1079"/>
                  </a:lnTo>
                  <a:lnTo>
                    <a:pt x="324" y="1065"/>
                  </a:lnTo>
                  <a:lnTo>
                    <a:pt x="331" y="1051"/>
                  </a:lnTo>
                  <a:lnTo>
                    <a:pt x="345" y="1036"/>
                  </a:lnTo>
                  <a:lnTo>
                    <a:pt x="352" y="1015"/>
                  </a:lnTo>
                  <a:lnTo>
                    <a:pt x="367" y="1000"/>
                  </a:lnTo>
                  <a:lnTo>
                    <a:pt x="374" y="986"/>
                  </a:lnTo>
                  <a:lnTo>
                    <a:pt x="388" y="972"/>
                  </a:lnTo>
                  <a:lnTo>
                    <a:pt x="395" y="950"/>
                  </a:lnTo>
                  <a:lnTo>
                    <a:pt x="410" y="936"/>
                  </a:lnTo>
                  <a:lnTo>
                    <a:pt x="417" y="921"/>
                  </a:lnTo>
                  <a:lnTo>
                    <a:pt x="424" y="907"/>
                  </a:lnTo>
                  <a:lnTo>
                    <a:pt x="439" y="892"/>
                  </a:lnTo>
                  <a:lnTo>
                    <a:pt x="446" y="878"/>
                  </a:lnTo>
                  <a:lnTo>
                    <a:pt x="460" y="871"/>
                  </a:lnTo>
                  <a:lnTo>
                    <a:pt x="467" y="856"/>
                  </a:lnTo>
                  <a:lnTo>
                    <a:pt x="482" y="842"/>
                  </a:lnTo>
                  <a:lnTo>
                    <a:pt x="489" y="828"/>
                  </a:lnTo>
                  <a:lnTo>
                    <a:pt x="496" y="813"/>
                  </a:lnTo>
                  <a:lnTo>
                    <a:pt x="518" y="792"/>
                  </a:lnTo>
                  <a:lnTo>
                    <a:pt x="525" y="777"/>
                  </a:lnTo>
                  <a:lnTo>
                    <a:pt x="547" y="756"/>
                  </a:lnTo>
                  <a:lnTo>
                    <a:pt x="554" y="741"/>
                  </a:lnTo>
                  <a:lnTo>
                    <a:pt x="575" y="720"/>
                  </a:lnTo>
                  <a:lnTo>
                    <a:pt x="583" y="705"/>
                  </a:lnTo>
                  <a:lnTo>
                    <a:pt x="597" y="698"/>
                  </a:lnTo>
                  <a:lnTo>
                    <a:pt x="604" y="684"/>
                  </a:lnTo>
                  <a:lnTo>
                    <a:pt x="611" y="669"/>
                  </a:lnTo>
                  <a:lnTo>
                    <a:pt x="626" y="662"/>
                  </a:lnTo>
                  <a:lnTo>
                    <a:pt x="633" y="648"/>
                  </a:lnTo>
                  <a:lnTo>
                    <a:pt x="640" y="641"/>
                  </a:lnTo>
                  <a:lnTo>
                    <a:pt x="655" y="633"/>
                  </a:lnTo>
                  <a:lnTo>
                    <a:pt x="662" y="619"/>
                  </a:lnTo>
                  <a:lnTo>
                    <a:pt x="691" y="590"/>
                  </a:lnTo>
                  <a:lnTo>
                    <a:pt x="705" y="583"/>
                  </a:lnTo>
                  <a:lnTo>
                    <a:pt x="712" y="569"/>
                  </a:lnTo>
                  <a:lnTo>
                    <a:pt x="719" y="561"/>
                  </a:lnTo>
                  <a:lnTo>
                    <a:pt x="734" y="554"/>
                  </a:lnTo>
                  <a:lnTo>
                    <a:pt x="741" y="540"/>
                  </a:lnTo>
                  <a:lnTo>
                    <a:pt x="748" y="533"/>
                  </a:lnTo>
                  <a:lnTo>
                    <a:pt x="763" y="525"/>
                  </a:lnTo>
                  <a:lnTo>
                    <a:pt x="770" y="518"/>
                  </a:lnTo>
                  <a:lnTo>
                    <a:pt x="777" y="504"/>
                  </a:lnTo>
                  <a:lnTo>
                    <a:pt x="791" y="497"/>
                  </a:lnTo>
                  <a:lnTo>
                    <a:pt x="806" y="482"/>
                  </a:lnTo>
                  <a:lnTo>
                    <a:pt x="820" y="475"/>
                  </a:lnTo>
                  <a:lnTo>
                    <a:pt x="835" y="461"/>
                  </a:lnTo>
                  <a:lnTo>
                    <a:pt x="849" y="453"/>
                  </a:lnTo>
                  <a:lnTo>
                    <a:pt x="856" y="446"/>
                  </a:lnTo>
                  <a:lnTo>
                    <a:pt x="871" y="439"/>
                  </a:lnTo>
                  <a:lnTo>
                    <a:pt x="885" y="425"/>
                  </a:lnTo>
                  <a:lnTo>
                    <a:pt x="899" y="417"/>
                  </a:lnTo>
                  <a:lnTo>
                    <a:pt x="907" y="410"/>
                  </a:lnTo>
                  <a:lnTo>
                    <a:pt x="921" y="403"/>
                  </a:lnTo>
                  <a:lnTo>
                    <a:pt x="928" y="396"/>
                  </a:lnTo>
                  <a:lnTo>
                    <a:pt x="943" y="389"/>
                  </a:lnTo>
                  <a:lnTo>
                    <a:pt x="950" y="381"/>
                  </a:lnTo>
                  <a:lnTo>
                    <a:pt x="964" y="374"/>
                  </a:lnTo>
                  <a:lnTo>
                    <a:pt x="971" y="367"/>
                  </a:lnTo>
                  <a:lnTo>
                    <a:pt x="986" y="360"/>
                  </a:lnTo>
                  <a:lnTo>
                    <a:pt x="993" y="353"/>
                  </a:lnTo>
                  <a:lnTo>
                    <a:pt x="1007" y="346"/>
                  </a:lnTo>
                  <a:lnTo>
                    <a:pt x="1022" y="338"/>
                  </a:lnTo>
                  <a:lnTo>
                    <a:pt x="1036" y="338"/>
                  </a:lnTo>
                  <a:lnTo>
                    <a:pt x="1043" y="331"/>
                  </a:lnTo>
                  <a:lnTo>
                    <a:pt x="1058" y="324"/>
                  </a:lnTo>
                  <a:lnTo>
                    <a:pt x="1072" y="317"/>
                  </a:lnTo>
                  <a:lnTo>
                    <a:pt x="1086" y="310"/>
                  </a:lnTo>
                  <a:lnTo>
                    <a:pt x="1094" y="302"/>
                  </a:lnTo>
                  <a:lnTo>
                    <a:pt x="1108" y="295"/>
                  </a:lnTo>
                  <a:lnTo>
                    <a:pt x="1122" y="288"/>
                  </a:lnTo>
                  <a:lnTo>
                    <a:pt x="1137" y="281"/>
                  </a:lnTo>
                  <a:lnTo>
                    <a:pt x="1151" y="274"/>
                  </a:lnTo>
                  <a:lnTo>
                    <a:pt x="1158" y="266"/>
                  </a:lnTo>
                  <a:lnTo>
                    <a:pt x="1173" y="259"/>
                  </a:lnTo>
                  <a:lnTo>
                    <a:pt x="1187" y="252"/>
                  </a:lnTo>
                  <a:lnTo>
                    <a:pt x="1202" y="245"/>
                  </a:lnTo>
                  <a:lnTo>
                    <a:pt x="1216" y="238"/>
                  </a:lnTo>
                  <a:lnTo>
                    <a:pt x="1230" y="230"/>
                  </a:lnTo>
                  <a:lnTo>
                    <a:pt x="1245" y="230"/>
                  </a:lnTo>
                  <a:lnTo>
                    <a:pt x="1259" y="223"/>
                  </a:lnTo>
                  <a:lnTo>
                    <a:pt x="1274" y="216"/>
                  </a:lnTo>
                  <a:lnTo>
                    <a:pt x="1288" y="209"/>
                  </a:lnTo>
                  <a:lnTo>
                    <a:pt x="1302" y="202"/>
                  </a:lnTo>
                  <a:lnTo>
                    <a:pt x="1317" y="194"/>
                  </a:lnTo>
                  <a:lnTo>
                    <a:pt x="1331" y="187"/>
                  </a:lnTo>
                  <a:lnTo>
                    <a:pt x="1353" y="187"/>
                  </a:lnTo>
                  <a:lnTo>
                    <a:pt x="1367" y="180"/>
                  </a:lnTo>
                  <a:lnTo>
                    <a:pt x="1382" y="173"/>
                  </a:lnTo>
                  <a:lnTo>
                    <a:pt x="1396" y="166"/>
                  </a:lnTo>
                  <a:lnTo>
                    <a:pt x="1418" y="158"/>
                  </a:lnTo>
                  <a:lnTo>
                    <a:pt x="1432" y="158"/>
                  </a:lnTo>
                  <a:lnTo>
                    <a:pt x="1446" y="151"/>
                  </a:lnTo>
                  <a:lnTo>
                    <a:pt x="1468" y="144"/>
                  </a:lnTo>
                  <a:lnTo>
                    <a:pt x="1482" y="137"/>
                  </a:lnTo>
                  <a:lnTo>
                    <a:pt x="1504" y="137"/>
                  </a:lnTo>
                  <a:lnTo>
                    <a:pt x="1518" y="130"/>
                  </a:lnTo>
                  <a:lnTo>
                    <a:pt x="1540" y="130"/>
                  </a:lnTo>
                  <a:lnTo>
                    <a:pt x="1562" y="122"/>
                  </a:lnTo>
                  <a:lnTo>
                    <a:pt x="1576" y="115"/>
                  </a:lnTo>
                  <a:lnTo>
                    <a:pt x="1598" y="108"/>
                  </a:lnTo>
                  <a:lnTo>
                    <a:pt x="1612" y="108"/>
                  </a:lnTo>
                  <a:lnTo>
                    <a:pt x="1634" y="101"/>
                  </a:lnTo>
                  <a:lnTo>
                    <a:pt x="1655" y="94"/>
                  </a:lnTo>
                  <a:lnTo>
                    <a:pt x="1670" y="94"/>
                  </a:lnTo>
                  <a:lnTo>
                    <a:pt x="1691" y="86"/>
                  </a:lnTo>
                  <a:lnTo>
                    <a:pt x="1713" y="79"/>
                  </a:lnTo>
                  <a:lnTo>
                    <a:pt x="1734" y="79"/>
                  </a:lnTo>
                  <a:lnTo>
                    <a:pt x="1749" y="72"/>
                  </a:lnTo>
                  <a:lnTo>
                    <a:pt x="1770" y="72"/>
                  </a:lnTo>
                  <a:lnTo>
                    <a:pt x="1792" y="65"/>
                  </a:lnTo>
                  <a:lnTo>
                    <a:pt x="1813" y="58"/>
                  </a:lnTo>
                  <a:lnTo>
                    <a:pt x="1835" y="58"/>
                  </a:lnTo>
                  <a:lnTo>
                    <a:pt x="1857" y="50"/>
                  </a:lnTo>
                  <a:lnTo>
                    <a:pt x="1878" y="50"/>
                  </a:lnTo>
                  <a:lnTo>
                    <a:pt x="1900" y="43"/>
                  </a:lnTo>
                  <a:lnTo>
                    <a:pt x="1921" y="43"/>
                  </a:lnTo>
                  <a:lnTo>
                    <a:pt x="1943" y="36"/>
                  </a:lnTo>
                  <a:lnTo>
                    <a:pt x="1965" y="29"/>
                  </a:lnTo>
                  <a:lnTo>
                    <a:pt x="1986" y="29"/>
                  </a:lnTo>
                  <a:lnTo>
                    <a:pt x="2008" y="22"/>
                  </a:lnTo>
                  <a:lnTo>
                    <a:pt x="2029" y="22"/>
                  </a:lnTo>
                  <a:lnTo>
                    <a:pt x="2058" y="14"/>
                  </a:lnTo>
                  <a:lnTo>
                    <a:pt x="2080" y="14"/>
                  </a:lnTo>
                  <a:lnTo>
                    <a:pt x="2101" y="7"/>
                  </a:lnTo>
                  <a:lnTo>
                    <a:pt x="2123" y="7"/>
                  </a:lnTo>
                  <a:lnTo>
                    <a:pt x="2152" y="0"/>
                  </a:lnTo>
                  <a:lnTo>
                    <a:pt x="217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568840" y="2836440"/>
              <a:ext cx="0" cy="2809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066840" y="4094280"/>
              <a:ext cx="25016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516720" y="2647800"/>
              <a:ext cx="0" cy="3170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066840" y="3351240"/>
              <a:ext cx="24555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29240" y="3322800"/>
              <a:ext cx="69840" cy="58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29240" y="4054320"/>
              <a:ext cx="69840" cy="57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33160" y="3095640"/>
              <a:ext cx="16246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Narrow"/>
                </a:rPr>
                <a:t>Coût prévu à date "t"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63320" y="3838680"/>
              <a:ext cx="16948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Narrow"/>
                </a:rPr>
                <a:t>Coût réalisé à date "t"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49040" y="1805040"/>
              <a:ext cx="5122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Narrow"/>
                </a:rPr>
                <a:t>Coû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50000" y="5472000"/>
              <a:ext cx="6584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Narrow"/>
                </a:rPr>
                <a:t>Temp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26840" y="5757840"/>
              <a:ext cx="6843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Narrow"/>
                </a:rPr>
                <a:t>date "t"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11520" y="5643720"/>
              <a:ext cx="3992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Narrow"/>
                </a:rPr>
                <a:t>Fi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96680" y="5872320"/>
              <a:ext cx="6357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Narrow"/>
                </a:rPr>
                <a:t>Initia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895080" y="5757840"/>
              <a:ext cx="13989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Narrow"/>
                </a:rPr>
                <a:t>Fin prévisionnel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066840" y="3181320"/>
              <a:ext cx="4057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80200" y="2695680"/>
              <a:ext cx="12787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Narrow"/>
                </a:rPr>
                <a:t>Coût final prév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gestion des coût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a courbe en "S" à la date "t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stimer le reste à faire en fonction du pourçentage d'avan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lculer le coût final prévisionnel, donc l'écart final prévis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577160" y="2411280"/>
            <a:ext cx="6428160" cy="3879720"/>
            <a:chOff x="1577160" y="2411280"/>
            <a:chExt cx="6428160" cy="3879720"/>
          </a:xfrm>
        </p:grpSpPr>
        <p:grpSp>
          <p:nvGrpSpPr>
            <p:cNvPr id="370" name=""/>
            <p:cNvGrpSpPr/>
            <p:nvPr/>
          </p:nvGrpSpPr>
          <p:grpSpPr>
            <a:xfrm>
              <a:off x="6513480" y="3156120"/>
              <a:ext cx="1173240" cy="618840"/>
              <a:chOff x="6513480" y="3156120"/>
              <a:chExt cx="1173240" cy="618840"/>
            </a:xfrm>
          </p:grpSpPr>
          <p:sp>
            <p:nvSpPr>
              <p:cNvPr id="371" name=""/>
              <p:cNvSpPr/>
              <p:nvPr/>
            </p:nvSpPr>
            <p:spPr>
              <a:xfrm>
                <a:off x="6899400" y="3324240"/>
                <a:ext cx="78732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13480" y="3622680"/>
                <a:ext cx="117324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319880" y="3156120"/>
                <a:ext cx="0" cy="61884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251840" y="3629160"/>
                <a:ext cx="136440" cy="120600"/>
              </a:xfrm>
              <a:prstGeom prst="triangle">
                <a:avLst>
                  <a:gd name="adj" fmla="val 49986"/>
                </a:avLst>
              </a:prstGeom>
              <a:solidFill>
                <a:srgbClr val="0000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0800000">
                <a:off x="7251480" y="3195360"/>
                <a:ext cx="136440" cy="122040"/>
              </a:xfrm>
              <a:prstGeom prst="triangle">
                <a:avLst>
                  <a:gd name="adj" fmla="val 49986"/>
                </a:avLst>
              </a:prstGeom>
              <a:solidFill>
                <a:srgbClr val="000000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 flipV="1">
              <a:off x="3376440" y="2677680"/>
              <a:ext cx="0" cy="311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06600" y="2679840"/>
              <a:ext cx="142920" cy="14256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0" y="89"/>
                  </a:moveTo>
                  <a:lnTo>
                    <a:pt x="44" y="0"/>
                  </a:lnTo>
                  <a:lnTo>
                    <a:pt x="89" y="89"/>
                  </a:lnTo>
                  <a:lnTo>
                    <a:pt x="0" y="8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76440" y="5799240"/>
              <a:ext cx="406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00800" y="5726160"/>
              <a:ext cx="142920" cy="14436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0" y="0"/>
                  </a:moveTo>
                  <a:lnTo>
                    <a:pt x="89" y="46"/>
                  </a:lnTo>
                  <a:lnTo>
                    <a:pt x="0" y="9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76440" y="4419720"/>
              <a:ext cx="2216160" cy="1380960"/>
            </a:xfrm>
            <a:custGeom>
              <a:avLst/>
              <a:gdLst/>
              <a:ahLst/>
              <a:rect l="l" t="t" r="r" b="b"/>
              <a:pathLst>
                <a:path w="1396" h="870">
                  <a:moveTo>
                    <a:pt x="0" y="869"/>
                  </a:moveTo>
                  <a:lnTo>
                    <a:pt x="102" y="869"/>
                  </a:lnTo>
                  <a:lnTo>
                    <a:pt x="121" y="862"/>
                  </a:lnTo>
                  <a:lnTo>
                    <a:pt x="146" y="862"/>
                  </a:lnTo>
                  <a:lnTo>
                    <a:pt x="172" y="856"/>
                  </a:lnTo>
                  <a:lnTo>
                    <a:pt x="197" y="856"/>
                  </a:lnTo>
                  <a:lnTo>
                    <a:pt x="222" y="849"/>
                  </a:lnTo>
                  <a:lnTo>
                    <a:pt x="248" y="849"/>
                  </a:lnTo>
                  <a:lnTo>
                    <a:pt x="266" y="844"/>
                  </a:lnTo>
                  <a:lnTo>
                    <a:pt x="292" y="837"/>
                  </a:lnTo>
                  <a:lnTo>
                    <a:pt x="317" y="837"/>
                  </a:lnTo>
                  <a:lnTo>
                    <a:pt x="342" y="830"/>
                  </a:lnTo>
                  <a:lnTo>
                    <a:pt x="362" y="824"/>
                  </a:lnTo>
                  <a:lnTo>
                    <a:pt x="387" y="818"/>
                  </a:lnTo>
                  <a:lnTo>
                    <a:pt x="413" y="812"/>
                  </a:lnTo>
                  <a:lnTo>
                    <a:pt x="431" y="799"/>
                  </a:lnTo>
                  <a:lnTo>
                    <a:pt x="457" y="793"/>
                  </a:lnTo>
                  <a:lnTo>
                    <a:pt x="482" y="786"/>
                  </a:lnTo>
                  <a:lnTo>
                    <a:pt x="501" y="773"/>
                  </a:lnTo>
                  <a:lnTo>
                    <a:pt x="526" y="768"/>
                  </a:lnTo>
                  <a:lnTo>
                    <a:pt x="546" y="761"/>
                  </a:lnTo>
                  <a:lnTo>
                    <a:pt x="571" y="748"/>
                  </a:lnTo>
                  <a:lnTo>
                    <a:pt x="596" y="736"/>
                  </a:lnTo>
                  <a:lnTo>
                    <a:pt x="615" y="729"/>
                  </a:lnTo>
                  <a:lnTo>
                    <a:pt x="640" y="717"/>
                  </a:lnTo>
                  <a:lnTo>
                    <a:pt x="659" y="704"/>
                  </a:lnTo>
                  <a:lnTo>
                    <a:pt x="684" y="691"/>
                  </a:lnTo>
                  <a:lnTo>
                    <a:pt x="704" y="678"/>
                  </a:lnTo>
                  <a:lnTo>
                    <a:pt x="729" y="665"/>
                  </a:lnTo>
                  <a:lnTo>
                    <a:pt x="748" y="653"/>
                  </a:lnTo>
                  <a:lnTo>
                    <a:pt x="767" y="640"/>
                  </a:lnTo>
                  <a:lnTo>
                    <a:pt x="792" y="628"/>
                  </a:lnTo>
                  <a:lnTo>
                    <a:pt x="812" y="609"/>
                  </a:lnTo>
                  <a:lnTo>
                    <a:pt x="837" y="596"/>
                  </a:lnTo>
                  <a:lnTo>
                    <a:pt x="856" y="577"/>
                  </a:lnTo>
                  <a:lnTo>
                    <a:pt x="875" y="564"/>
                  </a:lnTo>
                  <a:lnTo>
                    <a:pt x="900" y="545"/>
                  </a:lnTo>
                  <a:lnTo>
                    <a:pt x="920" y="533"/>
                  </a:lnTo>
                  <a:lnTo>
                    <a:pt x="938" y="513"/>
                  </a:lnTo>
                  <a:lnTo>
                    <a:pt x="964" y="495"/>
                  </a:lnTo>
                  <a:lnTo>
                    <a:pt x="1021" y="437"/>
                  </a:lnTo>
                  <a:lnTo>
                    <a:pt x="1046" y="419"/>
                  </a:lnTo>
                  <a:lnTo>
                    <a:pt x="1122" y="343"/>
                  </a:lnTo>
                  <a:lnTo>
                    <a:pt x="1141" y="317"/>
                  </a:lnTo>
                  <a:lnTo>
                    <a:pt x="1166" y="297"/>
                  </a:lnTo>
                  <a:lnTo>
                    <a:pt x="1186" y="272"/>
                  </a:lnTo>
                  <a:lnTo>
                    <a:pt x="1205" y="253"/>
                  </a:lnTo>
                  <a:lnTo>
                    <a:pt x="1223" y="228"/>
                  </a:lnTo>
                  <a:lnTo>
                    <a:pt x="1242" y="203"/>
                  </a:lnTo>
                  <a:lnTo>
                    <a:pt x="1262" y="177"/>
                  </a:lnTo>
                  <a:lnTo>
                    <a:pt x="1281" y="159"/>
                  </a:lnTo>
                  <a:lnTo>
                    <a:pt x="1299" y="133"/>
                  </a:lnTo>
                  <a:lnTo>
                    <a:pt x="1319" y="108"/>
                  </a:lnTo>
                  <a:lnTo>
                    <a:pt x="1338" y="83"/>
                  </a:lnTo>
                  <a:lnTo>
                    <a:pt x="1356" y="51"/>
                  </a:lnTo>
                  <a:lnTo>
                    <a:pt x="1375" y="25"/>
                  </a:lnTo>
                  <a:lnTo>
                    <a:pt x="139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59480" y="3294000"/>
              <a:ext cx="1309680" cy="1147680"/>
            </a:xfrm>
            <a:custGeom>
              <a:avLst/>
              <a:gdLst/>
              <a:ahLst/>
              <a:rect l="l" t="t" r="r" b="b"/>
              <a:pathLst>
                <a:path w="825" h="723">
                  <a:moveTo>
                    <a:pt x="0" y="690"/>
                  </a:moveTo>
                  <a:lnTo>
                    <a:pt x="0" y="715"/>
                  </a:lnTo>
                  <a:lnTo>
                    <a:pt x="13" y="715"/>
                  </a:lnTo>
                  <a:lnTo>
                    <a:pt x="13" y="722"/>
                  </a:lnTo>
                  <a:lnTo>
                    <a:pt x="20" y="722"/>
                  </a:lnTo>
                  <a:lnTo>
                    <a:pt x="25" y="715"/>
                  </a:lnTo>
                  <a:lnTo>
                    <a:pt x="32" y="715"/>
                  </a:lnTo>
                  <a:lnTo>
                    <a:pt x="32" y="709"/>
                  </a:lnTo>
                  <a:lnTo>
                    <a:pt x="45" y="690"/>
                  </a:lnTo>
                  <a:lnTo>
                    <a:pt x="57" y="672"/>
                  </a:lnTo>
                  <a:lnTo>
                    <a:pt x="70" y="653"/>
                  </a:lnTo>
                  <a:lnTo>
                    <a:pt x="107" y="603"/>
                  </a:lnTo>
                  <a:lnTo>
                    <a:pt x="120" y="583"/>
                  </a:lnTo>
                  <a:lnTo>
                    <a:pt x="145" y="552"/>
                  </a:lnTo>
                  <a:lnTo>
                    <a:pt x="157" y="533"/>
                  </a:lnTo>
                  <a:lnTo>
                    <a:pt x="164" y="521"/>
                  </a:lnTo>
                  <a:lnTo>
                    <a:pt x="202" y="471"/>
                  </a:lnTo>
                  <a:lnTo>
                    <a:pt x="227" y="446"/>
                  </a:lnTo>
                  <a:lnTo>
                    <a:pt x="239" y="426"/>
                  </a:lnTo>
                  <a:lnTo>
                    <a:pt x="277" y="389"/>
                  </a:lnTo>
                  <a:lnTo>
                    <a:pt x="302" y="358"/>
                  </a:lnTo>
                  <a:lnTo>
                    <a:pt x="396" y="263"/>
                  </a:lnTo>
                  <a:lnTo>
                    <a:pt x="416" y="257"/>
                  </a:lnTo>
                  <a:lnTo>
                    <a:pt x="459" y="213"/>
                  </a:lnTo>
                  <a:lnTo>
                    <a:pt x="498" y="182"/>
                  </a:lnTo>
                  <a:lnTo>
                    <a:pt x="510" y="176"/>
                  </a:lnTo>
                  <a:lnTo>
                    <a:pt x="535" y="163"/>
                  </a:lnTo>
                  <a:lnTo>
                    <a:pt x="548" y="151"/>
                  </a:lnTo>
                  <a:lnTo>
                    <a:pt x="560" y="144"/>
                  </a:lnTo>
                  <a:lnTo>
                    <a:pt x="566" y="137"/>
                  </a:lnTo>
                  <a:lnTo>
                    <a:pt x="578" y="132"/>
                  </a:lnTo>
                  <a:lnTo>
                    <a:pt x="592" y="119"/>
                  </a:lnTo>
                  <a:lnTo>
                    <a:pt x="604" y="112"/>
                  </a:lnTo>
                  <a:lnTo>
                    <a:pt x="617" y="106"/>
                  </a:lnTo>
                  <a:lnTo>
                    <a:pt x="629" y="100"/>
                  </a:lnTo>
                  <a:lnTo>
                    <a:pt x="655" y="87"/>
                  </a:lnTo>
                  <a:lnTo>
                    <a:pt x="667" y="87"/>
                  </a:lnTo>
                  <a:lnTo>
                    <a:pt x="673" y="81"/>
                  </a:lnTo>
                  <a:lnTo>
                    <a:pt x="685" y="75"/>
                  </a:lnTo>
                  <a:lnTo>
                    <a:pt x="698" y="69"/>
                  </a:lnTo>
                  <a:lnTo>
                    <a:pt x="710" y="62"/>
                  </a:lnTo>
                  <a:lnTo>
                    <a:pt x="724" y="56"/>
                  </a:lnTo>
                  <a:lnTo>
                    <a:pt x="736" y="56"/>
                  </a:lnTo>
                  <a:lnTo>
                    <a:pt x="749" y="50"/>
                  </a:lnTo>
                  <a:lnTo>
                    <a:pt x="761" y="44"/>
                  </a:lnTo>
                  <a:lnTo>
                    <a:pt x="805" y="37"/>
                  </a:lnTo>
                  <a:lnTo>
                    <a:pt x="812" y="31"/>
                  </a:lnTo>
                  <a:lnTo>
                    <a:pt x="817" y="31"/>
                  </a:lnTo>
                  <a:lnTo>
                    <a:pt x="817" y="19"/>
                  </a:lnTo>
                  <a:lnTo>
                    <a:pt x="824" y="19"/>
                  </a:lnTo>
                  <a:lnTo>
                    <a:pt x="824" y="12"/>
                  </a:lnTo>
                  <a:lnTo>
                    <a:pt x="812" y="0"/>
                  </a:lnTo>
                  <a:lnTo>
                    <a:pt x="799" y="0"/>
                  </a:lnTo>
                  <a:lnTo>
                    <a:pt x="749" y="12"/>
                  </a:lnTo>
                  <a:lnTo>
                    <a:pt x="736" y="19"/>
                  </a:lnTo>
                  <a:lnTo>
                    <a:pt x="724" y="19"/>
                  </a:lnTo>
                  <a:lnTo>
                    <a:pt x="710" y="25"/>
                  </a:lnTo>
                  <a:lnTo>
                    <a:pt x="698" y="31"/>
                  </a:lnTo>
                  <a:lnTo>
                    <a:pt x="685" y="31"/>
                  </a:lnTo>
                  <a:lnTo>
                    <a:pt x="673" y="37"/>
                  </a:lnTo>
                  <a:lnTo>
                    <a:pt x="660" y="44"/>
                  </a:lnTo>
                  <a:lnTo>
                    <a:pt x="648" y="50"/>
                  </a:lnTo>
                  <a:lnTo>
                    <a:pt x="635" y="56"/>
                  </a:lnTo>
                  <a:lnTo>
                    <a:pt x="610" y="69"/>
                  </a:lnTo>
                  <a:lnTo>
                    <a:pt x="598" y="75"/>
                  </a:lnTo>
                  <a:lnTo>
                    <a:pt x="585" y="81"/>
                  </a:lnTo>
                  <a:lnTo>
                    <a:pt x="573" y="87"/>
                  </a:lnTo>
                  <a:lnTo>
                    <a:pt x="560" y="100"/>
                  </a:lnTo>
                  <a:lnTo>
                    <a:pt x="548" y="106"/>
                  </a:lnTo>
                  <a:lnTo>
                    <a:pt x="535" y="112"/>
                  </a:lnTo>
                  <a:lnTo>
                    <a:pt x="523" y="119"/>
                  </a:lnTo>
                  <a:lnTo>
                    <a:pt x="510" y="132"/>
                  </a:lnTo>
                  <a:lnTo>
                    <a:pt x="485" y="144"/>
                  </a:lnTo>
                  <a:lnTo>
                    <a:pt x="471" y="157"/>
                  </a:lnTo>
                  <a:lnTo>
                    <a:pt x="434" y="182"/>
                  </a:lnTo>
                  <a:lnTo>
                    <a:pt x="421" y="194"/>
                  </a:lnTo>
                  <a:lnTo>
                    <a:pt x="416" y="207"/>
                  </a:lnTo>
                  <a:lnTo>
                    <a:pt x="403" y="213"/>
                  </a:lnTo>
                  <a:lnTo>
                    <a:pt x="391" y="226"/>
                  </a:lnTo>
                  <a:lnTo>
                    <a:pt x="371" y="238"/>
                  </a:lnTo>
                  <a:lnTo>
                    <a:pt x="346" y="257"/>
                  </a:lnTo>
                  <a:lnTo>
                    <a:pt x="271" y="333"/>
                  </a:lnTo>
                  <a:lnTo>
                    <a:pt x="246" y="364"/>
                  </a:lnTo>
                  <a:lnTo>
                    <a:pt x="208" y="401"/>
                  </a:lnTo>
                  <a:lnTo>
                    <a:pt x="195" y="420"/>
                  </a:lnTo>
                  <a:lnTo>
                    <a:pt x="182" y="433"/>
                  </a:lnTo>
                  <a:lnTo>
                    <a:pt x="170" y="452"/>
                  </a:lnTo>
                  <a:lnTo>
                    <a:pt x="132" y="496"/>
                  </a:lnTo>
                  <a:lnTo>
                    <a:pt x="127" y="515"/>
                  </a:lnTo>
                  <a:lnTo>
                    <a:pt x="114" y="527"/>
                  </a:lnTo>
                  <a:lnTo>
                    <a:pt x="88" y="565"/>
                  </a:lnTo>
                  <a:lnTo>
                    <a:pt x="76" y="583"/>
                  </a:lnTo>
                  <a:lnTo>
                    <a:pt x="38" y="634"/>
                  </a:lnTo>
                  <a:lnTo>
                    <a:pt x="25" y="653"/>
                  </a:lnTo>
                  <a:lnTo>
                    <a:pt x="13" y="672"/>
                  </a:lnTo>
                  <a:lnTo>
                    <a:pt x="0" y="690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6440" y="3625920"/>
              <a:ext cx="3040200" cy="2174760"/>
            </a:xfrm>
            <a:custGeom>
              <a:avLst/>
              <a:gdLst/>
              <a:ahLst/>
              <a:rect l="l" t="t" r="r" b="b"/>
              <a:pathLst>
                <a:path w="1915" h="1370">
                  <a:moveTo>
                    <a:pt x="0" y="1369"/>
                  </a:moveTo>
                  <a:lnTo>
                    <a:pt x="13" y="1349"/>
                  </a:lnTo>
                  <a:lnTo>
                    <a:pt x="25" y="1330"/>
                  </a:lnTo>
                  <a:lnTo>
                    <a:pt x="32" y="1312"/>
                  </a:lnTo>
                  <a:lnTo>
                    <a:pt x="45" y="1293"/>
                  </a:lnTo>
                  <a:lnTo>
                    <a:pt x="57" y="1280"/>
                  </a:lnTo>
                  <a:lnTo>
                    <a:pt x="70" y="1261"/>
                  </a:lnTo>
                  <a:lnTo>
                    <a:pt x="83" y="1242"/>
                  </a:lnTo>
                  <a:lnTo>
                    <a:pt x="89" y="1223"/>
                  </a:lnTo>
                  <a:lnTo>
                    <a:pt x="102" y="1204"/>
                  </a:lnTo>
                  <a:lnTo>
                    <a:pt x="114" y="1191"/>
                  </a:lnTo>
                  <a:lnTo>
                    <a:pt x="128" y="1172"/>
                  </a:lnTo>
                  <a:lnTo>
                    <a:pt x="133" y="1153"/>
                  </a:lnTo>
                  <a:lnTo>
                    <a:pt x="146" y="1140"/>
                  </a:lnTo>
                  <a:lnTo>
                    <a:pt x="158" y="1121"/>
                  </a:lnTo>
                  <a:lnTo>
                    <a:pt x="172" y="1109"/>
                  </a:lnTo>
                  <a:lnTo>
                    <a:pt x="178" y="1089"/>
                  </a:lnTo>
                  <a:lnTo>
                    <a:pt x="190" y="1077"/>
                  </a:lnTo>
                  <a:lnTo>
                    <a:pt x="204" y="1059"/>
                  </a:lnTo>
                  <a:lnTo>
                    <a:pt x="209" y="1045"/>
                  </a:lnTo>
                  <a:lnTo>
                    <a:pt x="222" y="1027"/>
                  </a:lnTo>
                  <a:lnTo>
                    <a:pt x="234" y="1014"/>
                  </a:lnTo>
                  <a:lnTo>
                    <a:pt x="241" y="995"/>
                  </a:lnTo>
                  <a:lnTo>
                    <a:pt x="254" y="982"/>
                  </a:lnTo>
                  <a:lnTo>
                    <a:pt x="261" y="970"/>
                  </a:lnTo>
                  <a:lnTo>
                    <a:pt x="273" y="951"/>
                  </a:lnTo>
                  <a:lnTo>
                    <a:pt x="286" y="938"/>
                  </a:lnTo>
                  <a:lnTo>
                    <a:pt x="292" y="926"/>
                  </a:lnTo>
                  <a:lnTo>
                    <a:pt x="305" y="912"/>
                  </a:lnTo>
                  <a:lnTo>
                    <a:pt x="311" y="894"/>
                  </a:lnTo>
                  <a:lnTo>
                    <a:pt x="323" y="880"/>
                  </a:lnTo>
                  <a:lnTo>
                    <a:pt x="330" y="868"/>
                  </a:lnTo>
                  <a:lnTo>
                    <a:pt x="342" y="855"/>
                  </a:lnTo>
                  <a:lnTo>
                    <a:pt x="349" y="836"/>
                  </a:lnTo>
                  <a:lnTo>
                    <a:pt x="362" y="823"/>
                  </a:lnTo>
                  <a:lnTo>
                    <a:pt x="367" y="811"/>
                  </a:lnTo>
                  <a:lnTo>
                    <a:pt x="374" y="798"/>
                  </a:lnTo>
                  <a:lnTo>
                    <a:pt x="387" y="786"/>
                  </a:lnTo>
                  <a:lnTo>
                    <a:pt x="393" y="773"/>
                  </a:lnTo>
                  <a:lnTo>
                    <a:pt x="406" y="767"/>
                  </a:lnTo>
                  <a:lnTo>
                    <a:pt x="413" y="754"/>
                  </a:lnTo>
                  <a:lnTo>
                    <a:pt x="425" y="742"/>
                  </a:lnTo>
                  <a:lnTo>
                    <a:pt x="431" y="729"/>
                  </a:lnTo>
                  <a:lnTo>
                    <a:pt x="438" y="716"/>
                  </a:lnTo>
                  <a:lnTo>
                    <a:pt x="457" y="697"/>
                  </a:lnTo>
                  <a:lnTo>
                    <a:pt x="463" y="685"/>
                  </a:lnTo>
                  <a:lnTo>
                    <a:pt x="482" y="665"/>
                  </a:lnTo>
                  <a:lnTo>
                    <a:pt x="488" y="653"/>
                  </a:lnTo>
                  <a:lnTo>
                    <a:pt x="507" y="634"/>
                  </a:lnTo>
                  <a:lnTo>
                    <a:pt x="514" y="621"/>
                  </a:lnTo>
                  <a:lnTo>
                    <a:pt x="526" y="614"/>
                  </a:lnTo>
                  <a:lnTo>
                    <a:pt x="532" y="602"/>
                  </a:lnTo>
                  <a:lnTo>
                    <a:pt x="539" y="589"/>
                  </a:lnTo>
                  <a:lnTo>
                    <a:pt x="552" y="583"/>
                  </a:lnTo>
                  <a:lnTo>
                    <a:pt x="558" y="570"/>
                  </a:lnTo>
                  <a:lnTo>
                    <a:pt x="564" y="563"/>
                  </a:lnTo>
                  <a:lnTo>
                    <a:pt x="578" y="558"/>
                  </a:lnTo>
                  <a:lnTo>
                    <a:pt x="583" y="545"/>
                  </a:lnTo>
                  <a:lnTo>
                    <a:pt x="608" y="519"/>
                  </a:lnTo>
                  <a:lnTo>
                    <a:pt x="622" y="513"/>
                  </a:lnTo>
                  <a:lnTo>
                    <a:pt x="628" y="501"/>
                  </a:lnTo>
                  <a:lnTo>
                    <a:pt x="634" y="494"/>
                  </a:lnTo>
                  <a:lnTo>
                    <a:pt x="647" y="488"/>
                  </a:lnTo>
                  <a:lnTo>
                    <a:pt x="653" y="475"/>
                  </a:lnTo>
                  <a:lnTo>
                    <a:pt x="659" y="469"/>
                  </a:lnTo>
                  <a:lnTo>
                    <a:pt x="672" y="462"/>
                  </a:lnTo>
                  <a:lnTo>
                    <a:pt x="679" y="456"/>
                  </a:lnTo>
                  <a:lnTo>
                    <a:pt x="684" y="443"/>
                  </a:lnTo>
                  <a:lnTo>
                    <a:pt x="697" y="437"/>
                  </a:lnTo>
                  <a:lnTo>
                    <a:pt x="711" y="425"/>
                  </a:lnTo>
                  <a:lnTo>
                    <a:pt x="723" y="418"/>
                  </a:lnTo>
                  <a:lnTo>
                    <a:pt x="736" y="405"/>
                  </a:lnTo>
                  <a:lnTo>
                    <a:pt x="748" y="399"/>
                  </a:lnTo>
                  <a:lnTo>
                    <a:pt x="755" y="393"/>
                  </a:lnTo>
                  <a:lnTo>
                    <a:pt x="767" y="386"/>
                  </a:lnTo>
                  <a:lnTo>
                    <a:pt x="780" y="373"/>
                  </a:lnTo>
                  <a:lnTo>
                    <a:pt x="792" y="368"/>
                  </a:lnTo>
                  <a:lnTo>
                    <a:pt x="799" y="361"/>
                  </a:lnTo>
                  <a:lnTo>
                    <a:pt x="812" y="354"/>
                  </a:lnTo>
                  <a:lnTo>
                    <a:pt x="817" y="348"/>
                  </a:lnTo>
                  <a:lnTo>
                    <a:pt x="831" y="342"/>
                  </a:lnTo>
                  <a:lnTo>
                    <a:pt x="837" y="336"/>
                  </a:lnTo>
                  <a:lnTo>
                    <a:pt x="849" y="329"/>
                  </a:lnTo>
                  <a:lnTo>
                    <a:pt x="856" y="322"/>
                  </a:lnTo>
                  <a:lnTo>
                    <a:pt x="869" y="317"/>
                  </a:lnTo>
                  <a:lnTo>
                    <a:pt x="875" y="310"/>
                  </a:lnTo>
                  <a:lnTo>
                    <a:pt x="888" y="304"/>
                  </a:lnTo>
                  <a:lnTo>
                    <a:pt x="900" y="297"/>
                  </a:lnTo>
                  <a:lnTo>
                    <a:pt x="913" y="297"/>
                  </a:lnTo>
                  <a:lnTo>
                    <a:pt x="920" y="292"/>
                  </a:lnTo>
                  <a:lnTo>
                    <a:pt x="932" y="285"/>
                  </a:lnTo>
                  <a:lnTo>
                    <a:pt x="945" y="278"/>
                  </a:lnTo>
                  <a:lnTo>
                    <a:pt x="957" y="272"/>
                  </a:lnTo>
                  <a:lnTo>
                    <a:pt x="964" y="266"/>
                  </a:lnTo>
                  <a:lnTo>
                    <a:pt x="976" y="260"/>
                  </a:lnTo>
                  <a:lnTo>
                    <a:pt x="989" y="253"/>
                  </a:lnTo>
                  <a:lnTo>
                    <a:pt x="1002" y="247"/>
                  </a:lnTo>
                  <a:lnTo>
                    <a:pt x="1014" y="241"/>
                  </a:lnTo>
                  <a:lnTo>
                    <a:pt x="1021" y="234"/>
                  </a:lnTo>
                  <a:lnTo>
                    <a:pt x="1033" y="228"/>
                  </a:lnTo>
                  <a:lnTo>
                    <a:pt x="1046" y="221"/>
                  </a:lnTo>
                  <a:lnTo>
                    <a:pt x="1058" y="215"/>
                  </a:lnTo>
                  <a:lnTo>
                    <a:pt x="1071" y="209"/>
                  </a:lnTo>
                  <a:lnTo>
                    <a:pt x="1084" y="202"/>
                  </a:lnTo>
                  <a:lnTo>
                    <a:pt x="1097" y="202"/>
                  </a:lnTo>
                  <a:lnTo>
                    <a:pt x="1109" y="196"/>
                  </a:lnTo>
                  <a:lnTo>
                    <a:pt x="1122" y="189"/>
                  </a:lnTo>
                  <a:lnTo>
                    <a:pt x="1135" y="184"/>
                  </a:lnTo>
                  <a:lnTo>
                    <a:pt x="1147" y="177"/>
                  </a:lnTo>
                  <a:lnTo>
                    <a:pt x="1161" y="171"/>
                  </a:lnTo>
                  <a:lnTo>
                    <a:pt x="1173" y="164"/>
                  </a:lnTo>
                  <a:lnTo>
                    <a:pt x="1191" y="164"/>
                  </a:lnTo>
                  <a:lnTo>
                    <a:pt x="1205" y="158"/>
                  </a:lnTo>
                  <a:lnTo>
                    <a:pt x="1217" y="152"/>
                  </a:lnTo>
                  <a:lnTo>
                    <a:pt x="1230" y="145"/>
                  </a:lnTo>
                  <a:lnTo>
                    <a:pt x="1249" y="139"/>
                  </a:lnTo>
                  <a:lnTo>
                    <a:pt x="1262" y="139"/>
                  </a:lnTo>
                  <a:lnTo>
                    <a:pt x="1274" y="133"/>
                  </a:lnTo>
                  <a:lnTo>
                    <a:pt x="1294" y="127"/>
                  </a:lnTo>
                  <a:lnTo>
                    <a:pt x="1306" y="120"/>
                  </a:lnTo>
                  <a:lnTo>
                    <a:pt x="1324" y="120"/>
                  </a:lnTo>
                  <a:lnTo>
                    <a:pt x="1338" y="113"/>
                  </a:lnTo>
                  <a:lnTo>
                    <a:pt x="1356" y="113"/>
                  </a:lnTo>
                  <a:lnTo>
                    <a:pt x="1375" y="108"/>
                  </a:lnTo>
                  <a:lnTo>
                    <a:pt x="1388" y="101"/>
                  </a:lnTo>
                  <a:lnTo>
                    <a:pt x="1407" y="95"/>
                  </a:lnTo>
                  <a:lnTo>
                    <a:pt x="1420" y="95"/>
                  </a:lnTo>
                  <a:lnTo>
                    <a:pt x="1439" y="88"/>
                  </a:lnTo>
                  <a:lnTo>
                    <a:pt x="1458" y="83"/>
                  </a:lnTo>
                  <a:lnTo>
                    <a:pt x="1471" y="83"/>
                  </a:lnTo>
                  <a:lnTo>
                    <a:pt x="1489" y="76"/>
                  </a:lnTo>
                  <a:lnTo>
                    <a:pt x="1508" y="69"/>
                  </a:lnTo>
                  <a:lnTo>
                    <a:pt x="1528" y="69"/>
                  </a:lnTo>
                  <a:lnTo>
                    <a:pt x="1540" y="63"/>
                  </a:lnTo>
                  <a:lnTo>
                    <a:pt x="1559" y="63"/>
                  </a:lnTo>
                  <a:lnTo>
                    <a:pt x="1579" y="56"/>
                  </a:lnTo>
                  <a:lnTo>
                    <a:pt x="1597" y="51"/>
                  </a:lnTo>
                  <a:lnTo>
                    <a:pt x="1616" y="51"/>
                  </a:lnTo>
                  <a:lnTo>
                    <a:pt x="1636" y="44"/>
                  </a:lnTo>
                  <a:lnTo>
                    <a:pt x="1654" y="44"/>
                  </a:lnTo>
                  <a:lnTo>
                    <a:pt x="1673" y="37"/>
                  </a:lnTo>
                  <a:lnTo>
                    <a:pt x="1692" y="37"/>
                  </a:lnTo>
                  <a:lnTo>
                    <a:pt x="1712" y="31"/>
                  </a:lnTo>
                  <a:lnTo>
                    <a:pt x="1730" y="25"/>
                  </a:lnTo>
                  <a:lnTo>
                    <a:pt x="1749" y="25"/>
                  </a:lnTo>
                  <a:lnTo>
                    <a:pt x="1769" y="19"/>
                  </a:lnTo>
                  <a:lnTo>
                    <a:pt x="1788" y="19"/>
                  </a:lnTo>
                  <a:lnTo>
                    <a:pt x="1813" y="12"/>
                  </a:lnTo>
                  <a:lnTo>
                    <a:pt x="1832" y="12"/>
                  </a:lnTo>
                  <a:lnTo>
                    <a:pt x="1850" y="6"/>
                  </a:lnTo>
                  <a:lnTo>
                    <a:pt x="1870" y="6"/>
                  </a:lnTo>
                  <a:lnTo>
                    <a:pt x="1895" y="0"/>
                  </a:lnTo>
                  <a:lnTo>
                    <a:pt x="191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376080" y="3324240"/>
              <a:ext cx="34513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5580000" y="3322800"/>
              <a:ext cx="0" cy="24746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3376080" y="4429080"/>
              <a:ext cx="22035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27760" y="3324240"/>
              <a:ext cx="0" cy="2475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15200" y="3171960"/>
              <a:ext cx="0" cy="2776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3376080" y="3774960"/>
              <a:ext cx="21639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04000" y="3289320"/>
              <a:ext cx="46080" cy="57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46880" y="3753000"/>
              <a:ext cx="56880" cy="45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46880" y="4395960"/>
              <a:ext cx="56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77160" y="3094200"/>
              <a:ext cx="1773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Coût à date d'achève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20240" y="3548160"/>
              <a:ext cx="14457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Coût prévu à date "t"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57960" y="4200480"/>
              <a:ext cx="15069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Coût réalisé à date "t"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65480" y="2411280"/>
              <a:ext cx="488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Coû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84360" y="4573440"/>
              <a:ext cx="19184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Arial Narrow"/>
                </a:rPr>
                <a:t>Evaluation du "Reste à faire"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23080" y="4048200"/>
              <a:ext cx="223560" cy="644400"/>
            </a:xfrm>
            <a:custGeom>
              <a:avLst/>
              <a:gdLst/>
              <a:ahLst/>
              <a:rect l="l" t="t" r="r" b="b"/>
              <a:pathLst>
                <a:path w="141" h="406">
                  <a:moveTo>
                    <a:pt x="140" y="405"/>
                  </a:moveTo>
                  <a:lnTo>
                    <a:pt x="133" y="405"/>
                  </a:lnTo>
                  <a:lnTo>
                    <a:pt x="127" y="398"/>
                  </a:lnTo>
                  <a:lnTo>
                    <a:pt x="120" y="398"/>
                  </a:lnTo>
                  <a:lnTo>
                    <a:pt x="120" y="393"/>
                  </a:lnTo>
                  <a:lnTo>
                    <a:pt x="114" y="393"/>
                  </a:lnTo>
                  <a:lnTo>
                    <a:pt x="108" y="386"/>
                  </a:lnTo>
                  <a:lnTo>
                    <a:pt x="101" y="386"/>
                  </a:lnTo>
                  <a:lnTo>
                    <a:pt x="101" y="380"/>
                  </a:lnTo>
                  <a:lnTo>
                    <a:pt x="95" y="380"/>
                  </a:lnTo>
                  <a:lnTo>
                    <a:pt x="95" y="373"/>
                  </a:lnTo>
                  <a:lnTo>
                    <a:pt x="88" y="373"/>
                  </a:lnTo>
                  <a:lnTo>
                    <a:pt x="88" y="368"/>
                  </a:lnTo>
                  <a:lnTo>
                    <a:pt x="76" y="354"/>
                  </a:lnTo>
                  <a:lnTo>
                    <a:pt x="76" y="348"/>
                  </a:lnTo>
                  <a:lnTo>
                    <a:pt x="63" y="336"/>
                  </a:lnTo>
                  <a:lnTo>
                    <a:pt x="63" y="322"/>
                  </a:lnTo>
                  <a:lnTo>
                    <a:pt x="57" y="322"/>
                  </a:lnTo>
                  <a:lnTo>
                    <a:pt x="57" y="317"/>
                  </a:lnTo>
                  <a:lnTo>
                    <a:pt x="51" y="310"/>
                  </a:lnTo>
                  <a:lnTo>
                    <a:pt x="51" y="297"/>
                  </a:lnTo>
                  <a:lnTo>
                    <a:pt x="44" y="292"/>
                  </a:lnTo>
                  <a:lnTo>
                    <a:pt x="44" y="278"/>
                  </a:lnTo>
                  <a:lnTo>
                    <a:pt x="37" y="272"/>
                  </a:lnTo>
                  <a:lnTo>
                    <a:pt x="37" y="260"/>
                  </a:lnTo>
                  <a:lnTo>
                    <a:pt x="32" y="253"/>
                  </a:lnTo>
                  <a:lnTo>
                    <a:pt x="32" y="228"/>
                  </a:lnTo>
                  <a:lnTo>
                    <a:pt x="25" y="221"/>
                  </a:lnTo>
                  <a:lnTo>
                    <a:pt x="25" y="203"/>
                  </a:lnTo>
                  <a:lnTo>
                    <a:pt x="19" y="196"/>
                  </a:lnTo>
                  <a:lnTo>
                    <a:pt x="19" y="164"/>
                  </a:lnTo>
                  <a:lnTo>
                    <a:pt x="12" y="152"/>
                  </a:lnTo>
                  <a:lnTo>
                    <a:pt x="12" y="113"/>
                  </a:lnTo>
                  <a:lnTo>
                    <a:pt x="7" y="107"/>
                  </a:lnTo>
                  <a:lnTo>
                    <a:pt x="7" y="56"/>
                  </a:lnTo>
                  <a:lnTo>
                    <a:pt x="0" y="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61160" y="4048200"/>
              <a:ext cx="144360" cy="15228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0" y="95"/>
                  </a:moveTo>
                  <a:lnTo>
                    <a:pt x="39" y="0"/>
                  </a:lnTo>
                  <a:lnTo>
                    <a:pt x="90" y="88"/>
                  </a:lnTo>
                  <a:lnTo>
                    <a:pt x="0" y="9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390080" y="5640480"/>
              <a:ext cx="6152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Temp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57800" y="5891040"/>
              <a:ext cx="6364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date "t"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11440" y="5791320"/>
              <a:ext cx="391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Fi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12800" y="5991120"/>
              <a:ext cx="5954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Initia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26240" y="5891040"/>
              <a:ext cx="125244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Fin prévisionnel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7796160" y="3224160"/>
            <a:ext cx="957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Ecart final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prévisio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3086280" y="2571840"/>
            <a:ext cx="3939120" cy="1638360"/>
            <a:chOff x="3086280" y="2571840"/>
            <a:chExt cx="3939120" cy="1638360"/>
          </a:xfrm>
        </p:grpSpPr>
        <p:sp>
          <p:nvSpPr>
            <p:cNvPr id="406" name=""/>
            <p:cNvSpPr/>
            <p:nvPr/>
          </p:nvSpPr>
          <p:spPr>
            <a:xfrm>
              <a:off x="3086280" y="2571840"/>
              <a:ext cx="3733560" cy="163836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30080" y="2889360"/>
              <a:ext cx="359532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Mistral"/>
                </a:rPr>
                <a:t>Les outil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outils de pilotag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 logiciels certes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s aussi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règles d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réunions prépar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fond documentaire so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tableau de b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dossier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 communication adapt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099040" y="1901880"/>
          <a:ext cx="401652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9040" y="1901880"/>
                    <a:ext cx="401652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 tableau de bord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héti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données chiffr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comment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dant à la prise de déc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onible à chaque revue du proj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6040" y="4505400"/>
            <a:ext cx="9374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Diego1"/>
              </a:rPr>
              <a:t>Il doit privilégier les représentations graphiqu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Diego1"/>
              </a:rPr>
              <a:t>ainisi que le qualitatif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 tableau de bord, un exempl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 indicateurs, un pe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urs de dél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urs de coû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urs de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 éléments de planning ... pas seul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s aussi des commentai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èmes rencontr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des problèmes sur le projet (analyse des risques en cas de dérapage, de non respect d'un jalon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 envisag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ntages/Inconvénient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2781360" y="1581120"/>
            <a:ext cx="6099120" cy="45752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hase de pré-étude : "Ardoise"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de à la Réalisation de Dossiers d'Investissements sous Exc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20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hase de mise en oeuvre : les logiciels courant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lques conseils ou remar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égrer dès l'origine la fonction gestion d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érer un coût en KF, mais aussi en "Hommes*jour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'acquisition de compétence sur l'outil nécessite du 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'outil ne restitue que ce qu'on lui four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ême avec un outil, il est délicat de gérer un grand nombre de tâ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fréquence de suivi est liée à la durée des tâ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n'y a pas d'outil efficace sans méth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n'y a pas de méthode opérationnelle sans ou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303640" y="5567400"/>
            <a:ext cx="7313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ego1"/>
              </a:rPr>
              <a:t>Ces logiciels traitent de la planification et du suivi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iego1"/>
              </a:rPr>
              <a:t>mais pas de l'étude d'opportun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200400" y="2428920"/>
            <a:ext cx="3864240" cy="2076480"/>
            <a:chOff x="3200400" y="2428920"/>
            <a:chExt cx="3864240" cy="2076480"/>
          </a:xfrm>
        </p:grpSpPr>
        <p:sp>
          <p:nvSpPr>
            <p:cNvPr id="66" name=""/>
            <p:cNvSpPr/>
            <p:nvPr/>
          </p:nvSpPr>
          <p:spPr>
            <a:xfrm>
              <a:off x="3200400" y="2428920"/>
              <a:ext cx="3505320" cy="207648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80120" y="2965320"/>
              <a:ext cx="358452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Mistral"/>
                </a:rPr>
                <a:t>Le projet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15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gestionnaires de projet : quelques définitio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liste de présé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tableau sur lequel, pour chaque tâche, sont portés, la durée, l'enchaînement logique, d'éventuelles contrai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285920" y="3057480"/>
          <a:ext cx="737856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3057480"/>
                    <a:ext cx="737856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gestionnaires de projet : définitio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diagramme de Gant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s logiciels ne font pas figurer directement les lia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offre une présentation très visuelle de l'étalement des tâ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011240" y="2558880"/>
          <a:ext cx="7878600" cy="33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1240" y="2558880"/>
                    <a:ext cx="7878600" cy="33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gestionnaires de projet : définitio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réseau PERT : Program Evaluation Review Techni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durée et l'importance des tâches n'apparaît pas de façon visu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'ordonnancement du projet est clairement représe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857240" y="3425760"/>
          <a:ext cx="5888160" cy="34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3425760"/>
                    <a:ext cx="588816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2085840" y="2571840"/>
          <a:ext cx="5888160" cy="343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5840" y="2571840"/>
                    <a:ext cx="588816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 gestionnaires de projet : définitio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âche criti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te tâche qui en dérapant, fait déraper le projet dans sa glob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n criti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haînement de toutes les tâches cri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marge est l'intervalle de temps sur lequel peut glisser une tâche non critique sans affecter le reste du projet au-delà de cette marge, la tâche devient cri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-103680" y="5238720"/>
            <a:ext cx="10409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iego1"/>
              </a:rPr>
              <a:t>Le chemin critique est à surveiller étroitement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368000" y="2495520"/>
            <a:ext cx="8097120" cy="2495520"/>
            <a:chOff x="1368000" y="2495520"/>
            <a:chExt cx="8097120" cy="2495520"/>
          </a:xfrm>
        </p:grpSpPr>
        <p:sp>
          <p:nvSpPr>
            <p:cNvPr id="443" name=""/>
            <p:cNvSpPr/>
            <p:nvPr/>
          </p:nvSpPr>
          <p:spPr>
            <a:xfrm>
              <a:off x="1676520" y="2495520"/>
              <a:ext cx="6553080" cy="249552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68000" y="2784600"/>
              <a:ext cx="809712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Mistral"/>
                </a:rPr>
                <a:t>La méthode de travail</a:t>
              </a:r>
              <a:br>
                <a:rPr sz="6000"/>
              </a:br>
              <a:r>
                <a:rPr b="1" i="1" lang="en-US" sz="6000" spc="-1" strike="noStrike">
                  <a:solidFill>
                    <a:srgbClr val="000000"/>
                  </a:solidFill>
                  <a:latin typeface="Mistral"/>
                </a:rPr>
                <a:t>à l`aide d`un logiciel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méthode : phase de prépar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480" y="3695400"/>
            <a:ext cx="868680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 : Etablissement de la liste de préséance par chaque contribute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 : Saisie de toutes les contributions du projet par le chef de proj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 : Optimisation et validation de la structure initiale du projet par l'équipe projet (processus itérati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4 : Saisie de la structure initiale par le chef de proj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027240" y="1779480"/>
          <a:ext cx="154008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7240" y="1779480"/>
                    <a:ext cx="15400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5410080" y="2013120"/>
          <a:ext cx="1365480" cy="105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2013120"/>
                    <a:ext cx="136548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7599240" y="1779480"/>
          <a:ext cx="1540080" cy="128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99240" y="1779480"/>
                    <a:ext cx="15400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"/>
          <p:cNvSpPr/>
          <p:nvPr/>
        </p:nvSpPr>
        <p:spPr>
          <a:xfrm>
            <a:off x="1463400" y="100008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87400" y="100008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82760" y="100008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9400" y="100008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042920" y="1546200"/>
            <a:ext cx="1258920" cy="1622520"/>
            <a:chOff x="1042920" y="1546200"/>
            <a:chExt cx="1258920" cy="1622520"/>
          </a:xfrm>
        </p:grpSpPr>
        <p:graphicFrame>
          <p:nvGraphicFramePr>
            <p:cNvPr id="458" name=""/>
            <p:cNvGraphicFramePr/>
            <p:nvPr/>
          </p:nvGraphicFramePr>
          <p:xfrm>
            <a:off x="1824120" y="2108160"/>
            <a:ext cx="477720" cy="498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5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4120" y="2108160"/>
                      <a:ext cx="47772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60" name=""/>
            <p:cNvGrpSpPr/>
            <p:nvPr/>
          </p:nvGrpSpPr>
          <p:grpSpPr>
            <a:xfrm>
              <a:off x="1042920" y="1546200"/>
              <a:ext cx="478080" cy="1622520"/>
              <a:chOff x="1042920" y="1546200"/>
              <a:chExt cx="478080" cy="1622520"/>
            </a:xfrm>
          </p:grpSpPr>
          <p:graphicFrame>
            <p:nvGraphicFramePr>
              <p:cNvPr id="461" name=""/>
              <p:cNvGraphicFramePr/>
              <p:nvPr/>
            </p:nvGraphicFramePr>
            <p:xfrm>
              <a:off x="1042920" y="2670120"/>
              <a:ext cx="478080" cy="4986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6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042920" y="2670120"/>
                        <a:ext cx="478080" cy="49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63" name=""/>
              <p:cNvGraphicFramePr/>
              <p:nvPr/>
            </p:nvGraphicFramePr>
            <p:xfrm>
              <a:off x="1042920" y="1546200"/>
              <a:ext cx="478080" cy="4986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464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042920" y="1546200"/>
                        <a:ext cx="478080" cy="49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465" name=""/>
          <p:cNvSpPr/>
          <p:nvPr/>
        </p:nvSpPr>
        <p:spPr>
          <a:xfrm>
            <a:off x="2457360" y="2390760"/>
            <a:ext cx="343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695240" y="1771560"/>
            <a:ext cx="1105200" cy="1257480"/>
            <a:chOff x="1695240" y="1771560"/>
            <a:chExt cx="1105200" cy="1257480"/>
          </a:xfrm>
        </p:grpSpPr>
        <p:sp>
          <p:nvSpPr>
            <p:cNvPr id="467" name=""/>
            <p:cNvSpPr/>
            <p:nvPr/>
          </p:nvSpPr>
          <p:spPr>
            <a:xfrm flipH="1">
              <a:off x="1695240" y="2590920"/>
              <a:ext cx="110484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95600" y="1771560"/>
              <a:ext cx="110484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724280" y="239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15240" y="239076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méthode : phase de mise en oeuvr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326880" y="1190520"/>
          <a:ext cx="9266400" cy="15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880" y="1190520"/>
                    <a:ext cx="926640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3695400"/>
            <a:ext cx="868680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 supports de commun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fiche nav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Gan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ire preuve de la plus grande transpar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tôt le retard est communiqué, mieux il se g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dérapage des uns peut avoir une incidence sur les au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5840" y="2981160"/>
            <a:ext cx="6495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00760" y="2981160"/>
            <a:ext cx="276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756440" y="3071880"/>
            <a:ext cx="384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ego1"/>
              </a:rPr>
              <a:t>Diffusion de l'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134840" y="3071880"/>
            <a:ext cx="2094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ego1"/>
              </a:rPr>
              <a:t>Remontée 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iego1"/>
              </a:rPr>
              <a:t>l'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00760" y="27050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méthode : phase de mise en oeuvr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3466800"/>
            <a:ext cx="868680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: Communication remontante des évènements nouveaux par les contributeurs et réunion pour prise de décision si nécessai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: Mise à jour de la base projet et des nouveaux plann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: Communication descendante par le chef de projet à partir des trois supports de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au des tâ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4189320" y="1849320"/>
          <a:ext cx="154008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89320" y="1849320"/>
                    <a:ext cx="15400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7567560" y="1725480"/>
          <a:ext cx="824040" cy="153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67560" y="1725480"/>
                    <a:ext cx="824040" cy="15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528920" y="2149560"/>
          <a:ext cx="1538280" cy="94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8920" y="2149560"/>
                    <a:ext cx="15382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2101680" y="113040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64240" y="113040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783560" y="113040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méthode : phase de mise en oeuvr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exemple de communication : le Gantt de sui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015920" y="1909800"/>
          <a:ext cx="7878960" cy="36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1909800"/>
                    <a:ext cx="787896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méthode : phase de bila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: Saisie et édition des états de bi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: Analyse des éc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e des c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bilité des phénomè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ion des tâ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ion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685880" y="3632040"/>
          <a:ext cx="246240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3632040"/>
                    <a:ext cx="246240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6113520" y="3843360"/>
          <a:ext cx="2273400" cy="17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3520" y="3843360"/>
                    <a:ext cx="227340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1928880" y="51292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348760" y="50529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 proje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51818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rojet est un ensemble de tâch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dissociab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ermettant de répondre à un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esoi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pri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comprend également 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ssour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nécessaires à sa ré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a un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uré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ini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caractérisée par une date de début et une date de 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peut être multitechnique, monotechnique, collectif ou individu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956200" y="2189160"/>
          <a:ext cx="302760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6200" y="2189160"/>
                    <a:ext cx="30276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"/>
          <p:cNvGrpSpPr/>
          <p:nvPr/>
        </p:nvGrpSpPr>
        <p:grpSpPr>
          <a:xfrm>
            <a:off x="7790040" y="4489560"/>
            <a:ext cx="1531800" cy="930240"/>
            <a:chOff x="7790040" y="4489560"/>
            <a:chExt cx="1531800" cy="930240"/>
          </a:xfrm>
        </p:grpSpPr>
        <p:graphicFrame>
          <p:nvGraphicFramePr>
            <p:cNvPr id="73" name=""/>
            <p:cNvGraphicFramePr/>
            <p:nvPr/>
          </p:nvGraphicFramePr>
          <p:xfrm>
            <a:off x="7790040" y="4489560"/>
            <a:ext cx="1531800" cy="930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90040" y="4489560"/>
                      <a:ext cx="1531800" cy="93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>
              <a:off x="8174880" y="4678200"/>
              <a:ext cx="7160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4400" bIns="14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440"/>
                  <a:tab algn="l" pos="165240"/>
                  <a:tab algn="l" pos="247680"/>
                  <a:tab algn="l" pos="330120"/>
                  <a:tab algn="l" pos="412920"/>
                  <a:tab algn="l" pos="495360"/>
                  <a:tab algn="l" pos="577800"/>
                  <a:tab algn="l" pos="660240"/>
                  <a:tab algn="l" pos="743040"/>
                  <a:tab algn="l" pos="825480"/>
                  <a:tab algn="l" pos="907920"/>
                  <a:tab algn="l" pos="990720"/>
                  <a:tab algn="l" pos="1073160"/>
                  <a:tab algn="l" pos="1155600"/>
                  <a:tab algn="l" pos="1238400"/>
                  <a:tab algn="l" pos="1320840"/>
                  <a:tab algn="l" pos="1403280"/>
                  <a:tab algn="l" pos="1486080"/>
                  <a:tab algn="l" pos="1568520"/>
                  <a:tab algn="l" pos="165096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Diego1"/>
                </a:rPr>
                <a:t>Proj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 méthode : phase bila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e d'édition de bi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ée planifiée, prévue, réalis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but planifié, prévu, réali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 planifiée, prévue, réalis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896760" y="3176640"/>
          <a:ext cx="8110800" cy="21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3176640"/>
                    <a:ext cx="8110800" cy="21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lan de développement d'un proje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8" name=""/>
          <p:cNvSpPr/>
          <p:nvPr/>
        </p:nvSpPr>
        <p:spPr>
          <a:xfrm>
            <a:off x="706320" y="4875120"/>
            <a:ext cx="8280000" cy="120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" y="11826"/>
                </a:moveTo>
                <a:arcTo wR="10800" hR="10800" stAng="10472941" swAng="11390399"/>
                <a:lnTo>
                  <a:pt x="10800" y="10800"/>
                </a:lnTo>
                <a:close/>
              </a:path>
              <a:path fill="none" w="21600" h="21600">
                <a:moveTo>
                  <a:pt x="49" y="11826"/>
                </a:moveTo>
                <a:arcTo wR="10800" hR="10800" stAng="10472941" swAng="11390399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681520" y="4633920"/>
            <a:ext cx="455760" cy="515520"/>
            <a:chOff x="5681520" y="4633920"/>
            <a:chExt cx="455760" cy="515520"/>
          </a:xfrm>
        </p:grpSpPr>
        <p:sp>
          <p:nvSpPr>
            <p:cNvPr id="510" name=""/>
            <p:cNvSpPr/>
            <p:nvPr/>
          </p:nvSpPr>
          <p:spPr>
            <a:xfrm>
              <a:off x="5681520" y="4664160"/>
              <a:ext cx="455760" cy="45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19680" y="463392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3354480" y="4633920"/>
            <a:ext cx="453960" cy="515520"/>
            <a:chOff x="3354480" y="4633920"/>
            <a:chExt cx="453960" cy="515520"/>
          </a:xfrm>
        </p:grpSpPr>
        <p:sp>
          <p:nvSpPr>
            <p:cNvPr id="513" name=""/>
            <p:cNvSpPr/>
            <p:nvPr/>
          </p:nvSpPr>
          <p:spPr>
            <a:xfrm>
              <a:off x="3354480" y="4664160"/>
              <a:ext cx="453960" cy="45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92640" y="463392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2144880" y="4726080"/>
            <a:ext cx="455400" cy="515520"/>
            <a:chOff x="2144880" y="4726080"/>
            <a:chExt cx="455400" cy="515520"/>
          </a:xfrm>
        </p:grpSpPr>
        <p:sp>
          <p:nvSpPr>
            <p:cNvPr id="516" name=""/>
            <p:cNvSpPr/>
            <p:nvPr/>
          </p:nvSpPr>
          <p:spPr>
            <a:xfrm>
              <a:off x="2144880" y="4756320"/>
              <a:ext cx="455400" cy="45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82680" y="472608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7135920" y="4722840"/>
            <a:ext cx="455400" cy="515520"/>
            <a:chOff x="7135920" y="4722840"/>
            <a:chExt cx="455400" cy="515520"/>
          </a:xfrm>
        </p:grpSpPr>
        <p:sp>
          <p:nvSpPr>
            <p:cNvPr id="519" name=""/>
            <p:cNvSpPr/>
            <p:nvPr/>
          </p:nvSpPr>
          <p:spPr>
            <a:xfrm>
              <a:off x="7135920" y="4753080"/>
              <a:ext cx="455400" cy="45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174080" y="472284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932040" y="5091120"/>
            <a:ext cx="455400" cy="515520"/>
            <a:chOff x="932040" y="5091120"/>
            <a:chExt cx="455400" cy="515520"/>
          </a:xfrm>
        </p:grpSpPr>
        <p:sp>
          <p:nvSpPr>
            <p:cNvPr id="522" name=""/>
            <p:cNvSpPr/>
            <p:nvPr/>
          </p:nvSpPr>
          <p:spPr>
            <a:xfrm>
              <a:off x="932040" y="5121360"/>
              <a:ext cx="455400" cy="45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69840" y="509112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8462880" y="5110200"/>
            <a:ext cx="455760" cy="515520"/>
            <a:chOff x="8462880" y="5110200"/>
            <a:chExt cx="455760" cy="515520"/>
          </a:xfrm>
        </p:grpSpPr>
        <p:sp>
          <p:nvSpPr>
            <p:cNvPr id="525" name=""/>
            <p:cNvSpPr/>
            <p:nvPr/>
          </p:nvSpPr>
          <p:spPr>
            <a:xfrm>
              <a:off x="8462880" y="5140440"/>
              <a:ext cx="455760" cy="45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501040" y="511020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687680" y="1765440"/>
            <a:ext cx="658800" cy="446040"/>
          </a:xfrm>
          <a:custGeom>
            <a:avLst/>
            <a:gdLst/>
            <a:ahLst/>
            <a:rect l="l" t="t" r="r" b="b"/>
            <a:pathLst>
              <a:path w="415" h="281">
                <a:moveTo>
                  <a:pt x="0" y="0"/>
                </a:moveTo>
                <a:lnTo>
                  <a:pt x="414" y="0"/>
                </a:lnTo>
                <a:lnTo>
                  <a:pt x="414" y="2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79640" y="2428920"/>
            <a:ext cx="712800" cy="449280"/>
          </a:xfrm>
          <a:custGeom>
            <a:avLst/>
            <a:gdLst/>
            <a:ahLst/>
            <a:rect l="l" t="t" r="r" b="b"/>
            <a:pathLst>
              <a:path w="449" h="283">
                <a:moveTo>
                  <a:pt x="0" y="0"/>
                </a:moveTo>
                <a:lnTo>
                  <a:pt x="448" y="0"/>
                </a:lnTo>
                <a:lnTo>
                  <a:pt x="448" y="28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21280" y="2606760"/>
            <a:ext cx="912960" cy="245880"/>
          </a:xfrm>
          <a:custGeom>
            <a:avLst/>
            <a:gdLst/>
            <a:ahLst/>
            <a:rect l="l" t="t" r="r" b="b"/>
            <a:pathLst>
              <a:path w="575" h="155">
                <a:moveTo>
                  <a:pt x="0" y="154"/>
                </a:moveTo>
                <a:lnTo>
                  <a:pt x="0" y="0"/>
                </a:lnTo>
                <a:lnTo>
                  <a:pt x="57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353360" y="1890720"/>
            <a:ext cx="799920" cy="358920"/>
          </a:xfrm>
          <a:custGeom>
            <a:avLst/>
            <a:gdLst/>
            <a:ahLst/>
            <a:rect l="l" t="t" r="r" b="b"/>
            <a:pathLst>
              <a:path w="504" h="226">
                <a:moveTo>
                  <a:pt x="0" y="225"/>
                </a:moveTo>
                <a:lnTo>
                  <a:pt x="0" y="0"/>
                </a:lnTo>
                <a:lnTo>
                  <a:pt x="5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0000" y="4489560"/>
            <a:ext cx="841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ss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80680" y="5562720"/>
            <a:ext cx="98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ché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23080" y="5869080"/>
            <a:ext cx="1097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885320" y="5205240"/>
            <a:ext cx="878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Et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88120" y="5086440"/>
            <a:ext cx="1737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évelopp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44120" y="5086440"/>
            <a:ext cx="1284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61240" y="5205240"/>
            <a:ext cx="946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is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85360" y="5513400"/>
            <a:ext cx="90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eu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83200" y="5562720"/>
            <a:ext cx="157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ainten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52680" y="1568520"/>
            <a:ext cx="101520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upho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794600" y="2216160"/>
            <a:ext cx="115380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quié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14320" y="2863800"/>
            <a:ext cx="1188720" cy="100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cherc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up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38480" y="3086280"/>
            <a:ext cx="1270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10400" y="2882880"/>
            <a:ext cx="94500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158840" y="199980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2371680" y="2628720"/>
            <a:ext cx="0" cy="211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3581280" y="3289320"/>
            <a:ext cx="0" cy="137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908680" y="388584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39640" y="2254320"/>
            <a:ext cx="1071360" cy="100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uni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noc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7353360" y="3282480"/>
            <a:ext cx="0" cy="146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165880" y="1225440"/>
            <a:ext cx="1130760" cy="222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mo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 ceu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qui n'o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empé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a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'aff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8686800" y="3466800"/>
            <a:ext cx="0" cy="169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 projet : trois principes fondamentaux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stauration systématique d'une phase d'exploration en amont des proj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valuer l'opportunité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éciser ses objectifs de coût, de délai et de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7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dentifier les marges de manoeuvre : coût, délais,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îtrise d'oeuvre responsable nommément désigné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750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biliser et coordonner l'ensemble des compétences nécess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îtrise d'ouvrage forte animée par un pilo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xer des objectifs cl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orienter si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 projet : les phases de vi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pré-étu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le permet au travers d'une identification première des actions, des acteurs, des coûts, des charges et des gains de toutes natures, de bâtir un dossier qui contribue à l'étude d'opportunité et de faisabi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'étu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 fois le projet retenu, elle conduit à figer de manière précis les contours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éali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le s'accompagne d'un suivi et d'un bilan de ré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'exploi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m mais avec des rapports d'é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désinvestiss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peut faire partie de la pré-étude du projet sui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8296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 projet : les phases de vi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pprochement avec les projets informat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62160" y="2800440"/>
            <a:ext cx="0" cy="7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28840" y="28195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62520" y="2819520"/>
            <a:ext cx="0" cy="257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86720" y="2857680"/>
            <a:ext cx="0" cy="234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05000" y="2819520"/>
            <a:ext cx="769608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79720" y="3106800"/>
            <a:ext cx="2072880" cy="454680"/>
            <a:chOff x="279720" y="3106800"/>
            <a:chExt cx="2072880" cy="454680"/>
          </a:xfrm>
        </p:grpSpPr>
        <p:sp>
          <p:nvSpPr>
            <p:cNvPr id="88" name=""/>
            <p:cNvSpPr/>
            <p:nvPr/>
          </p:nvSpPr>
          <p:spPr>
            <a:xfrm>
              <a:off x="412920" y="3111480"/>
              <a:ext cx="1739880" cy="4446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9720" y="3106800"/>
              <a:ext cx="2072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Diego1"/>
                </a:rPr>
                <a:t>Muriss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037240" y="3556080"/>
            <a:ext cx="1953720" cy="454680"/>
            <a:chOff x="2037240" y="3556080"/>
            <a:chExt cx="1953720" cy="454680"/>
          </a:xfrm>
        </p:grpSpPr>
        <p:sp>
          <p:nvSpPr>
            <p:cNvPr id="91" name=""/>
            <p:cNvSpPr/>
            <p:nvPr/>
          </p:nvSpPr>
          <p:spPr>
            <a:xfrm>
              <a:off x="2168640" y="3560760"/>
              <a:ext cx="1739880" cy="4446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7240" y="3556080"/>
              <a:ext cx="195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Diego1"/>
                </a:rPr>
                <a:t>Prototyp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046680" y="4014720"/>
            <a:ext cx="2520720" cy="454680"/>
            <a:chOff x="3046680" y="4014720"/>
            <a:chExt cx="2520720" cy="454680"/>
          </a:xfrm>
        </p:grpSpPr>
        <p:sp>
          <p:nvSpPr>
            <p:cNvPr id="94" name=""/>
            <p:cNvSpPr/>
            <p:nvPr/>
          </p:nvSpPr>
          <p:spPr>
            <a:xfrm>
              <a:off x="3240000" y="4019400"/>
              <a:ext cx="1949400" cy="4446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6680" y="4014720"/>
              <a:ext cx="2520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Diego1"/>
                </a:rPr>
                <a:t>Industrialis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6000" y="4478400"/>
            <a:ext cx="1415160" cy="454680"/>
            <a:chOff x="4626000" y="4478400"/>
            <a:chExt cx="1415160" cy="454680"/>
          </a:xfrm>
        </p:grpSpPr>
        <p:sp>
          <p:nvSpPr>
            <p:cNvPr id="97" name=""/>
            <p:cNvSpPr/>
            <p:nvPr/>
          </p:nvSpPr>
          <p:spPr>
            <a:xfrm>
              <a:off x="4626000" y="4483080"/>
              <a:ext cx="1396800" cy="4446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68000" y="4478400"/>
              <a:ext cx="1073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Diego1"/>
                </a:rPr>
                <a:t>M.P.P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615640" y="4935600"/>
            <a:ext cx="3941640" cy="454680"/>
            <a:chOff x="5615640" y="4935600"/>
            <a:chExt cx="3941640" cy="454680"/>
          </a:xfrm>
        </p:grpSpPr>
        <p:grpSp>
          <p:nvGrpSpPr>
            <p:cNvPr id="100" name=""/>
            <p:cNvGrpSpPr/>
            <p:nvPr/>
          </p:nvGrpSpPr>
          <p:grpSpPr>
            <a:xfrm>
              <a:off x="5615640" y="4935600"/>
              <a:ext cx="2272320" cy="454680"/>
              <a:chOff x="5615640" y="4935600"/>
              <a:chExt cx="2272320" cy="454680"/>
            </a:xfrm>
          </p:grpSpPr>
          <p:sp>
            <p:nvSpPr>
              <p:cNvPr id="101" name=""/>
              <p:cNvSpPr/>
              <p:nvPr/>
            </p:nvSpPr>
            <p:spPr>
              <a:xfrm>
                <a:off x="5769000" y="4940280"/>
                <a:ext cx="1903320" cy="444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615640" y="4935600"/>
                <a:ext cx="2272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Diego1"/>
                  </a:rPr>
                  <a:t>Généralis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7671960" y="4935600"/>
              <a:ext cx="1885320" cy="454680"/>
              <a:chOff x="7671960" y="4935600"/>
              <a:chExt cx="1885320" cy="454680"/>
            </a:xfrm>
          </p:grpSpPr>
          <p:sp>
            <p:nvSpPr>
              <p:cNvPr id="104" name=""/>
              <p:cNvSpPr/>
              <p:nvPr/>
            </p:nvSpPr>
            <p:spPr>
              <a:xfrm>
                <a:off x="7684920" y="4940280"/>
                <a:ext cx="1805040" cy="444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71960" y="4935600"/>
                <a:ext cx="1885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Diego1"/>
                  </a:rPr>
                  <a:t>Exploit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5769000" y="5392800"/>
            <a:ext cx="3720960" cy="454680"/>
            <a:chOff x="5769000" y="5392800"/>
            <a:chExt cx="3720960" cy="454680"/>
          </a:xfrm>
        </p:grpSpPr>
        <p:sp>
          <p:nvSpPr>
            <p:cNvPr id="107" name=""/>
            <p:cNvSpPr/>
            <p:nvPr/>
          </p:nvSpPr>
          <p:spPr>
            <a:xfrm>
              <a:off x="5769000" y="5397480"/>
              <a:ext cx="3720960" cy="4446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03840" y="5392800"/>
              <a:ext cx="204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Diego1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959120" y="2654280"/>
            <a:ext cx="406080" cy="368280"/>
          </a:xfrm>
          <a:prstGeom prst="star5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18080" y="20908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25800" y="2654280"/>
            <a:ext cx="406440" cy="368280"/>
          </a:xfrm>
          <a:prstGeom prst="star5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5240" y="20908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59480" y="2654280"/>
            <a:ext cx="406440" cy="368280"/>
          </a:xfrm>
          <a:prstGeom prst="star5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28160" y="20908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83320" y="2654280"/>
            <a:ext cx="406440" cy="368280"/>
          </a:xfrm>
          <a:prstGeom prst="star5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44080" y="20908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04760" y="3110040"/>
            <a:ext cx="100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Diego1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8T11:10:22Z</dcterms:created>
  <dc:creator>ONS-GT France Télécom</dc:creator>
  <dc:description/>
  <dc:language>en-US</dc:language>
  <cp:lastModifiedBy>PRESTBIBLE</cp:lastModifiedBy>
  <cp:lastPrinted>1996-08-29T15:09:20Z</cp:lastPrinted>
  <dcterms:modified xsi:type="dcterms:W3CDTF">2004-01-05T12:32:20Z</dcterms:modified>
  <cp:revision>3</cp:revision>
  <dc:subject/>
  <dc:title>La gestion de projet</dc:title>
</cp:coreProperties>
</file>