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94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72996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94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0880" y="11430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7299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0880" y="37299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94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6720" y="11430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83600" y="11430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7299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6720" y="37299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83600" y="37299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94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94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94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0880" y="11430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94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520" y="228240"/>
            <a:ext cx="79441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94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0880" y="11430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7299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94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0880" y="11430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0880" y="37299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94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0880" y="11430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2996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94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794800" y="6500880"/>
            <a:ext cx="126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282DC07-C47B-4656-B7B4-BB164ECD6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00880" y="250920"/>
            <a:ext cx="14558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nformation inter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28600" y="6307200"/>
            <a:ext cx="5077440" cy="455400"/>
            <a:chOff x="228600" y="6307200"/>
            <a:chExt cx="5077440" cy="45540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228600" y="6307200"/>
              <a:ext cx="2039760" cy="45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2428560" y="6432480"/>
              <a:ext cx="28774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d00ee"/>
                  </a:solidFill>
                  <a:latin typeface="Arial"/>
                </a:rPr>
                <a:t>Organisme National de Soutien Ges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523800" y="971640"/>
            <a:ext cx="8858160" cy="5724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428680" y="633240"/>
            <a:ext cx="1140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</a:rPr>
              <a:t>MANAGT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624800" y="6392880"/>
            <a:ext cx="641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0ee"/>
                </a:solidFill>
                <a:latin typeface="Arial"/>
              </a:rPr>
              <a:t>I.A.A.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492200" y="2502000"/>
            <a:ext cx="6921720" cy="2406600"/>
          </a:xfrm>
          <a:prstGeom prst="rect">
            <a:avLst/>
          </a:prstGeom>
          <a:solidFill>
            <a:srgbClr val="c0fef9"/>
          </a:solidFill>
          <a:ln w="12600">
            <a:solidFill>
              <a:srgbClr val="8cf4ea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42960" y="3133440"/>
            <a:ext cx="6819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Mistral"/>
              </a:rPr>
              <a:t>Phase de réalisation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Mistral"/>
              </a:rPr>
              <a:t>et management</a:t>
            </a:r>
            <a:endParaRPr b="1" lang="en-US" sz="5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12920" y="1295280"/>
            <a:ext cx="9410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87240" y="1442880"/>
            <a:ext cx="8531280" cy="4581720"/>
            <a:chOff x="687240" y="1442880"/>
            <a:chExt cx="8531280" cy="4581720"/>
          </a:xfrm>
        </p:grpSpPr>
        <p:sp>
          <p:nvSpPr>
            <p:cNvPr id="83" name=""/>
            <p:cNvSpPr/>
            <p:nvPr/>
          </p:nvSpPr>
          <p:spPr>
            <a:xfrm>
              <a:off x="4995720" y="1442880"/>
              <a:ext cx="4222800" cy="4581720"/>
            </a:xfrm>
            <a:custGeom>
              <a:avLst/>
              <a:gdLst>
                <a:gd name="textAreaLeft" fmla="*/ 154440 w 4222800"/>
                <a:gd name="textAreaRight" fmla="*/ 4068360 w 4222800"/>
                <a:gd name="textAreaTop" fmla="*/ 154440 h 4581720"/>
                <a:gd name="textAreaBottom" fmla="*/ 4427280 h 4581720"/>
              </a:gdLst>
              <a:ahLst/>
              <a:rect l="textAreaLeft" t="textAreaTop" r="textAreaRight" b="textAreaBottom"/>
              <a:pathLst>
                <a:path w="21600" h="23436">
                  <a:moveTo>
                    <a:pt x="2697" y="0"/>
                  </a:moveTo>
                  <a:arcTo wR="2697" hR="2697" stAng="16200000" swAng="-5400000"/>
                  <a:lnTo>
                    <a:pt x="0" y="20739"/>
                  </a:lnTo>
                  <a:arcTo wR="2697" hR="2697" stAng="10800000" swAng="-5400000"/>
                  <a:lnTo>
                    <a:pt x="18903" y="23436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2200" spc="-1" strike="noStrike" u="sng">
                  <a:solidFill>
                    <a:srgbClr val="000000"/>
                  </a:solidFill>
                  <a:uFillTx/>
                  <a:latin typeface="Diego1"/>
                </a:rPr>
                <a:t>DES ACTIONS à ENGAGE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136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"/>
                <a:tabLst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Organiser des temps d'échang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136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"/>
                <a:tabLst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Accepter les critiques et les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doutes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136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"/>
                <a:tabLst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Animer les réunions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136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"/>
                <a:tabLst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Analyser les besoins d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formation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136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"/>
                <a:tabLst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Expliquer, expliquer, expliquer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7240" y="1442880"/>
              <a:ext cx="4148280" cy="4581720"/>
            </a:xfrm>
            <a:custGeom>
              <a:avLst/>
              <a:gdLst>
                <a:gd name="textAreaLeft" fmla="*/ 151560 w 4148280"/>
                <a:gd name="textAreaRight" fmla="*/ 3996720 w 4148280"/>
                <a:gd name="textAreaTop" fmla="*/ 151560 h 4581720"/>
                <a:gd name="textAreaBottom" fmla="*/ 4430160 h 4581720"/>
              </a:gdLst>
              <a:ahLst/>
              <a:rect l="textAreaLeft" t="textAreaTop" r="textAreaRight" b="textAreaBottom"/>
              <a:pathLst>
                <a:path w="21600" h="23857">
                  <a:moveTo>
                    <a:pt x="2697" y="0"/>
                  </a:moveTo>
                  <a:arcTo wR="2697" hR="2697" stAng="16200000" swAng="-5400000"/>
                  <a:lnTo>
                    <a:pt x="0" y="21160"/>
                  </a:lnTo>
                  <a:arcTo wR="2697" hR="2697" stAng="10800000" swAng="-5400000"/>
                  <a:lnTo>
                    <a:pt x="18903" y="23857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2200" spc="-1" strike="noStrike" u="sng">
                  <a:solidFill>
                    <a:srgbClr val="000000"/>
                  </a:solidFill>
                  <a:uFillTx/>
                  <a:latin typeface="Diego1"/>
                </a:rPr>
                <a:t>DES RISQU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1360">
                <a:lnSpc>
                  <a:spcPct val="95000"/>
                </a:lnSpc>
                <a:buClr>
                  <a:srgbClr val="000000"/>
                </a:buClr>
                <a:buFont typeface="Wingdings" charset="2"/>
                <a:buChar char=""/>
                <a:tabLst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La non-prise en compte d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cette étap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1360">
                <a:lnSpc>
                  <a:spcPct val="95000"/>
                </a:lnSpc>
                <a:buClr>
                  <a:srgbClr val="000000"/>
                </a:buClr>
                <a:buFont typeface="Wingdings" charset="2"/>
                <a:buChar char=""/>
                <a:tabLst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Une communication trop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ponctuelle et non accompagné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1360">
                <a:lnSpc>
                  <a:spcPct val="95000"/>
                </a:lnSpc>
                <a:buClr>
                  <a:srgbClr val="000000"/>
                </a:buClr>
                <a:buFont typeface="Wingdings" charset="2"/>
                <a:buChar char=""/>
                <a:tabLst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Une présence du cadre en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pointillé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1360">
                <a:lnSpc>
                  <a:spcPct val="95000"/>
                </a:lnSpc>
                <a:buClr>
                  <a:srgbClr val="000000"/>
                </a:buClr>
                <a:buFont typeface="Wingdings" charset="2"/>
                <a:buChar char=""/>
                <a:tabLst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Un manque d'écoute des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questions et remarques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s résistances au changement : étape 2, la compréhensio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s résistances au changement : étape 3, la contributio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"/>
          <p:cNvSpPr/>
          <p:nvPr/>
        </p:nvSpPr>
        <p:spPr>
          <a:xfrm>
            <a:off x="165240" y="990720"/>
            <a:ext cx="9410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0120" y="1143000"/>
            <a:ext cx="94107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87240" y="1405080"/>
            <a:ext cx="8531280" cy="4581360"/>
            <a:chOff x="687240" y="1405080"/>
            <a:chExt cx="8531280" cy="4581360"/>
          </a:xfrm>
        </p:grpSpPr>
        <p:sp>
          <p:nvSpPr>
            <p:cNvPr id="90" name=""/>
            <p:cNvSpPr/>
            <p:nvPr/>
          </p:nvSpPr>
          <p:spPr>
            <a:xfrm>
              <a:off x="4995720" y="1405080"/>
              <a:ext cx="4222800" cy="4581360"/>
            </a:xfrm>
            <a:custGeom>
              <a:avLst/>
              <a:gdLst>
                <a:gd name="textAreaLeft" fmla="*/ 154440 w 4222800"/>
                <a:gd name="textAreaRight" fmla="*/ 4068360 w 4222800"/>
                <a:gd name="textAreaTop" fmla="*/ 154440 h 4581360"/>
                <a:gd name="textAreaBottom" fmla="*/ 4426920 h 4581360"/>
              </a:gdLst>
              <a:ahLst/>
              <a:rect l="textAreaLeft" t="textAreaTop" r="textAreaRight" b="textAreaBottom"/>
              <a:pathLst>
                <a:path w="21600" h="23434">
                  <a:moveTo>
                    <a:pt x="2697" y="0"/>
                  </a:moveTo>
                  <a:arcTo wR="2697" hR="2697" stAng="16200000" swAng="-5400000"/>
                  <a:lnTo>
                    <a:pt x="0" y="20737"/>
                  </a:lnTo>
                  <a:arcTo wR="2697" hR="2697" stAng="10800000" swAng="-5400000"/>
                  <a:lnTo>
                    <a:pt x="18903" y="23434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fr-FR" sz="2200" spc="-1" strike="noStrike" u="sng">
                  <a:solidFill>
                    <a:srgbClr val="000000"/>
                  </a:solidFill>
                  <a:uFillTx/>
                  <a:latin typeface="Diego1"/>
                </a:rPr>
                <a:t>DES ACTIONS à ENGAGE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136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"/>
                <a:tabLst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r>
                <a:rPr b="0" lang="fr-FR" sz="1800" spc="-1" strike="noStrike">
                  <a:solidFill>
                    <a:srgbClr val="000000"/>
                  </a:solidFill>
                  <a:latin typeface="Diego1"/>
                </a:rPr>
                <a:t>Animer la démarche en respectant</a:t>
              </a:r>
              <a:br>
                <a:rPr sz="1800"/>
              </a:br>
              <a:r>
                <a:rPr b="0" lang="fr-FR" sz="1800" spc="-1" strike="noStrike">
                  <a:solidFill>
                    <a:srgbClr val="000000"/>
                  </a:solidFill>
                  <a:latin typeface="Diego1"/>
                </a:rPr>
                <a:t>les engagements pris</a:t>
              </a:r>
              <a:br>
                <a:rPr sz="1800"/>
              </a:br>
              <a:r>
                <a:rPr b="0" lang="fr-FR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136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"/>
                <a:tabLst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r>
                <a:rPr b="0" lang="fr-FR" sz="1800" spc="-1" strike="noStrike">
                  <a:solidFill>
                    <a:srgbClr val="000000"/>
                  </a:solidFill>
                  <a:latin typeface="Diego1"/>
                </a:rPr>
                <a:t>Respecter soi-même les règles</a:t>
              </a:r>
              <a:br>
                <a:rPr sz="1800"/>
              </a:br>
              <a:r>
                <a:rPr b="0" lang="fr-FR" sz="1800" spc="-1" strike="noStrike">
                  <a:solidFill>
                    <a:srgbClr val="000000"/>
                  </a:solidFill>
                  <a:latin typeface="Diego1"/>
                </a:rPr>
                <a:t>du jeu proposées aux équipes</a:t>
              </a:r>
              <a:br>
                <a:rPr sz="1800"/>
              </a:br>
              <a:r>
                <a:rPr b="0" lang="fr-FR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136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"/>
                <a:tabLst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r>
                <a:rPr b="0" lang="fr-FR" sz="1800" spc="-1" strike="noStrike">
                  <a:solidFill>
                    <a:srgbClr val="000000"/>
                  </a:solidFill>
                  <a:latin typeface="Diego1"/>
                </a:rPr>
                <a:t>Soutenir les encadrants au plus</a:t>
              </a:r>
              <a:br>
                <a:rPr sz="1800"/>
              </a:br>
              <a:r>
                <a:rPr b="0" lang="fr-FR" sz="1800" spc="-1" strike="noStrike">
                  <a:solidFill>
                    <a:srgbClr val="000000"/>
                  </a:solidFill>
                  <a:latin typeface="Diego1"/>
                </a:rPr>
                <a:t>près du terrain</a:t>
              </a:r>
              <a:br>
                <a:rPr sz="1800"/>
              </a:br>
              <a:r>
                <a:rPr b="0" lang="fr-FR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136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"/>
                <a:tabLst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r>
                <a:rPr b="0" lang="fr-FR" sz="1800" spc="-1" strike="noStrike">
                  <a:solidFill>
                    <a:srgbClr val="000000"/>
                  </a:solidFill>
                  <a:latin typeface="Diego1"/>
                </a:rPr>
                <a:t>Afficher le niveau d'avancement</a:t>
              </a:r>
              <a:br>
                <a:rPr sz="1800"/>
              </a:br>
              <a:r>
                <a:rPr b="0" lang="fr-FR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136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"/>
                <a:tabLst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r>
                <a:rPr b="0" lang="fr-FR" sz="1800" spc="-1" strike="noStrike">
                  <a:solidFill>
                    <a:srgbClr val="000000"/>
                  </a:solidFill>
                  <a:latin typeface="Diego1"/>
                </a:rPr>
                <a:t>Evaluer la pertinence et</a:t>
              </a:r>
              <a:br>
                <a:rPr sz="1800"/>
              </a:br>
              <a:r>
                <a:rPr b="0" lang="fr-FR" sz="1800" spc="-1" strike="noStrike">
                  <a:solidFill>
                    <a:srgbClr val="000000"/>
                  </a:solidFill>
                  <a:latin typeface="Diego1"/>
                </a:rPr>
                <a:t>l'efficacité des form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7240" y="1405080"/>
              <a:ext cx="4148280" cy="4581360"/>
            </a:xfrm>
            <a:custGeom>
              <a:avLst/>
              <a:gdLst>
                <a:gd name="textAreaLeft" fmla="*/ 151560 w 4148280"/>
                <a:gd name="textAreaRight" fmla="*/ 3996720 w 4148280"/>
                <a:gd name="textAreaTop" fmla="*/ 151560 h 4581360"/>
                <a:gd name="textAreaBottom" fmla="*/ 4429800 h 4581360"/>
              </a:gdLst>
              <a:ahLst/>
              <a:rect l="textAreaLeft" t="textAreaTop" r="textAreaRight" b="textAreaBottom"/>
              <a:pathLst>
                <a:path w="21600" h="23855">
                  <a:moveTo>
                    <a:pt x="2697" y="0"/>
                  </a:moveTo>
                  <a:arcTo wR="2697" hR="2697" stAng="16200000" swAng="-5400000"/>
                  <a:lnTo>
                    <a:pt x="0" y="21158"/>
                  </a:lnTo>
                  <a:arcTo wR="2697" hR="2697" stAng="10800000" swAng="-5400000"/>
                  <a:lnTo>
                    <a:pt x="18903" y="23855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2200" spc="-1" strike="noStrike" u="sng">
                  <a:solidFill>
                    <a:srgbClr val="000000"/>
                  </a:solidFill>
                  <a:uFillTx/>
                  <a:latin typeface="Diego1"/>
                </a:rPr>
                <a:t>DES RISQU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136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"/>
                <a:tabLst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La pression du quotidien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136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"/>
                <a:tabLst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Le maintien des réflexes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hiérarchiques traditionnels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136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"/>
                <a:tabLst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La volonté de préserver ses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propres manières de fair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136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"/>
                <a:tabLst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Le désintérêt progressif des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responsables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136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"/>
                <a:tabLst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L'absence de valorisation des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résultats déjà acqu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94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s résistances au changement : étape 4, l'adhésio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"/>
          <p:cNvSpPr/>
          <p:nvPr/>
        </p:nvSpPr>
        <p:spPr>
          <a:xfrm>
            <a:off x="412920" y="1295280"/>
            <a:ext cx="9410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0120" y="1143000"/>
            <a:ext cx="94107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5360" y="1295280"/>
            <a:ext cx="94107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87240" y="1500120"/>
            <a:ext cx="8531280" cy="4581720"/>
            <a:chOff x="687240" y="1500120"/>
            <a:chExt cx="8531280" cy="4581720"/>
          </a:xfrm>
        </p:grpSpPr>
        <p:sp>
          <p:nvSpPr>
            <p:cNvPr id="97" name=""/>
            <p:cNvSpPr/>
            <p:nvPr/>
          </p:nvSpPr>
          <p:spPr>
            <a:xfrm>
              <a:off x="4995720" y="1500120"/>
              <a:ext cx="4222800" cy="4581720"/>
            </a:xfrm>
            <a:custGeom>
              <a:avLst/>
              <a:gdLst>
                <a:gd name="textAreaLeft" fmla="*/ 154440 w 4222800"/>
                <a:gd name="textAreaRight" fmla="*/ 4068360 w 4222800"/>
                <a:gd name="textAreaTop" fmla="*/ 154440 h 4581720"/>
                <a:gd name="textAreaBottom" fmla="*/ 4427280 h 4581720"/>
              </a:gdLst>
              <a:ahLst/>
              <a:rect l="textAreaLeft" t="textAreaTop" r="textAreaRight" b="textAreaBottom"/>
              <a:pathLst>
                <a:path w="21600" h="23436">
                  <a:moveTo>
                    <a:pt x="2697" y="0"/>
                  </a:moveTo>
                  <a:arcTo wR="2697" hR="2697" stAng="16200000" swAng="-5400000"/>
                  <a:lnTo>
                    <a:pt x="0" y="20739"/>
                  </a:lnTo>
                  <a:arcTo wR="2697" hR="2697" stAng="10800000" swAng="-5400000"/>
                  <a:lnTo>
                    <a:pt x="18903" y="23436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2200" spc="-1" strike="noStrike" u="sng">
                  <a:solidFill>
                    <a:srgbClr val="000000"/>
                  </a:solidFill>
                  <a:uFillTx/>
                  <a:latin typeface="Diego1"/>
                </a:rPr>
                <a:t>DES ACTIONS à ENGAGE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136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"/>
                <a:tabLst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Affirmer clairement le rôle des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responsables, des chefs de proje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136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"/>
                <a:tabLst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Afficher les règles du jeu et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les respecte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136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"/>
                <a:tabLst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Expliquer les évolutions ou les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dérogations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136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"/>
                <a:tabLst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Entendre les difficultés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rencontrées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136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"/>
                <a:tabLst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Former aux outils simples d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résolution de problè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87240" y="1500120"/>
              <a:ext cx="4148280" cy="4581720"/>
            </a:xfrm>
            <a:custGeom>
              <a:avLst/>
              <a:gdLst>
                <a:gd name="textAreaLeft" fmla="*/ 151560 w 4148280"/>
                <a:gd name="textAreaRight" fmla="*/ 3996720 w 4148280"/>
                <a:gd name="textAreaTop" fmla="*/ 151560 h 4581720"/>
                <a:gd name="textAreaBottom" fmla="*/ 4430160 h 4581720"/>
              </a:gdLst>
              <a:ahLst/>
              <a:rect l="textAreaLeft" t="textAreaTop" r="textAreaRight" b="textAreaBottom"/>
              <a:pathLst>
                <a:path w="21600" h="23857">
                  <a:moveTo>
                    <a:pt x="2697" y="0"/>
                  </a:moveTo>
                  <a:arcTo wR="2697" hR="2697" stAng="16200000" swAng="-5400000"/>
                  <a:lnTo>
                    <a:pt x="0" y="21160"/>
                  </a:lnTo>
                  <a:arcTo wR="2697" hR="2697" stAng="10800000" swAng="-5400000"/>
                  <a:lnTo>
                    <a:pt x="18903" y="23857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2200" spc="-1" strike="noStrike" u="sng">
                  <a:solidFill>
                    <a:srgbClr val="000000"/>
                  </a:solidFill>
                  <a:uFillTx/>
                  <a:latin typeface="Diego1"/>
                </a:rPr>
                <a:t>DES RISQU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136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"/>
                <a:tabLst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Une lassitude face au trop grand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nombre de priorités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136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"/>
                <a:tabLst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Une gestion technocratique du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projet sans prendre en compte les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difficultés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136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"/>
                <a:tabLst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Le manque de transparence des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réponses ou explications données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136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"/>
                <a:tabLst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L'attitude inconstante du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supérieur hiérarchique face aux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remarqu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94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s résistances au changemen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spcAft>
                <a:spcPts val="451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pilotage stratégique du chan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finir une stratégie de changement, c'est répondre à quelques questions de manière claire pour l'ensemble du corps social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ù allons nou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 inscrire le changement dans le cadre d'une vision de l'entreprise future, ses contraintes, ses marché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ù en sommes nou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forces et les faiblesses de l'entrepr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 devons nous changer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 va-t-on y gagner personnellemen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on quelles méthodes changer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94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s résistances au changemen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 pilotage opérationnel du chan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aciliter le proces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iffuser et décliner le chan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ssister et f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ég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imuler les act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alor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uivre le proces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couter et vei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valuer les résul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tici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00280" y="5562720"/>
            <a:ext cx="4705560" cy="457200"/>
          </a:xfrm>
          <a:prstGeom prst="roundRect">
            <a:avLst>
              <a:gd name="adj" fmla="val 12486"/>
            </a:avLst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ego1"/>
              </a:rPr>
              <a:t>INFORMER et COMMUNIQU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94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 gestion des situations conflictuelle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 risques de conflits dans un proj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8000" y="3935520"/>
            <a:ext cx="9145440" cy="2247480"/>
          </a:xfrm>
          <a:prstGeom prst="rect">
            <a:avLst/>
          </a:prstGeom>
          <a:solidFill>
            <a:srgbClr val="fcfeb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6160" rIns="146160" tIns="146160" bIns="14616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200000"/>
              <a:buFont typeface="Wingdings" charset="2"/>
              <a:buChar char=""/>
              <a:tabLst>
                <a:tab algn="l" pos="58752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iro"/>
                <a:ea typeface="Cairo"/>
              </a:rPr>
              <a:t>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ION  GÉNÉ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200000"/>
              <a:buFont typeface="Wingdings" charset="2"/>
              <a:buChar char=""/>
              <a:tabLst>
                <a:tab algn="l" pos="58752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iro"/>
                <a:ea typeface="Cairo"/>
              </a:rPr>
              <a:t>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ONSABLE  DE  PROJ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200000"/>
              <a:buFont typeface="Wingdings" charset="2"/>
              <a:buChar char=""/>
              <a:tabLst>
                <a:tab algn="l" pos="58752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iro"/>
                <a:ea typeface="Cairo"/>
              </a:rPr>
              <a:t>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BRES  DE  L’ÉQUIPE-PROJ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200000"/>
              <a:buFont typeface="Wingdings" charset="2"/>
              <a:buChar char=""/>
              <a:tabLst>
                <a:tab algn="l" pos="58752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iro"/>
                <a:ea typeface="Cairo"/>
              </a:rPr>
              <a:t>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ONSABLES DE CENTRES CONTRIBU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2071800"/>
            <a:ext cx="9145800" cy="1115640"/>
          </a:xfrm>
          <a:prstGeom prst="rect">
            <a:avLst/>
          </a:prstGeom>
          <a:solidFill>
            <a:srgbClr val="fcfeb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6160" rIns="146160" tIns="146160" bIns="14616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794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  Le  comportement  d’un  individu,  d’un  groupe  ou  d’une  organisation  qui  entrave  ou  restreint  (au  moins  temporairement)  l’atteinte  des  objectifs  poursuivis  par  une  autre  partie  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48440" y="1617840"/>
            <a:ext cx="1152000" cy="283320"/>
          </a:xfrm>
          <a:prstGeom prst="rect">
            <a:avLst/>
          </a:prstGeom>
          <a:solidFill>
            <a:srgbClr val="fcfeb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É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73520" y="3476520"/>
            <a:ext cx="2219040" cy="283320"/>
          </a:xfrm>
          <a:prstGeom prst="rect">
            <a:avLst/>
          </a:prstGeom>
          <a:solidFill>
            <a:srgbClr val="fcfeb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EURS  EN  CONFL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94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 gestion des situations conflictuelle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 formes de confl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49240" y="1895400"/>
            <a:ext cx="8207280" cy="4118040"/>
          </a:xfrm>
          <a:prstGeom prst="rect">
            <a:avLst/>
          </a:prstGeom>
          <a:solidFill>
            <a:srgbClr val="c0fef9"/>
          </a:solidFill>
          <a:ln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2280" rIns="152280" tIns="152280" bIns="152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spcAft>
                <a:spcPts val="624"/>
              </a:spcAft>
              <a:buClr>
                <a:srgbClr val="00279f"/>
              </a:buClr>
              <a:buSzPct val="200000"/>
              <a:buFont typeface="Wingdings" charset="2"/>
              <a:buChar char=""/>
              <a:tabLst>
                <a:tab algn="l" pos="58752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Cairo"/>
                <a:ea typeface="Cairo"/>
              </a:rPr>
              <a:t>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ISOLEMENT 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spcAft>
                <a:spcPts val="624"/>
              </a:spcAft>
              <a:buClr>
                <a:srgbClr val="00279f"/>
              </a:buClr>
              <a:buSzPct val="200000"/>
              <a:buFont typeface="Wingdings" charset="2"/>
              <a:buChar char=""/>
              <a:tabLst>
                <a:tab algn="l" pos="58752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Cairo"/>
                <a:ea typeface="Cairo"/>
              </a:rPr>
              <a:t>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PARTICIPATION  NÉGATIVE  À  LA  VIE  COLLE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spcAft>
                <a:spcPts val="624"/>
              </a:spcAft>
              <a:buClr>
                <a:srgbClr val="00279f"/>
              </a:buClr>
              <a:buSzPct val="200000"/>
              <a:buFont typeface="Wingdings" charset="2"/>
              <a:buChar char=""/>
              <a:tabLst>
                <a:tab algn="l" pos="58752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Cairo"/>
                <a:ea typeface="Cairo"/>
              </a:rPr>
              <a:t>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MANIFESTATIONS  EXTÉRIE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spcAft>
                <a:spcPts val="624"/>
              </a:spcAft>
              <a:buClr>
                <a:srgbClr val="00279f"/>
              </a:buClr>
              <a:buSzPct val="200000"/>
              <a:buFont typeface="Wingdings" charset="2"/>
              <a:buChar char=""/>
              <a:tabLst>
                <a:tab algn="l" pos="58752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Cairo"/>
                <a:ea typeface="Cairo"/>
              </a:rPr>
              <a:t>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OB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spcAft>
                <a:spcPts val="624"/>
              </a:spcAft>
              <a:buClr>
                <a:srgbClr val="00279f"/>
              </a:buClr>
              <a:buSzPct val="200000"/>
              <a:buFont typeface="Wingdings" charset="2"/>
              <a:buChar char=""/>
              <a:tabLst>
                <a:tab algn="l" pos="58752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Cairo"/>
                <a:ea typeface="Cairo"/>
              </a:rPr>
              <a:t>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FREINAGE / RÉSISTANCE  AU  CHAN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spcAft>
                <a:spcPts val="624"/>
              </a:spcAft>
              <a:buClr>
                <a:srgbClr val="00279f"/>
              </a:buClr>
              <a:buSzPct val="200000"/>
              <a:buFont typeface="Wingdings" charset="2"/>
              <a:buChar char=""/>
              <a:tabLst>
                <a:tab algn="l" pos="58752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Cairo"/>
                <a:ea typeface="Cairo"/>
              </a:rPr>
              <a:t>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CESSATION  VOLONTAIRE  ET  CONCERTÉE  DU  TRAV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94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 gestion des situations conflictuelle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nsité moyenne des principales sources de confl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836280" y="1778040"/>
            <a:ext cx="8231040" cy="4514760"/>
            <a:chOff x="836280" y="1778040"/>
            <a:chExt cx="8231040" cy="4514760"/>
          </a:xfrm>
        </p:grpSpPr>
        <p:sp>
          <p:nvSpPr>
            <p:cNvPr id="116" name=""/>
            <p:cNvSpPr/>
            <p:nvPr/>
          </p:nvSpPr>
          <p:spPr>
            <a:xfrm>
              <a:off x="882360" y="5276880"/>
              <a:ext cx="224892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nflits individuels et interpersonnel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6280" y="4970520"/>
              <a:ext cx="229464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mmunication Système d'inform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82360" y="5276880"/>
              <a:ext cx="224892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nflits individuels et interpersonnel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6280" y="4970520"/>
              <a:ext cx="229464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mmunication Système d'inform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92400" y="1778040"/>
              <a:ext cx="50760" cy="4041720"/>
            </a:xfrm>
            <a:custGeom>
              <a:avLst/>
              <a:gdLst/>
              <a:ahLst/>
              <a:rect l="l" t="t" r="r" b="b"/>
              <a:pathLst>
                <a:path w="32" h="2546">
                  <a:moveTo>
                    <a:pt x="31" y="0"/>
                  </a:moveTo>
                  <a:lnTo>
                    <a:pt x="0" y="28"/>
                  </a:lnTo>
                  <a:lnTo>
                    <a:pt x="0" y="2545"/>
                  </a:lnTo>
                  <a:lnTo>
                    <a:pt x="31" y="2518"/>
                  </a:lnTo>
                  <a:lnTo>
                    <a:pt x="31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92400" y="5783400"/>
              <a:ext cx="5740560" cy="36360"/>
            </a:xfrm>
            <a:custGeom>
              <a:avLst/>
              <a:gdLst/>
              <a:ahLst/>
              <a:rect l="l" t="t" r="r" b="b"/>
              <a:pathLst>
                <a:path w="3616" h="23">
                  <a:moveTo>
                    <a:pt x="0" y="22"/>
                  </a:moveTo>
                  <a:lnTo>
                    <a:pt x="3579" y="22"/>
                  </a:lnTo>
                  <a:lnTo>
                    <a:pt x="3615" y="0"/>
                  </a:lnTo>
                  <a:lnTo>
                    <a:pt x="36" y="0"/>
                  </a:lnTo>
                  <a:lnTo>
                    <a:pt x="0" y="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51080" y="1778040"/>
              <a:ext cx="5681880" cy="4000320"/>
            </a:xfrm>
            <a:custGeom>
              <a:avLst/>
              <a:gdLst/>
              <a:ahLst/>
              <a:rect l="l" t="t" r="r" b="b"/>
              <a:pathLst>
                <a:path w="3579" h="2520">
                  <a:moveTo>
                    <a:pt x="0" y="2519"/>
                  </a:moveTo>
                  <a:lnTo>
                    <a:pt x="3578" y="2519"/>
                  </a:lnTo>
                  <a:lnTo>
                    <a:pt x="3578" y="0"/>
                  </a:lnTo>
                  <a:lnTo>
                    <a:pt x="0" y="0"/>
                  </a:lnTo>
                  <a:lnTo>
                    <a:pt x="0" y="251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092400" y="1778040"/>
              <a:ext cx="60480" cy="4051440"/>
            </a:xfrm>
            <a:custGeom>
              <a:avLst/>
              <a:gdLst/>
              <a:ahLst/>
              <a:rect l="l" t="t" r="r" b="b"/>
              <a:pathLst>
                <a:path w="38" h="2552">
                  <a:moveTo>
                    <a:pt x="37" y="0"/>
                  </a:moveTo>
                  <a:lnTo>
                    <a:pt x="0" y="28"/>
                  </a:lnTo>
                  <a:lnTo>
                    <a:pt x="0" y="2551"/>
                  </a:lnTo>
                  <a:lnTo>
                    <a:pt x="37" y="2524"/>
                  </a:lnTo>
                  <a:lnTo>
                    <a:pt x="3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92400" y="5783400"/>
              <a:ext cx="5748480" cy="46080"/>
            </a:xfrm>
            <a:custGeom>
              <a:avLst/>
              <a:gdLst/>
              <a:ahLst/>
              <a:rect l="l" t="t" r="r" b="b"/>
              <a:pathLst>
                <a:path w="3621" h="29">
                  <a:moveTo>
                    <a:pt x="0" y="28"/>
                  </a:moveTo>
                  <a:lnTo>
                    <a:pt x="3584" y="28"/>
                  </a:lnTo>
                  <a:lnTo>
                    <a:pt x="3620" y="0"/>
                  </a:lnTo>
                  <a:lnTo>
                    <a:pt x="36" y="0"/>
                  </a:lnTo>
                  <a:lnTo>
                    <a:pt x="0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51080" y="1778040"/>
              <a:ext cx="5689800" cy="4006800"/>
            </a:xfrm>
            <a:custGeom>
              <a:avLst/>
              <a:gdLst/>
              <a:ahLst/>
              <a:rect l="l" t="t" r="r" b="b"/>
              <a:pathLst>
                <a:path w="3584" h="2524">
                  <a:moveTo>
                    <a:pt x="0" y="2523"/>
                  </a:moveTo>
                  <a:lnTo>
                    <a:pt x="3583" y="2523"/>
                  </a:lnTo>
                  <a:lnTo>
                    <a:pt x="3583" y="0"/>
                  </a:lnTo>
                  <a:lnTo>
                    <a:pt x="0" y="0"/>
                  </a:lnTo>
                  <a:lnTo>
                    <a:pt x="0" y="25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3092400" y="1823760"/>
              <a:ext cx="0" cy="400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3011040" y="582768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3011040" y="551808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3011040" y="521028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011040" y="490392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3011040" y="459576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011040" y="428796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011040" y="397980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011040" y="367020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011040" y="336384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011040" y="305424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3011040" y="274644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3011040" y="243828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011040" y="213048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011040" y="182412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20160" y="5586480"/>
              <a:ext cx="128448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riorités et Objectif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41560" y="4662360"/>
              <a:ext cx="105876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Jeux d'influen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448640" y="4356000"/>
              <a:ext cx="166860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rocédures administrativ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70920" y="4046400"/>
              <a:ext cx="216072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llocation des ressources humain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47480" y="3738600"/>
              <a:ext cx="84564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lanific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17680" y="3430440"/>
              <a:ext cx="77544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eadershi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45000" y="3121200"/>
              <a:ext cx="126000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</a:rPr>
                <a:t>Ambigüité des rô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04480" y="2813040"/>
              <a:ext cx="202032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espect des coûts et des budge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71080" y="2505240"/>
              <a:ext cx="195048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adaptation système motiv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40960" y="2197080"/>
              <a:ext cx="136980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xigences techniqu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54960" y="1890720"/>
              <a:ext cx="186516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nflits antérieurs non-résolu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92400" y="5546880"/>
              <a:ext cx="5465880" cy="44280"/>
            </a:xfrm>
            <a:custGeom>
              <a:avLst/>
              <a:gdLst/>
              <a:ahLst/>
              <a:rect l="l" t="t" r="r" b="b"/>
              <a:pathLst>
                <a:path w="3443" h="28">
                  <a:moveTo>
                    <a:pt x="36" y="0"/>
                  </a:moveTo>
                  <a:lnTo>
                    <a:pt x="3442" y="0"/>
                  </a:lnTo>
                  <a:lnTo>
                    <a:pt x="3405" y="27"/>
                  </a:lnTo>
                  <a:lnTo>
                    <a:pt x="0" y="27"/>
                  </a:lnTo>
                  <a:lnTo>
                    <a:pt x="36" y="0"/>
                  </a:lnTo>
                </a:path>
              </a:pathLst>
            </a:custGeom>
            <a:solidFill>
              <a:srgbClr val="90909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92400" y="5589720"/>
              <a:ext cx="5407200" cy="169560"/>
            </a:xfrm>
            <a:custGeom>
              <a:avLst/>
              <a:gdLst/>
              <a:ahLst/>
              <a:rect l="l" t="t" r="r" b="b"/>
              <a:pathLst>
                <a:path w="3406" h="107">
                  <a:moveTo>
                    <a:pt x="0" y="0"/>
                  </a:moveTo>
                  <a:lnTo>
                    <a:pt x="3405" y="0"/>
                  </a:lnTo>
                  <a:lnTo>
                    <a:pt x="3405" y="106"/>
                  </a:lnTo>
                  <a:lnTo>
                    <a:pt x="0" y="106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497800" y="5546880"/>
              <a:ext cx="60480" cy="212400"/>
            </a:xfrm>
            <a:custGeom>
              <a:avLst/>
              <a:gdLst/>
              <a:ahLst/>
              <a:rect l="l" t="t" r="r" b="b"/>
              <a:pathLst>
                <a:path w="38" h="134">
                  <a:moveTo>
                    <a:pt x="37" y="0"/>
                  </a:moveTo>
                  <a:lnTo>
                    <a:pt x="0" y="28"/>
                  </a:lnTo>
                  <a:lnTo>
                    <a:pt x="0" y="133"/>
                  </a:lnTo>
                  <a:lnTo>
                    <a:pt x="37" y="106"/>
                  </a:lnTo>
                  <a:lnTo>
                    <a:pt x="37" y="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92400" y="5238720"/>
              <a:ext cx="3473640" cy="42840"/>
            </a:xfrm>
            <a:custGeom>
              <a:avLst/>
              <a:gdLst/>
              <a:ahLst/>
              <a:rect l="l" t="t" r="r" b="b"/>
              <a:pathLst>
                <a:path w="2188" h="27">
                  <a:moveTo>
                    <a:pt x="36" y="0"/>
                  </a:moveTo>
                  <a:lnTo>
                    <a:pt x="2187" y="0"/>
                  </a:lnTo>
                  <a:lnTo>
                    <a:pt x="2151" y="26"/>
                  </a:lnTo>
                  <a:lnTo>
                    <a:pt x="0" y="26"/>
                  </a:lnTo>
                  <a:lnTo>
                    <a:pt x="36" y="0"/>
                  </a:lnTo>
                </a:path>
              </a:pathLst>
            </a:custGeom>
            <a:solidFill>
              <a:srgbClr val="90909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2400" y="5280120"/>
              <a:ext cx="3416400" cy="169920"/>
            </a:xfrm>
            <a:custGeom>
              <a:avLst/>
              <a:gdLst/>
              <a:ahLst/>
              <a:rect l="l" t="t" r="r" b="b"/>
              <a:pathLst>
                <a:path w="2152" h="107">
                  <a:moveTo>
                    <a:pt x="0" y="0"/>
                  </a:moveTo>
                  <a:lnTo>
                    <a:pt x="2151" y="0"/>
                  </a:lnTo>
                  <a:lnTo>
                    <a:pt x="2151" y="106"/>
                  </a:lnTo>
                  <a:lnTo>
                    <a:pt x="0" y="106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07000" y="5238720"/>
              <a:ext cx="59040" cy="211320"/>
            </a:xfrm>
            <a:custGeom>
              <a:avLst/>
              <a:gdLst/>
              <a:ahLst/>
              <a:rect l="l" t="t" r="r" b="b"/>
              <a:pathLst>
                <a:path w="37" h="133">
                  <a:moveTo>
                    <a:pt x="36" y="0"/>
                  </a:moveTo>
                  <a:lnTo>
                    <a:pt x="0" y="27"/>
                  </a:lnTo>
                  <a:lnTo>
                    <a:pt x="0" y="132"/>
                  </a:lnTo>
                  <a:lnTo>
                    <a:pt x="36" y="105"/>
                  </a:lnTo>
                  <a:lnTo>
                    <a:pt x="36" y="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2400" y="4929120"/>
              <a:ext cx="3473640" cy="46080"/>
            </a:xfrm>
            <a:custGeom>
              <a:avLst/>
              <a:gdLst/>
              <a:ahLst/>
              <a:rect l="l" t="t" r="r" b="b"/>
              <a:pathLst>
                <a:path w="2188" h="29">
                  <a:moveTo>
                    <a:pt x="36" y="0"/>
                  </a:moveTo>
                  <a:lnTo>
                    <a:pt x="2187" y="0"/>
                  </a:lnTo>
                  <a:lnTo>
                    <a:pt x="2151" y="28"/>
                  </a:lnTo>
                  <a:lnTo>
                    <a:pt x="0" y="28"/>
                  </a:lnTo>
                  <a:lnTo>
                    <a:pt x="36" y="0"/>
                  </a:lnTo>
                </a:path>
              </a:pathLst>
            </a:custGeom>
            <a:solidFill>
              <a:srgbClr val="90909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92400" y="4973760"/>
              <a:ext cx="3416400" cy="168120"/>
            </a:xfrm>
            <a:custGeom>
              <a:avLst/>
              <a:gdLst/>
              <a:ahLst/>
              <a:rect l="l" t="t" r="r" b="b"/>
              <a:pathLst>
                <a:path w="2152" h="106">
                  <a:moveTo>
                    <a:pt x="0" y="0"/>
                  </a:moveTo>
                  <a:lnTo>
                    <a:pt x="2151" y="0"/>
                  </a:lnTo>
                  <a:lnTo>
                    <a:pt x="2151" y="105"/>
                  </a:lnTo>
                  <a:lnTo>
                    <a:pt x="0" y="105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07000" y="4929120"/>
              <a:ext cx="59040" cy="212760"/>
            </a:xfrm>
            <a:custGeom>
              <a:avLst/>
              <a:gdLst/>
              <a:ahLst/>
              <a:rect l="l" t="t" r="r" b="b"/>
              <a:pathLst>
                <a:path w="37" h="134">
                  <a:moveTo>
                    <a:pt x="36" y="0"/>
                  </a:moveTo>
                  <a:lnTo>
                    <a:pt x="0" y="28"/>
                  </a:lnTo>
                  <a:lnTo>
                    <a:pt x="0" y="133"/>
                  </a:lnTo>
                  <a:lnTo>
                    <a:pt x="36" y="106"/>
                  </a:lnTo>
                  <a:lnTo>
                    <a:pt x="36" y="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92400" y="4622760"/>
              <a:ext cx="1908360" cy="44640"/>
            </a:xfrm>
            <a:custGeom>
              <a:avLst/>
              <a:gdLst/>
              <a:ahLst/>
              <a:rect l="l" t="t" r="r" b="b"/>
              <a:pathLst>
                <a:path w="1202" h="28">
                  <a:moveTo>
                    <a:pt x="36" y="0"/>
                  </a:moveTo>
                  <a:lnTo>
                    <a:pt x="1201" y="0"/>
                  </a:lnTo>
                  <a:lnTo>
                    <a:pt x="1164" y="27"/>
                  </a:lnTo>
                  <a:lnTo>
                    <a:pt x="0" y="27"/>
                  </a:lnTo>
                  <a:lnTo>
                    <a:pt x="36" y="0"/>
                  </a:lnTo>
                </a:path>
              </a:pathLst>
            </a:custGeom>
            <a:solidFill>
              <a:srgbClr val="90909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92400" y="4665600"/>
              <a:ext cx="1851120" cy="169920"/>
            </a:xfrm>
            <a:custGeom>
              <a:avLst/>
              <a:gdLst/>
              <a:ahLst/>
              <a:rect l="l" t="t" r="r" b="b"/>
              <a:pathLst>
                <a:path w="1166" h="107">
                  <a:moveTo>
                    <a:pt x="0" y="0"/>
                  </a:moveTo>
                  <a:lnTo>
                    <a:pt x="1165" y="0"/>
                  </a:lnTo>
                  <a:lnTo>
                    <a:pt x="1165" y="106"/>
                  </a:lnTo>
                  <a:lnTo>
                    <a:pt x="0" y="106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41720" y="4622760"/>
              <a:ext cx="59040" cy="212760"/>
            </a:xfrm>
            <a:custGeom>
              <a:avLst/>
              <a:gdLst/>
              <a:ahLst/>
              <a:rect l="l" t="t" r="r" b="b"/>
              <a:pathLst>
                <a:path w="37" h="134">
                  <a:moveTo>
                    <a:pt x="36" y="0"/>
                  </a:moveTo>
                  <a:lnTo>
                    <a:pt x="0" y="27"/>
                  </a:lnTo>
                  <a:lnTo>
                    <a:pt x="0" y="133"/>
                  </a:lnTo>
                  <a:lnTo>
                    <a:pt x="36" y="106"/>
                  </a:lnTo>
                  <a:lnTo>
                    <a:pt x="36" y="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92400" y="4313160"/>
              <a:ext cx="1908360" cy="46080"/>
            </a:xfrm>
            <a:custGeom>
              <a:avLst/>
              <a:gdLst/>
              <a:ahLst/>
              <a:rect l="l" t="t" r="r" b="b"/>
              <a:pathLst>
                <a:path w="1202" h="29">
                  <a:moveTo>
                    <a:pt x="36" y="0"/>
                  </a:moveTo>
                  <a:lnTo>
                    <a:pt x="1201" y="0"/>
                  </a:lnTo>
                  <a:lnTo>
                    <a:pt x="1164" y="28"/>
                  </a:lnTo>
                  <a:lnTo>
                    <a:pt x="0" y="28"/>
                  </a:lnTo>
                  <a:lnTo>
                    <a:pt x="36" y="0"/>
                  </a:lnTo>
                </a:path>
              </a:pathLst>
            </a:custGeom>
            <a:solidFill>
              <a:srgbClr val="90909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92400" y="4357800"/>
              <a:ext cx="1851120" cy="168120"/>
            </a:xfrm>
            <a:custGeom>
              <a:avLst/>
              <a:gdLst/>
              <a:ahLst/>
              <a:rect l="l" t="t" r="r" b="b"/>
              <a:pathLst>
                <a:path w="1166" h="106">
                  <a:moveTo>
                    <a:pt x="0" y="0"/>
                  </a:moveTo>
                  <a:lnTo>
                    <a:pt x="1165" y="0"/>
                  </a:lnTo>
                  <a:lnTo>
                    <a:pt x="1165" y="105"/>
                  </a:lnTo>
                  <a:lnTo>
                    <a:pt x="0" y="105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41720" y="4313160"/>
              <a:ext cx="59040" cy="212760"/>
            </a:xfrm>
            <a:custGeom>
              <a:avLst/>
              <a:gdLst/>
              <a:ahLst/>
              <a:rect l="l" t="t" r="r" b="b"/>
              <a:pathLst>
                <a:path w="37" h="134">
                  <a:moveTo>
                    <a:pt x="36" y="0"/>
                  </a:moveTo>
                  <a:lnTo>
                    <a:pt x="0" y="27"/>
                  </a:lnTo>
                  <a:lnTo>
                    <a:pt x="0" y="133"/>
                  </a:lnTo>
                  <a:lnTo>
                    <a:pt x="36" y="107"/>
                  </a:lnTo>
                  <a:lnTo>
                    <a:pt x="36" y="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92400" y="4003560"/>
              <a:ext cx="1623960" cy="47880"/>
            </a:xfrm>
            <a:custGeom>
              <a:avLst/>
              <a:gdLst/>
              <a:ahLst/>
              <a:rect l="l" t="t" r="r" b="b"/>
              <a:pathLst>
                <a:path w="1023" h="30">
                  <a:moveTo>
                    <a:pt x="36" y="0"/>
                  </a:moveTo>
                  <a:lnTo>
                    <a:pt x="1022" y="0"/>
                  </a:lnTo>
                  <a:lnTo>
                    <a:pt x="986" y="29"/>
                  </a:lnTo>
                  <a:lnTo>
                    <a:pt x="0" y="29"/>
                  </a:lnTo>
                  <a:lnTo>
                    <a:pt x="36" y="0"/>
                  </a:lnTo>
                </a:path>
              </a:pathLst>
            </a:custGeom>
            <a:solidFill>
              <a:srgbClr val="90909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92400" y="4049640"/>
              <a:ext cx="1567080" cy="169920"/>
            </a:xfrm>
            <a:custGeom>
              <a:avLst/>
              <a:gdLst/>
              <a:ahLst/>
              <a:rect l="l" t="t" r="r" b="b"/>
              <a:pathLst>
                <a:path w="987" h="107">
                  <a:moveTo>
                    <a:pt x="0" y="0"/>
                  </a:moveTo>
                  <a:lnTo>
                    <a:pt x="986" y="0"/>
                  </a:lnTo>
                  <a:lnTo>
                    <a:pt x="986" y="106"/>
                  </a:lnTo>
                  <a:lnTo>
                    <a:pt x="0" y="106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57680" y="4003560"/>
              <a:ext cx="58680" cy="216000"/>
            </a:xfrm>
            <a:custGeom>
              <a:avLst/>
              <a:gdLst/>
              <a:ahLst/>
              <a:rect l="l" t="t" r="r" b="b"/>
              <a:pathLst>
                <a:path w="37" h="136">
                  <a:moveTo>
                    <a:pt x="36" y="0"/>
                  </a:moveTo>
                  <a:lnTo>
                    <a:pt x="0" y="28"/>
                  </a:lnTo>
                  <a:lnTo>
                    <a:pt x="0" y="135"/>
                  </a:lnTo>
                  <a:lnTo>
                    <a:pt x="36" y="107"/>
                  </a:lnTo>
                  <a:lnTo>
                    <a:pt x="36" y="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92400" y="3697200"/>
              <a:ext cx="1482840" cy="44640"/>
            </a:xfrm>
            <a:custGeom>
              <a:avLst/>
              <a:gdLst/>
              <a:ahLst/>
              <a:rect l="l" t="t" r="r" b="b"/>
              <a:pathLst>
                <a:path w="934" h="28">
                  <a:moveTo>
                    <a:pt x="36" y="0"/>
                  </a:moveTo>
                  <a:lnTo>
                    <a:pt x="933" y="0"/>
                  </a:lnTo>
                  <a:lnTo>
                    <a:pt x="897" y="27"/>
                  </a:lnTo>
                  <a:lnTo>
                    <a:pt x="0" y="27"/>
                  </a:lnTo>
                  <a:lnTo>
                    <a:pt x="36" y="0"/>
                  </a:lnTo>
                </a:path>
              </a:pathLst>
            </a:custGeom>
            <a:solidFill>
              <a:srgbClr val="90909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92400" y="3740040"/>
              <a:ext cx="1425600" cy="169920"/>
            </a:xfrm>
            <a:custGeom>
              <a:avLst/>
              <a:gdLst/>
              <a:ahLst/>
              <a:rect l="l" t="t" r="r" b="b"/>
              <a:pathLst>
                <a:path w="898" h="107">
                  <a:moveTo>
                    <a:pt x="0" y="0"/>
                  </a:moveTo>
                  <a:lnTo>
                    <a:pt x="897" y="0"/>
                  </a:lnTo>
                  <a:lnTo>
                    <a:pt x="897" y="106"/>
                  </a:lnTo>
                  <a:lnTo>
                    <a:pt x="0" y="106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16560" y="3697200"/>
              <a:ext cx="58680" cy="212760"/>
            </a:xfrm>
            <a:custGeom>
              <a:avLst/>
              <a:gdLst/>
              <a:ahLst/>
              <a:rect l="l" t="t" r="r" b="b"/>
              <a:pathLst>
                <a:path w="37" h="134">
                  <a:moveTo>
                    <a:pt x="36" y="0"/>
                  </a:moveTo>
                  <a:lnTo>
                    <a:pt x="0" y="27"/>
                  </a:lnTo>
                  <a:lnTo>
                    <a:pt x="0" y="133"/>
                  </a:lnTo>
                  <a:lnTo>
                    <a:pt x="36" y="106"/>
                  </a:lnTo>
                  <a:lnTo>
                    <a:pt x="36" y="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92400" y="3387600"/>
              <a:ext cx="1339920" cy="47880"/>
            </a:xfrm>
            <a:custGeom>
              <a:avLst/>
              <a:gdLst/>
              <a:ahLst/>
              <a:rect l="l" t="t" r="r" b="b"/>
              <a:pathLst>
                <a:path w="844" h="30">
                  <a:moveTo>
                    <a:pt x="36" y="0"/>
                  </a:moveTo>
                  <a:lnTo>
                    <a:pt x="843" y="0"/>
                  </a:lnTo>
                  <a:lnTo>
                    <a:pt x="807" y="29"/>
                  </a:lnTo>
                  <a:lnTo>
                    <a:pt x="0" y="29"/>
                  </a:lnTo>
                  <a:lnTo>
                    <a:pt x="36" y="0"/>
                  </a:lnTo>
                </a:path>
              </a:pathLst>
            </a:custGeom>
            <a:solidFill>
              <a:srgbClr val="90909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92400" y="3433680"/>
              <a:ext cx="1281240" cy="168480"/>
            </a:xfrm>
            <a:custGeom>
              <a:avLst/>
              <a:gdLst/>
              <a:ahLst/>
              <a:rect l="l" t="t" r="r" b="b"/>
              <a:pathLst>
                <a:path w="807" h="106">
                  <a:moveTo>
                    <a:pt x="0" y="0"/>
                  </a:moveTo>
                  <a:lnTo>
                    <a:pt x="806" y="0"/>
                  </a:lnTo>
                  <a:lnTo>
                    <a:pt x="806" y="105"/>
                  </a:lnTo>
                  <a:lnTo>
                    <a:pt x="0" y="105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371840" y="3387600"/>
              <a:ext cx="60480" cy="214560"/>
            </a:xfrm>
            <a:custGeom>
              <a:avLst/>
              <a:gdLst/>
              <a:ahLst/>
              <a:rect l="l" t="t" r="r" b="b"/>
              <a:pathLst>
                <a:path w="38" h="135">
                  <a:moveTo>
                    <a:pt x="37" y="0"/>
                  </a:moveTo>
                  <a:lnTo>
                    <a:pt x="0" y="28"/>
                  </a:lnTo>
                  <a:lnTo>
                    <a:pt x="0" y="134"/>
                  </a:lnTo>
                  <a:lnTo>
                    <a:pt x="37" y="107"/>
                  </a:lnTo>
                  <a:lnTo>
                    <a:pt x="37" y="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92400" y="3081240"/>
              <a:ext cx="628560" cy="44640"/>
            </a:xfrm>
            <a:custGeom>
              <a:avLst/>
              <a:gdLst/>
              <a:ahLst/>
              <a:rect l="l" t="t" r="r" b="b"/>
              <a:pathLst>
                <a:path w="396" h="28">
                  <a:moveTo>
                    <a:pt x="36" y="0"/>
                  </a:moveTo>
                  <a:lnTo>
                    <a:pt x="395" y="0"/>
                  </a:lnTo>
                  <a:lnTo>
                    <a:pt x="359" y="27"/>
                  </a:lnTo>
                  <a:lnTo>
                    <a:pt x="0" y="27"/>
                  </a:lnTo>
                  <a:lnTo>
                    <a:pt x="36" y="0"/>
                  </a:lnTo>
                </a:path>
              </a:pathLst>
            </a:custGeom>
            <a:solidFill>
              <a:srgbClr val="90909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92400" y="3124080"/>
              <a:ext cx="571680" cy="169920"/>
            </a:xfrm>
            <a:custGeom>
              <a:avLst/>
              <a:gdLst/>
              <a:ahLst/>
              <a:rect l="l" t="t" r="r" b="b"/>
              <a:pathLst>
                <a:path w="360" h="107">
                  <a:moveTo>
                    <a:pt x="0" y="0"/>
                  </a:moveTo>
                  <a:lnTo>
                    <a:pt x="359" y="0"/>
                  </a:lnTo>
                  <a:lnTo>
                    <a:pt x="359" y="106"/>
                  </a:lnTo>
                  <a:lnTo>
                    <a:pt x="0" y="106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62280" y="3081240"/>
              <a:ext cx="58680" cy="212760"/>
            </a:xfrm>
            <a:custGeom>
              <a:avLst/>
              <a:gdLst/>
              <a:ahLst/>
              <a:rect l="l" t="t" r="r" b="b"/>
              <a:pathLst>
                <a:path w="37" h="134">
                  <a:moveTo>
                    <a:pt x="36" y="0"/>
                  </a:moveTo>
                  <a:lnTo>
                    <a:pt x="0" y="27"/>
                  </a:lnTo>
                  <a:lnTo>
                    <a:pt x="0" y="133"/>
                  </a:lnTo>
                  <a:lnTo>
                    <a:pt x="36" y="106"/>
                  </a:lnTo>
                  <a:lnTo>
                    <a:pt x="36" y="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92400" y="2773440"/>
              <a:ext cx="628560" cy="42840"/>
            </a:xfrm>
            <a:custGeom>
              <a:avLst/>
              <a:gdLst/>
              <a:ahLst/>
              <a:rect l="l" t="t" r="r" b="b"/>
              <a:pathLst>
                <a:path w="396" h="27">
                  <a:moveTo>
                    <a:pt x="36" y="0"/>
                  </a:moveTo>
                  <a:lnTo>
                    <a:pt x="395" y="0"/>
                  </a:lnTo>
                  <a:lnTo>
                    <a:pt x="359" y="26"/>
                  </a:lnTo>
                  <a:lnTo>
                    <a:pt x="0" y="26"/>
                  </a:lnTo>
                  <a:lnTo>
                    <a:pt x="36" y="0"/>
                  </a:lnTo>
                </a:path>
              </a:pathLst>
            </a:custGeom>
            <a:solidFill>
              <a:srgbClr val="90909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92400" y="2814480"/>
              <a:ext cx="571680" cy="171720"/>
            </a:xfrm>
            <a:custGeom>
              <a:avLst/>
              <a:gdLst/>
              <a:ahLst/>
              <a:rect l="l" t="t" r="r" b="b"/>
              <a:pathLst>
                <a:path w="360" h="108">
                  <a:moveTo>
                    <a:pt x="0" y="0"/>
                  </a:moveTo>
                  <a:lnTo>
                    <a:pt x="359" y="0"/>
                  </a:lnTo>
                  <a:lnTo>
                    <a:pt x="359" y="107"/>
                  </a:lnTo>
                  <a:lnTo>
                    <a:pt x="0" y="107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62280" y="2773440"/>
              <a:ext cx="58680" cy="212760"/>
            </a:xfrm>
            <a:custGeom>
              <a:avLst/>
              <a:gdLst/>
              <a:ahLst/>
              <a:rect l="l" t="t" r="r" b="b"/>
              <a:pathLst>
                <a:path w="37" h="134">
                  <a:moveTo>
                    <a:pt x="36" y="0"/>
                  </a:moveTo>
                  <a:lnTo>
                    <a:pt x="0" y="27"/>
                  </a:lnTo>
                  <a:lnTo>
                    <a:pt x="0" y="133"/>
                  </a:lnTo>
                  <a:lnTo>
                    <a:pt x="36" y="106"/>
                  </a:lnTo>
                  <a:lnTo>
                    <a:pt x="36" y="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92400" y="2465280"/>
              <a:ext cx="628560" cy="44640"/>
            </a:xfrm>
            <a:custGeom>
              <a:avLst/>
              <a:gdLst/>
              <a:ahLst/>
              <a:rect l="l" t="t" r="r" b="b"/>
              <a:pathLst>
                <a:path w="396" h="28">
                  <a:moveTo>
                    <a:pt x="36" y="0"/>
                  </a:moveTo>
                  <a:lnTo>
                    <a:pt x="395" y="0"/>
                  </a:lnTo>
                  <a:lnTo>
                    <a:pt x="359" y="27"/>
                  </a:lnTo>
                  <a:lnTo>
                    <a:pt x="0" y="27"/>
                  </a:lnTo>
                  <a:lnTo>
                    <a:pt x="36" y="0"/>
                  </a:lnTo>
                </a:path>
              </a:pathLst>
            </a:custGeom>
            <a:solidFill>
              <a:srgbClr val="90909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92400" y="2508120"/>
              <a:ext cx="571680" cy="168480"/>
            </a:xfrm>
            <a:custGeom>
              <a:avLst/>
              <a:gdLst/>
              <a:ahLst/>
              <a:rect l="l" t="t" r="r" b="b"/>
              <a:pathLst>
                <a:path w="360" h="106">
                  <a:moveTo>
                    <a:pt x="0" y="0"/>
                  </a:moveTo>
                  <a:lnTo>
                    <a:pt x="359" y="0"/>
                  </a:lnTo>
                  <a:lnTo>
                    <a:pt x="359" y="105"/>
                  </a:lnTo>
                  <a:lnTo>
                    <a:pt x="0" y="105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62280" y="2465280"/>
              <a:ext cx="58680" cy="211320"/>
            </a:xfrm>
            <a:custGeom>
              <a:avLst/>
              <a:gdLst/>
              <a:ahLst/>
              <a:rect l="l" t="t" r="r" b="b"/>
              <a:pathLst>
                <a:path w="37" h="133">
                  <a:moveTo>
                    <a:pt x="36" y="0"/>
                  </a:moveTo>
                  <a:lnTo>
                    <a:pt x="0" y="27"/>
                  </a:lnTo>
                  <a:lnTo>
                    <a:pt x="0" y="132"/>
                  </a:lnTo>
                  <a:lnTo>
                    <a:pt x="36" y="105"/>
                  </a:lnTo>
                  <a:lnTo>
                    <a:pt x="36" y="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92400" y="2157480"/>
              <a:ext cx="486000" cy="44280"/>
            </a:xfrm>
            <a:custGeom>
              <a:avLst/>
              <a:gdLst/>
              <a:ahLst/>
              <a:rect l="l" t="t" r="r" b="b"/>
              <a:pathLst>
                <a:path w="306" h="28">
                  <a:moveTo>
                    <a:pt x="36" y="0"/>
                  </a:moveTo>
                  <a:lnTo>
                    <a:pt x="305" y="0"/>
                  </a:lnTo>
                  <a:lnTo>
                    <a:pt x="269" y="27"/>
                  </a:lnTo>
                  <a:lnTo>
                    <a:pt x="0" y="27"/>
                  </a:lnTo>
                  <a:lnTo>
                    <a:pt x="36" y="0"/>
                  </a:lnTo>
                </a:path>
              </a:pathLst>
            </a:custGeom>
            <a:solidFill>
              <a:srgbClr val="90909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2400" y="2200320"/>
              <a:ext cx="428760" cy="169920"/>
            </a:xfrm>
            <a:custGeom>
              <a:avLst/>
              <a:gdLst/>
              <a:ahLst/>
              <a:rect l="l" t="t" r="r" b="b"/>
              <a:pathLst>
                <a:path w="270" h="107">
                  <a:moveTo>
                    <a:pt x="0" y="0"/>
                  </a:moveTo>
                  <a:lnTo>
                    <a:pt x="269" y="0"/>
                  </a:lnTo>
                  <a:lnTo>
                    <a:pt x="269" y="106"/>
                  </a:lnTo>
                  <a:lnTo>
                    <a:pt x="0" y="106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19360" y="2157480"/>
              <a:ext cx="59040" cy="212760"/>
            </a:xfrm>
            <a:custGeom>
              <a:avLst/>
              <a:gdLst/>
              <a:ahLst/>
              <a:rect l="l" t="t" r="r" b="b"/>
              <a:pathLst>
                <a:path w="37" h="134">
                  <a:moveTo>
                    <a:pt x="36" y="0"/>
                  </a:moveTo>
                  <a:lnTo>
                    <a:pt x="0" y="27"/>
                  </a:lnTo>
                  <a:lnTo>
                    <a:pt x="0" y="133"/>
                  </a:lnTo>
                  <a:lnTo>
                    <a:pt x="36" y="106"/>
                  </a:lnTo>
                  <a:lnTo>
                    <a:pt x="36" y="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92400" y="1847880"/>
              <a:ext cx="486000" cy="47520"/>
            </a:xfrm>
            <a:custGeom>
              <a:avLst/>
              <a:gdLst/>
              <a:ahLst/>
              <a:rect l="l" t="t" r="r" b="b"/>
              <a:pathLst>
                <a:path w="306" h="30">
                  <a:moveTo>
                    <a:pt x="36" y="0"/>
                  </a:moveTo>
                  <a:lnTo>
                    <a:pt x="305" y="0"/>
                  </a:lnTo>
                  <a:lnTo>
                    <a:pt x="269" y="29"/>
                  </a:lnTo>
                  <a:lnTo>
                    <a:pt x="0" y="29"/>
                  </a:lnTo>
                  <a:lnTo>
                    <a:pt x="36" y="0"/>
                  </a:lnTo>
                </a:path>
              </a:pathLst>
            </a:custGeom>
            <a:solidFill>
              <a:srgbClr val="90909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92400" y="1893960"/>
              <a:ext cx="428760" cy="168120"/>
            </a:xfrm>
            <a:custGeom>
              <a:avLst/>
              <a:gdLst/>
              <a:ahLst/>
              <a:rect l="l" t="t" r="r" b="b"/>
              <a:pathLst>
                <a:path w="270" h="106">
                  <a:moveTo>
                    <a:pt x="0" y="0"/>
                  </a:moveTo>
                  <a:lnTo>
                    <a:pt x="269" y="0"/>
                  </a:lnTo>
                  <a:lnTo>
                    <a:pt x="269" y="105"/>
                  </a:lnTo>
                  <a:lnTo>
                    <a:pt x="0" y="105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19360" y="1847880"/>
              <a:ext cx="59040" cy="214200"/>
            </a:xfrm>
            <a:custGeom>
              <a:avLst/>
              <a:gdLst/>
              <a:ahLst/>
              <a:rect l="l" t="t" r="r" b="b"/>
              <a:pathLst>
                <a:path w="37" h="135">
                  <a:moveTo>
                    <a:pt x="36" y="0"/>
                  </a:moveTo>
                  <a:lnTo>
                    <a:pt x="0" y="28"/>
                  </a:lnTo>
                  <a:lnTo>
                    <a:pt x="0" y="134"/>
                  </a:lnTo>
                  <a:lnTo>
                    <a:pt x="36" y="107"/>
                  </a:lnTo>
                  <a:lnTo>
                    <a:pt x="36" y="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92400" y="5827680"/>
              <a:ext cx="568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92400" y="5827680"/>
              <a:ext cx="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516560" y="5827680"/>
              <a:ext cx="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37120" y="5827680"/>
              <a:ext cx="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59480" y="5827680"/>
              <a:ext cx="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82200" y="5827680"/>
              <a:ext cx="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955600" y="5985000"/>
              <a:ext cx="2692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66360" y="5985000"/>
              <a:ext cx="4827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633280" y="5985000"/>
              <a:ext cx="5893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57080" y="5985000"/>
              <a:ext cx="5893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478000" y="5985000"/>
              <a:ext cx="5893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3092400" y="1823760"/>
              <a:ext cx="0" cy="400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3011040" y="582768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3011040" y="551808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3011040" y="521028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3011040" y="490392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3011040" y="459576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3011040" y="428796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3011040" y="397980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3011040" y="367020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3011040" y="336384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3011040" y="305424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3011040" y="274644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3011040" y="243828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3011040" y="213048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3011040" y="1824120"/>
              <a:ext cx="8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20160" y="5586480"/>
              <a:ext cx="128448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riorités et Objectif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041560" y="4662360"/>
              <a:ext cx="105876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Jeux d'influen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48640" y="4356000"/>
              <a:ext cx="166860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rocédures administrativ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70920" y="4046400"/>
              <a:ext cx="216072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llocation des ressources humain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47480" y="3738600"/>
              <a:ext cx="84564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lanific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317680" y="3430440"/>
              <a:ext cx="77544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eadershi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845000" y="3121200"/>
              <a:ext cx="126000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mbiguïté des rô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04480" y="2813040"/>
              <a:ext cx="202032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espect des coûts et des budge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71080" y="2505240"/>
              <a:ext cx="195048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adaptation système motiv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40960" y="2197080"/>
              <a:ext cx="136980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xigences techniqu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54960" y="1890720"/>
              <a:ext cx="186516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nflits antérieurs non-résolu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94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 gestion des situations conflictuelle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rces de conflits quant à la planification du proj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pluralité de perceptions du te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 la difficulté à partager entre les différents acteurs le temps alloué au proj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variation du niveau de détail le plus perti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 analyser et procéder au découpage temporel du proj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nécessité d'établir une planification plus ou moins détaillée du projet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rallongement de la durée du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 la remise en cause des engagements contractés par les responsables de tâch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différence du niveau de responsabili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e le responsable du projet et les responsables de tâch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94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 gestion des situations conflictuelle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500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rces de conflits quant aux priorités et aux objectifs assignés au proj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divergences d'intérêts et d'objecti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 d'achèvement trop optimis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dget affecté insuffisa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écifications techniques trop ambitieuses,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manque de clarté et d'affichage des objectifs du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'interprétation différente des objectifs du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'absence de définition et d'affichage par la hiérarchie des priorités du proj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changement trop fréquent d'objectifs ou de priori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'apparition de problèmes imprévisibles ou de besoins nouve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94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la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gestion des risq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e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résistances au chan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gestion des situations conflictuel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chef de proj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énérali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éu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aux de b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94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 gestion des situations conflictuelle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ources de conflits quant à l'allocation des ressources sur le proj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'estimation de l'intensité d'utilisation des ressourc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% d'affec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sponibilité des ressources requis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mbre de person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qualification ou le niveau de compétence technique recherché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ire de l'accroche affec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date et la durée de la mise à dis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nécessité ou non d'avoir recours à la sous-trai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rattachement hiérarchique des ressou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niveau de priorité accordé au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60948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spcAft>
                <a:spcPts val="3750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ources de conflits quant aux procédures relatives aux proj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non-respect des procédures établi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urt-circuitage, non-respect des voies hiérarchiques,...en rai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spcAft>
                <a:spcPts val="601"/>
              </a:spcAft>
              <a:buClr>
                <a:srgbClr val="ff00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oit de la lenteur ou de la lourdeur de certaines procédures existant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spcAft>
                <a:spcPts val="2001"/>
              </a:spcAft>
              <a:buClr>
                <a:srgbClr val="ff00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oit de leur non-conformité aux pratiques de l'entrep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tendance à créer de nouvelles procédures chaque fois qu'un problème nouveau est détecté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sphyxie du systè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380520" y="228240"/>
            <a:ext cx="794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 gestion des situations conflictuelle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94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 gestion des situations conflictuelle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057320" y="1938240"/>
            <a:ext cx="7785000" cy="4164120"/>
            <a:chOff x="1057320" y="1938240"/>
            <a:chExt cx="7785000" cy="4164120"/>
          </a:xfrm>
        </p:grpSpPr>
        <p:sp>
          <p:nvSpPr>
            <p:cNvPr id="238" name=""/>
            <p:cNvSpPr/>
            <p:nvPr/>
          </p:nvSpPr>
          <p:spPr>
            <a:xfrm>
              <a:off x="2674800" y="5297400"/>
              <a:ext cx="595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674800" y="2211480"/>
              <a:ext cx="0" cy="308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2752560" y="2556000"/>
              <a:ext cx="6089760" cy="2333520"/>
              <a:chOff x="2752560" y="2556000"/>
              <a:chExt cx="6089760" cy="23335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2789280" y="4297320"/>
                <a:ext cx="6016680" cy="592200"/>
                <a:chOff x="2789280" y="4297320"/>
                <a:chExt cx="6016680" cy="59220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2789280" y="4297320"/>
                  <a:ext cx="2820960" cy="592200"/>
                </a:xfrm>
                <a:prstGeom prst="roundRect">
                  <a:avLst>
                    <a:gd name="adj" fmla="val 12486"/>
                  </a:avLst>
                </a:prstGeom>
                <a:solidFill>
                  <a:srgbClr val="fcfeb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1000" rIns="81000" tIns="39600" bIns="39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09560"/>
                      <a:tab algn="l" pos="1419120"/>
                      <a:tab algn="l" pos="2128680"/>
                      <a:tab algn="l" pos="2838600"/>
                      <a:tab algn="l" pos="3548160"/>
                      <a:tab algn="l" pos="4257720"/>
                      <a:tab algn="l" pos="4967280"/>
                      <a:tab algn="l" pos="5676840"/>
                      <a:tab algn="l" pos="6386400"/>
                      <a:tab algn="l" pos="7095960"/>
                      <a:tab algn="l" pos="7805880"/>
                      <a:tab algn="l" pos="8515440"/>
                      <a:tab algn="l" pos="9225000"/>
                      <a:tab algn="l" pos="9934560"/>
                      <a:tab algn="l" pos="1064412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Diego1"/>
                    </a:rPr>
                    <a:t>L'évitemen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986440" y="4297320"/>
                  <a:ext cx="2819520" cy="592200"/>
                </a:xfrm>
                <a:prstGeom prst="roundRect">
                  <a:avLst>
                    <a:gd name="adj" fmla="val 12486"/>
                  </a:avLst>
                </a:prstGeom>
                <a:solidFill>
                  <a:srgbClr val="fcfeb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1000" rIns="81000" tIns="39600" bIns="39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09560"/>
                      <a:tab algn="l" pos="1419120"/>
                      <a:tab algn="l" pos="2128680"/>
                      <a:tab algn="l" pos="2838600"/>
                      <a:tab algn="l" pos="3548160"/>
                      <a:tab algn="l" pos="4257720"/>
                      <a:tab algn="l" pos="4967280"/>
                      <a:tab algn="l" pos="5676840"/>
                      <a:tab algn="l" pos="6386400"/>
                      <a:tab algn="l" pos="7095960"/>
                      <a:tab algn="l" pos="7805880"/>
                      <a:tab algn="l" pos="8515440"/>
                      <a:tab algn="l" pos="9225000"/>
                      <a:tab algn="l" pos="9934560"/>
                      <a:tab algn="l" pos="1064412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Diego1"/>
                    </a:rPr>
                    <a:t>L'accomoda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2752560" y="2556000"/>
                <a:ext cx="6089760" cy="588960"/>
                <a:chOff x="2752560" y="2556000"/>
                <a:chExt cx="6089760" cy="588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2752560" y="2556000"/>
                  <a:ext cx="2821320" cy="588960"/>
                </a:xfrm>
                <a:prstGeom prst="roundRect">
                  <a:avLst>
                    <a:gd name="adj" fmla="val 12486"/>
                  </a:avLst>
                </a:prstGeom>
                <a:solidFill>
                  <a:srgbClr val="fcfeb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1000" rIns="81000" tIns="39600" bIns="39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09560"/>
                      <a:tab algn="l" pos="1419120"/>
                      <a:tab algn="l" pos="2128680"/>
                      <a:tab algn="l" pos="2838600"/>
                      <a:tab algn="l" pos="3548160"/>
                      <a:tab algn="l" pos="4257720"/>
                      <a:tab algn="l" pos="4967280"/>
                      <a:tab algn="l" pos="5676840"/>
                      <a:tab algn="l" pos="6386400"/>
                      <a:tab algn="l" pos="7095960"/>
                      <a:tab algn="l" pos="7805880"/>
                      <a:tab algn="l" pos="8515440"/>
                      <a:tab algn="l" pos="9225000"/>
                      <a:tab algn="l" pos="9934560"/>
                      <a:tab algn="l" pos="1064412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Diego1"/>
                    </a:rPr>
                    <a:t>La compéti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021360" y="2556000"/>
                  <a:ext cx="2820960" cy="588960"/>
                </a:xfrm>
                <a:prstGeom prst="roundRect">
                  <a:avLst>
                    <a:gd name="adj" fmla="val 12486"/>
                  </a:avLst>
                </a:prstGeom>
                <a:solidFill>
                  <a:srgbClr val="fcfeb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1000" rIns="81000" tIns="39600" bIns="39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09560"/>
                      <a:tab algn="l" pos="1419120"/>
                      <a:tab algn="l" pos="2128680"/>
                      <a:tab algn="l" pos="2838600"/>
                      <a:tab algn="l" pos="3548160"/>
                      <a:tab algn="l" pos="4257720"/>
                      <a:tab algn="l" pos="4967280"/>
                      <a:tab algn="l" pos="5676840"/>
                      <a:tab algn="l" pos="6386400"/>
                      <a:tab algn="l" pos="7095960"/>
                      <a:tab algn="l" pos="7805880"/>
                      <a:tab algn="l" pos="8515440"/>
                      <a:tab algn="l" pos="9225000"/>
                      <a:tab algn="l" pos="9934560"/>
                      <a:tab algn="l" pos="1064412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Diego1"/>
                    </a:rPr>
                    <a:t>La collaboration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7" name=""/>
            <p:cNvSpPr/>
            <p:nvPr/>
          </p:nvSpPr>
          <p:spPr>
            <a:xfrm>
              <a:off x="4386240" y="3427560"/>
              <a:ext cx="2820960" cy="590400"/>
            </a:xfrm>
            <a:prstGeom prst="roundRect">
              <a:avLst>
                <a:gd name="adj" fmla="val 12486"/>
              </a:avLst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Le comprom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057320" y="2716200"/>
              <a:ext cx="18162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Gain maxim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815160" y="5565600"/>
              <a:ext cx="1816200" cy="2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Coopérat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00280" y="5565600"/>
              <a:ext cx="1816200" cy="2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Non-coopérat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57320" y="4594320"/>
              <a:ext cx="181620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Gain minim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24440" y="5902200"/>
              <a:ext cx="181620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Diego1"/>
                </a:rPr>
                <a:t>Volonté de coopérer avec les autres parties en confl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59120" y="1938240"/>
              <a:ext cx="181584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Diego1"/>
                </a:rPr>
                <a:t>Souci d'obtenir des gai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rtements en situations conflictuelles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94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 gestion des situations conflictuelle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rtements en situations conflictuelles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781200" y="1839960"/>
            <a:ext cx="3232080" cy="1444680"/>
            <a:chOff x="781200" y="1839960"/>
            <a:chExt cx="3232080" cy="1444680"/>
          </a:xfrm>
        </p:grpSpPr>
        <p:grpSp>
          <p:nvGrpSpPr>
            <p:cNvPr id="258" name=""/>
            <p:cNvGrpSpPr/>
            <p:nvPr/>
          </p:nvGrpSpPr>
          <p:grpSpPr>
            <a:xfrm>
              <a:off x="3660480" y="1974960"/>
              <a:ext cx="352800" cy="1174680"/>
              <a:chOff x="3660480" y="1974960"/>
              <a:chExt cx="352800" cy="1174680"/>
            </a:xfrm>
          </p:grpSpPr>
          <p:grpSp>
            <p:nvGrpSpPr>
              <p:cNvPr id="259" name=""/>
              <p:cNvGrpSpPr/>
              <p:nvPr/>
            </p:nvGrpSpPr>
            <p:grpSpPr>
              <a:xfrm>
                <a:off x="3660840" y="1974960"/>
                <a:ext cx="352440" cy="1174680"/>
                <a:chOff x="3660840" y="1974960"/>
                <a:chExt cx="352440" cy="117468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3660840" y="1974960"/>
                  <a:ext cx="352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013280" y="1974960"/>
                  <a:ext cx="0" cy="117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" name=""/>
              <p:cNvSpPr/>
              <p:nvPr/>
            </p:nvSpPr>
            <p:spPr>
              <a:xfrm flipH="1">
                <a:off x="3660480" y="3149640"/>
                <a:ext cx="35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781200" y="1839960"/>
              <a:ext cx="2884320" cy="1444680"/>
              <a:chOff x="781200" y="1839960"/>
              <a:chExt cx="2884320" cy="1444680"/>
            </a:xfrm>
          </p:grpSpPr>
          <p:sp>
            <p:nvSpPr>
              <p:cNvPr id="264" name=""/>
              <p:cNvSpPr/>
              <p:nvPr/>
            </p:nvSpPr>
            <p:spPr>
              <a:xfrm>
                <a:off x="781200" y="1839960"/>
                <a:ext cx="2884320" cy="604800"/>
              </a:xfrm>
              <a:prstGeom prst="roundRect">
                <a:avLst>
                  <a:gd name="adj" fmla="val 12486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Diego1"/>
                  </a:rPr>
                  <a:t>L'évit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81200" y="2679840"/>
                <a:ext cx="2884320" cy="604800"/>
              </a:xfrm>
              <a:prstGeom prst="roundRect">
                <a:avLst>
                  <a:gd name="adj" fmla="val 12486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Diego1"/>
                  </a:rPr>
                  <a:t>L''accomod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6" name=""/>
          <p:cNvSpPr/>
          <p:nvPr/>
        </p:nvSpPr>
        <p:spPr>
          <a:xfrm>
            <a:off x="781200" y="3639960"/>
            <a:ext cx="2884320" cy="605160"/>
          </a:xfrm>
          <a:prstGeom prst="roundRect">
            <a:avLst>
              <a:gd name="adj" fmla="val 12486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iego1"/>
              </a:rPr>
              <a:t>La compét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781200" y="4487760"/>
            <a:ext cx="3232080" cy="1530360"/>
            <a:chOff x="781200" y="4487760"/>
            <a:chExt cx="3232080" cy="1530360"/>
          </a:xfrm>
        </p:grpSpPr>
        <p:grpSp>
          <p:nvGrpSpPr>
            <p:cNvPr id="268" name=""/>
            <p:cNvGrpSpPr/>
            <p:nvPr/>
          </p:nvGrpSpPr>
          <p:grpSpPr>
            <a:xfrm>
              <a:off x="3660480" y="4665600"/>
              <a:ext cx="352800" cy="1174680"/>
              <a:chOff x="3660480" y="4665600"/>
              <a:chExt cx="352800" cy="117468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3660840" y="4665600"/>
                <a:ext cx="352440" cy="1174680"/>
                <a:chOff x="3660840" y="4665600"/>
                <a:chExt cx="352440" cy="11746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3660840" y="4665600"/>
                  <a:ext cx="352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013280" y="4665600"/>
                  <a:ext cx="0" cy="117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 flipH="1">
                <a:off x="3660480" y="5840280"/>
                <a:ext cx="35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81200" y="4487760"/>
              <a:ext cx="2884320" cy="1530360"/>
              <a:chOff x="781200" y="4487760"/>
              <a:chExt cx="2884320" cy="1530360"/>
            </a:xfrm>
          </p:grpSpPr>
          <p:sp>
            <p:nvSpPr>
              <p:cNvPr id="274" name=""/>
              <p:cNvSpPr/>
              <p:nvPr/>
            </p:nvSpPr>
            <p:spPr>
              <a:xfrm>
                <a:off x="781200" y="4487760"/>
                <a:ext cx="2884320" cy="604800"/>
              </a:xfrm>
              <a:prstGeom prst="roundRect">
                <a:avLst>
                  <a:gd name="adj" fmla="val 12486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Diego1"/>
                  </a:rPr>
                  <a:t>Le compromi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81200" y="5413320"/>
                <a:ext cx="2884320" cy="604800"/>
              </a:xfrm>
              <a:prstGeom prst="roundRect">
                <a:avLst>
                  <a:gd name="adj" fmla="val 12486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Diego1"/>
                  </a:rPr>
                  <a:t>La collabor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6" name=""/>
          <p:cNvGrpSpPr/>
          <p:nvPr/>
        </p:nvGrpSpPr>
        <p:grpSpPr>
          <a:xfrm>
            <a:off x="6251400" y="4497480"/>
            <a:ext cx="2884680" cy="1512720"/>
            <a:chOff x="6251400" y="4497480"/>
            <a:chExt cx="2884680" cy="1512720"/>
          </a:xfrm>
        </p:grpSpPr>
        <p:sp>
          <p:nvSpPr>
            <p:cNvPr id="277" name=""/>
            <p:cNvSpPr/>
            <p:nvPr/>
          </p:nvSpPr>
          <p:spPr>
            <a:xfrm>
              <a:off x="6251400" y="4497480"/>
              <a:ext cx="2884680" cy="604800"/>
            </a:xfrm>
            <a:prstGeom prst="roundRect">
              <a:avLst>
                <a:gd name="adj" fmla="val 12486"/>
              </a:avLst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Gagnant/Perd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251400" y="5405400"/>
              <a:ext cx="2884680" cy="604800"/>
            </a:xfrm>
            <a:prstGeom prst="roundRect">
              <a:avLst>
                <a:gd name="adj" fmla="val 12486"/>
              </a:avLst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Gagnant/Gagn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4248000" y="4799160"/>
            <a:ext cx="1978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48000" y="5691240"/>
            <a:ext cx="1978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85160" y="2335320"/>
            <a:ext cx="1845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e rien f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24680" y="3714840"/>
            <a:ext cx="2109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aire la guer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25040" y="5025960"/>
            <a:ext cx="1482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égoc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94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 gestion des situations conflictuelle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4963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ique Gagnant/Gagnant : Méthode Harvard en cinq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343400" y="1695600"/>
            <a:ext cx="47815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éparer les questions de personnes et le fond du problème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e concentrer sur les intérêts et non sur les positions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maginer ENSEMBLE des solutions pour un bénéfice mutuel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oser des critères objectifs(lois, réglements, experts...)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évoir la meilleure issue de secours(MISE) en cas de non accord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8720" y="1595520"/>
            <a:ext cx="3206880" cy="619200"/>
          </a:xfrm>
          <a:prstGeom prst="roundRect">
            <a:avLst>
              <a:gd name="adj" fmla="val 12486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ego1"/>
              </a:rPr>
              <a:t>Les Hom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58720" y="2567160"/>
            <a:ext cx="3206880" cy="618840"/>
          </a:xfrm>
          <a:prstGeom prst="roundRect">
            <a:avLst>
              <a:gd name="adj" fmla="val 12486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ego1"/>
              </a:rPr>
              <a:t>Les intérê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58720" y="3538440"/>
            <a:ext cx="3206880" cy="619200"/>
          </a:xfrm>
          <a:prstGeom prst="roundRect">
            <a:avLst>
              <a:gd name="adj" fmla="val 12486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ego1"/>
              </a:rPr>
              <a:t>Les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8720" y="4510080"/>
            <a:ext cx="3206880" cy="619200"/>
          </a:xfrm>
          <a:prstGeom prst="roundRect">
            <a:avLst>
              <a:gd name="adj" fmla="val 12486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ego1"/>
              </a:rPr>
              <a:t>Les critè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58720" y="5481720"/>
            <a:ext cx="3206880" cy="619200"/>
          </a:xfrm>
          <a:prstGeom prst="roundRect">
            <a:avLst>
              <a:gd name="adj" fmla="val 12486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ego1"/>
              </a:rPr>
              <a:t>L''altern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94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 gestion des situations conflictuelle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66720" y="125748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éthode de Harvard : mise en oeuv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nq tiroirs à ouvrir successi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255680" y="2405160"/>
            <a:ext cx="7396200" cy="3344760"/>
            <a:chOff x="1255680" y="2405160"/>
            <a:chExt cx="7396200" cy="3344760"/>
          </a:xfrm>
        </p:grpSpPr>
        <p:sp>
          <p:nvSpPr>
            <p:cNvPr id="295" name=""/>
            <p:cNvSpPr/>
            <p:nvPr/>
          </p:nvSpPr>
          <p:spPr>
            <a:xfrm>
              <a:off x="3349800" y="3767040"/>
              <a:ext cx="3206520" cy="619200"/>
            </a:xfrm>
            <a:prstGeom prst="roundRect">
              <a:avLst>
                <a:gd name="adj" fmla="val 12486"/>
              </a:avLst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Diego1"/>
                </a:rPr>
                <a:t>Intérê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1255680" y="2405160"/>
              <a:ext cx="7396200" cy="3344760"/>
              <a:chOff x="1255680" y="2405160"/>
              <a:chExt cx="7396200" cy="334476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1255680" y="2405160"/>
                <a:ext cx="7396200" cy="619200"/>
                <a:chOff x="1255680" y="2405160"/>
                <a:chExt cx="7396200" cy="61920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445000" y="2405160"/>
                  <a:ext cx="3206880" cy="619200"/>
                </a:xfrm>
                <a:prstGeom prst="roundRect">
                  <a:avLst>
                    <a:gd name="adj" fmla="val 12486"/>
                  </a:avLst>
                </a:prstGeom>
                <a:solidFill>
                  <a:srgbClr val="fcfeb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Diego1"/>
                    </a:rPr>
                    <a:t>Relations personnelles/Fon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255680" y="2405160"/>
                  <a:ext cx="3206880" cy="619200"/>
                </a:xfrm>
                <a:prstGeom prst="roundRect">
                  <a:avLst>
                    <a:gd name="adj" fmla="val 12486"/>
                  </a:avLst>
                </a:prstGeom>
                <a:solidFill>
                  <a:srgbClr val="fcfeb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Diego1"/>
                    </a:rPr>
                    <a:t>Imaginatio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1276200" y="5130720"/>
                <a:ext cx="7355160" cy="619200"/>
                <a:chOff x="1276200" y="5130720"/>
                <a:chExt cx="7355160" cy="6192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1276200" y="5130720"/>
                  <a:ext cx="3206880" cy="619200"/>
                </a:xfrm>
                <a:prstGeom prst="roundRect">
                  <a:avLst>
                    <a:gd name="adj" fmla="val 12486"/>
                  </a:avLst>
                </a:prstGeom>
                <a:solidFill>
                  <a:srgbClr val="fcfeb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Diego1"/>
                    </a:rPr>
                    <a:t>Critères objectif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424480" y="5130720"/>
                  <a:ext cx="3206880" cy="619200"/>
                </a:xfrm>
                <a:prstGeom prst="roundRect">
                  <a:avLst>
                    <a:gd name="adj" fmla="val 12486"/>
                  </a:avLst>
                </a:prstGeom>
                <a:solidFill>
                  <a:srgbClr val="fcfeb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Diego1"/>
                    </a:rPr>
                    <a:t>M.I.S.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412920" y="2610000"/>
            <a:ext cx="9080280" cy="2286000"/>
            <a:chOff x="412920" y="2610000"/>
            <a:chExt cx="9080280" cy="2286000"/>
          </a:xfrm>
        </p:grpSpPr>
        <p:sp>
          <p:nvSpPr>
            <p:cNvPr id="304" name=""/>
            <p:cNvSpPr/>
            <p:nvPr/>
          </p:nvSpPr>
          <p:spPr>
            <a:xfrm>
              <a:off x="1601640" y="2610000"/>
              <a:ext cx="6702480" cy="228600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12920" y="3181320"/>
              <a:ext cx="90802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00"/>
                  </a:solidFill>
                  <a:latin typeface="Mistral"/>
                </a:rPr>
                <a:t> </a:t>
              </a:r>
              <a:r>
                <a:rPr b="1" i="1" lang="en-US" sz="4800" spc="-1" strike="noStrike">
                  <a:solidFill>
                    <a:srgbClr val="000000"/>
                  </a:solidFill>
                  <a:latin typeface="Mistral"/>
                </a:rPr>
                <a:t>Le Chef de Projet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chef de projet ou responsable d'un thème est un entrepreneur à part entière qui doit mener à bien la mission qui lui est assigné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doit ainsi manifester certaines qualités dont l'autonomie est la plus importa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s l'autonomie est un concept riche qui exprime à la fois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abi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tive et solidarité avec son groupe ou équi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380520" y="228240"/>
            <a:ext cx="794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ôle et attitudes dans une organisation par projet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8" name=""/>
          <p:cNvSpPr/>
          <p:nvPr/>
        </p:nvSpPr>
        <p:spPr>
          <a:xfrm>
            <a:off x="1047600" y="5381640"/>
            <a:ext cx="894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Mistral"/>
              </a:rPr>
              <a:t>Ne pas confondre autonomie et indépendance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94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 chef de projet  : ses missions (1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601"/>
              </a:spcBef>
              <a:spcAft>
                <a:spcPts val="1049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 chef de projet est désigné par le directeur en accord avec le comité de pilotage des proje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spcAft>
                <a:spcPts val="1049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l est unique et devient "porteur" du projet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l détermine les compétences nécessaires au proj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'est en général à lui que revient le rôle fondamental de définir avec ses partenair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spcAft>
                <a:spcPts val="788"/>
              </a:spcAft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'étendue du projet et ses limit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spcAft>
                <a:spcPts val="788"/>
              </a:spcAft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n architectu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spcAft>
                <a:spcPts val="788"/>
              </a:spcAft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n phas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spcAft>
                <a:spcPts val="1049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fin d'asseoir le projet sur des bases solides et formalisées, il a ainsi souvent la charge de rédiger le Cahier des Charges du proj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94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 chef de projet : ses missions (2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spcAft>
                <a:spcPts val="451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our ce faire, il a le devoir d'aller chercher l'information auprès des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rvices compéten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ciétés externes et collèg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451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ette étape lui permet de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endre la mesure de la complexité du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terminer les collaborateurs dont il peut avoir bes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oisir une stratégie de gestion du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337"/>
              </a:spcAft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coupage en unités fonctionnell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337"/>
              </a:spcAft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us-projet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337"/>
              </a:spcAft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âch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337"/>
              </a:spcAft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apes clé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62000" y="2552760"/>
            <a:ext cx="5981760" cy="232416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2920" y="3143160"/>
            <a:ext cx="908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istral"/>
              </a:rPr>
              <a:t>La gestion des risqu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28560" y="116208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spcAft>
                <a:spcPts val="5400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rsque le cahier des Charges est rédigé et accepté par le directeur et le comité de pilotage, le chef de projet devient alors le chef d'orchest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3750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 premières tâches seront de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124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ituer officiellement l'équi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124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is de réaliser avec elle le dossier d'analyse détaillée qui seul permet l'action quotidien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636120" y="228240"/>
            <a:ext cx="794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 chef de projet : ses missions (3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94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 rôle du chef de projet (1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spcAft>
                <a:spcPts val="3600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est primordial dans les phases suivantes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la définition du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1349"/>
              </a:spcAft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'est lui qui est responsable de la mise en oeuvre du Cahier des Charges (qu'il a préalablement rédigé ou validé) donc du contrat de bas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la négociation des éléments du Cahier des Charges avec le direct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1349"/>
              </a:spcAft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iendra-il l'engagement des moyens nécessaires à l'exécution du proje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31760" y="3886200"/>
            <a:ext cx="7677360" cy="609480"/>
          </a:xfrm>
          <a:prstGeom prst="roundRect">
            <a:avLst>
              <a:gd name="adj" fmla="val 1248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94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 rôle du chef de projet (2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601"/>
              </a:spcBef>
              <a:spcAft>
                <a:spcPts val="2849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s également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la constitution de l'équi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viendra-il à réunir les compétences nécessair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s collaborateurs seront-ils motivé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e la construction du dossier détaillé du proj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 du suivi permanent du projet afin d'assurer une performance optim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l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dget J.A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94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 contractualisation avec l'équipe (1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rs de la réunion de lancement du projet, chacun doit pouvoir contribuer à l'évolution du projet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ur cela, tous les membres de l'équipe de projet doivent être physiquement prés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chef de projet présente alors sa démarche et agit avec le groupe en termes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'organisation des réflexions et a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participation/validation par l'équipe qui doit réagir aux propositions du pilote sans remettre en cause le f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validation implique l'adhésion et l'appropriation du projet par les membres de l'équipe qui ont participé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'animation de l'équipe afin de recueillir les informations (tâches, contraintes, risques,...) en début de projet dans le but de réduire les aléas et de pouvoir le  conduire de manière optim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94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 contractualisation avec l'équipe (2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5960" y="1149120"/>
            <a:ext cx="4254480" cy="494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'équipe s'engage ensuite sur un budget et un déla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01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contrat est pass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hiérarchie des membres de l'équipe de projet doit s'engager sur une obligation de moyens afin d'éliminer toute ambiguïté sur la disponibilité de ceux-c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5033880" y="2463840"/>
          <a:ext cx="4270320" cy="23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3880" y="2463840"/>
                    <a:ext cx="427032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143000" y="2495520"/>
            <a:ext cx="7142040" cy="211464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22000" y="298080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Mistral"/>
              </a:rPr>
              <a:t>La communication</a:t>
            </a:r>
            <a:endParaRPr b="1" lang="en-US" sz="5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94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 communication est essentiell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de la règle des 5 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quer vers qui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sateurs finaux, équipe projet, Direction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quer pourquoi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édérer, mobiliser l'équipe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er les utilisateurs fi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quer quoi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objectifs, les enjeux, les risques, les résultats intermédiaires, l'organisation, le planning, l'avancemen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quer quand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 lancement, aux échéances annoncées, lors de tout évè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quer commen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s les moyens sont bons, mais l'implication du chef de projet et de l'équipe est primordial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94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s différents types de réunio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8560" y="1266840"/>
            <a:ext cx="3943440" cy="47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 réunions au sein de l'équipe proj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points d'avanc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réunions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 réunions avec la maîtrise d'ouvr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 réunions avec le comité de proj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5938920" y="3040200"/>
            <a:ext cx="3459240" cy="28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94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s points d'avancemen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28200" y="1171440"/>
            <a:ext cx="628668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349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 convoque : le chef de proj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349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 participe : Les contributeurs, responsables de thè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349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: Mesurer l'état d'avancement des travaux et les problèmes rencontr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349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'issue de la réunion le chef de projet rédige une synthèse qui sera présentée en comité de pilot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349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 actions correctives retenues sont suivies lors des réunions suivan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7316640" y="3973680"/>
            <a:ext cx="241164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94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éunions techniques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spcAft>
                <a:spcPts val="451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ut : Résolution de problè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spcAft>
                <a:spcPts val="451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Qui convoque : le chef de projet, parfois à la demande d'un contributeur, mais aussi le porteur du problè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spcAft>
                <a:spcPts val="451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s acteurs 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chef de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contributeurs concerné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ventuellement les responsables de centre contribu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ventuellement des experts externes à l'équipe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spcAft>
                <a:spcPts val="451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s suites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it un relevé de décision pour mettre en place des actions correcti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it une sollicitation de l'échelon supéri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94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s risques liés à la communication et à l'informatio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inction des informations utilisé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on leur contenu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on les phases d'avancement du proje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on leur intensité d'utilis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on leur qualité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on les destinat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membres de l'équipe-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reste de l'entrep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acteurs exter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94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éunions avec la maîtrise d'ouvrag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143000"/>
            <a:ext cx="6267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ance stratégique du proje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ivant l'importance du projet le pilote sera assisté ou non d'un comité de pilo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nd et fait appliquer les décisions maje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 convoque : Le pilote du projet ou le chef de proj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 participe : Les acteurs de l'environnement stratégique du proje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pilote du projet qui préside la ré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chef de projet qui anime la ré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responsables des centres de compétence impliqués dans le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7805880" y="4792680"/>
            <a:ext cx="1877760" cy="127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spcAft>
                <a:spcPts val="2999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ition du chef projet : il présente l'état d'avancement de son proje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évènements majeurs depuis le dernier com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suivi économique du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écarts par rapport aux objectifs initi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risques de dér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actions correctrices mises en place ou proposées pour rattraper les écarts et anticiper les ris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sollicite les décisions qui ne sont pas de son niveau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380880" y="228240"/>
            <a:ext cx="7010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éunions avec la maîtrise d'ouvrage (suite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94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s réunions avec le comité de projet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300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Qui convoque : le directeu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300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Qui participe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comité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pilote eventuellement assisté du chef de proj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ventuellement des responsables de centres contribut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300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Objet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rbitrage au sein d'un projet lorsque la décision n'est pas du niveau du pil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rbitrage entre projets différ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hérence avec la stratégie de l'entit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300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s suites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relevé de dé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94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'autres moyens de communicatio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u sein de l'équipe proj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tableau de l'équipe , spécifique au proje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ur suivre l'avancement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ur suivre les actions corr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ut autre élément nécessaire au chef de proj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Vers la maîtrise d' ouvr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tableau de bord de reporting destiné au comité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 indicateurs globau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ut élément utile au management de portefeuille de l'ent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11200" y="5167440"/>
            <a:ext cx="88819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ego1"/>
              </a:rPr>
              <a:t>Ne pas oublier que ces différents outils comport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iego1"/>
              </a:rPr>
              <a:t>des chiffres, mais aussi des commentaires et des graph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15440" y="247320"/>
            <a:ext cx="782964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n exemple de tableau de bord de l'équipe proje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685800" y="1263600"/>
            <a:ext cx="8534520" cy="4788000"/>
            <a:chOff x="685800" y="1263600"/>
            <a:chExt cx="8534520" cy="4788000"/>
          </a:xfrm>
        </p:grpSpPr>
        <p:sp>
          <p:nvSpPr>
            <p:cNvPr id="350" name=""/>
            <p:cNvSpPr/>
            <p:nvPr/>
          </p:nvSpPr>
          <p:spPr>
            <a:xfrm>
              <a:off x="692280" y="1263600"/>
              <a:ext cx="8521560" cy="4788000"/>
            </a:xfrm>
            <a:prstGeom prst="rect">
              <a:avLst/>
            </a:prstGeom>
            <a:solidFill>
              <a:srgbClr val="c0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92280" y="1263600"/>
              <a:ext cx="1930320" cy="4788000"/>
            </a:xfrm>
            <a:prstGeom prst="rect">
              <a:avLst/>
            </a:prstGeom>
            <a:solidFill>
              <a:srgbClr val="c0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2280" y="1263600"/>
              <a:ext cx="8521560" cy="1739880"/>
            </a:xfrm>
            <a:prstGeom prst="rect">
              <a:avLst/>
            </a:prstGeom>
            <a:solidFill>
              <a:srgbClr val="c0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2280" y="1263600"/>
              <a:ext cx="1930320" cy="1739880"/>
            </a:xfrm>
            <a:prstGeom prst="rect">
              <a:avLst/>
            </a:prstGeom>
            <a:solidFill>
              <a:srgbClr val="c0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85800" y="4400640"/>
              <a:ext cx="1943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85800" y="1752480"/>
              <a:ext cx="853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27640" y="1327320"/>
              <a:ext cx="1734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Diego1"/>
                </a:rPr>
                <a:t>Libellé Proj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227600" y="3003480"/>
              <a:ext cx="903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Diego1"/>
                </a:rPr>
                <a:t>Coû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10720" y="4375080"/>
              <a:ext cx="1833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Diego1"/>
                </a:rPr>
                <a:t>Perform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7680" y="1765440"/>
              <a:ext cx="1792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Diego1"/>
                </a:rPr>
                <a:t>Plan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53360" y="1289160"/>
              <a:ext cx="2011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Diego1"/>
                </a:rPr>
                <a:t>Chef de projet 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991200" y="1308240"/>
              <a:ext cx="87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Diego1"/>
                </a:rPr>
                <a:t>Date 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058080" y="126684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4152960" y="1771560"/>
            <a:ext cx="0" cy="123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649600" y="24382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699280" y="2089080"/>
            <a:ext cx="14310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ego1"/>
              </a:rPr>
              <a:t>Histo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ego1"/>
              </a:rPr>
              <a:t>1 mo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152960" y="1981080"/>
            <a:ext cx="3333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40320" y="2082960"/>
            <a:ext cx="958680" cy="10152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83360" y="2349360"/>
            <a:ext cx="1130040" cy="10188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521400" y="2635200"/>
            <a:ext cx="1387440" cy="10152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505640" y="1771560"/>
            <a:ext cx="0" cy="123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494120" y="1784520"/>
            <a:ext cx="972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ego1"/>
              </a:rPr>
              <a:t>3 mo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93120" y="2660760"/>
            <a:ext cx="2389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ego1"/>
              </a:rPr>
              <a:t>Date de la réun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274640" y="2984400"/>
            <a:ext cx="3089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Diego1"/>
              </a:rPr>
              <a:t>Zône de comment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07960" y="3156120"/>
            <a:ext cx="242928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ego1"/>
              </a:rPr>
              <a:t>Prév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ego1"/>
              </a:rPr>
              <a:t>Réalis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ego1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iego1"/>
              </a:rPr>
              <a:t>à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ego1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iego1"/>
              </a:rPr>
              <a:t>à avan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ego1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938160" y="4813200"/>
            <a:ext cx="1384200" cy="100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ego1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ego1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ego1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80920" y="3327480"/>
            <a:ext cx="2828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ego1"/>
              </a:rPr>
              <a:t>Problèmes rencont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67160" y="441972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77080" y="3943440"/>
            <a:ext cx="0" cy="165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010120" y="3924360"/>
            <a:ext cx="0" cy="165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694320" y="3898800"/>
            <a:ext cx="1030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ego1"/>
              </a:rPr>
              <a:t>Ca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236200" y="3746520"/>
            <a:ext cx="14389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ego1"/>
              </a:rPr>
              <a:t>Ac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iego1"/>
              </a:rPr>
              <a:t>propos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946200" y="3746520"/>
            <a:ext cx="1821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ego1"/>
              </a:rPr>
              <a:t>Suites ac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iego1"/>
              </a:rPr>
              <a:t>précé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94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s relations entre les acteur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2322720" y="1892160"/>
            <a:ext cx="7083360" cy="4013640"/>
            <a:chOff x="2322720" y="1892160"/>
            <a:chExt cx="7083360" cy="4013640"/>
          </a:xfrm>
        </p:grpSpPr>
        <p:sp>
          <p:nvSpPr>
            <p:cNvPr id="385" name=""/>
            <p:cNvSpPr/>
            <p:nvPr/>
          </p:nvSpPr>
          <p:spPr>
            <a:xfrm>
              <a:off x="2322720" y="1892160"/>
              <a:ext cx="2522160" cy="393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Diego1"/>
                </a:rPr>
                <a:t>Le Comité de Proj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991240" y="3187800"/>
              <a:ext cx="1198080" cy="393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Diego1"/>
                </a:rPr>
                <a:t>Le Pilo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69600" y="4425840"/>
              <a:ext cx="2180880" cy="393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Diego1"/>
                </a:rPr>
                <a:t>Le chef de proj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48360" y="5511960"/>
              <a:ext cx="2273760" cy="393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Diego1"/>
                </a:rPr>
                <a:t>Les contributeu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623280" y="3187800"/>
              <a:ext cx="2782800" cy="393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Diego1"/>
                </a:rPr>
                <a:t>Le Comité de Pilot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81280" y="2305080"/>
              <a:ext cx="0" cy="87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581280" y="3600360"/>
              <a:ext cx="0" cy="81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81280" y="4838760"/>
              <a:ext cx="0" cy="66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133880" y="3390840"/>
              <a:ext cx="264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4552920" y="3600360"/>
              <a:ext cx="222876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1981080" y="3257640"/>
            <a:ext cx="312840" cy="2598480"/>
            <a:chOff x="1981080" y="3257640"/>
            <a:chExt cx="312840" cy="2598480"/>
          </a:xfrm>
        </p:grpSpPr>
        <p:sp>
          <p:nvSpPr>
            <p:cNvPr id="396" name=""/>
            <p:cNvSpPr/>
            <p:nvPr/>
          </p:nvSpPr>
          <p:spPr>
            <a:xfrm>
              <a:off x="1981080" y="3257640"/>
              <a:ext cx="312840" cy="1301760"/>
            </a:xfrm>
            <a:custGeom>
              <a:avLst/>
              <a:gdLst/>
              <a:ahLst/>
              <a:rect l="l" t="t" r="r" b="b"/>
              <a:pathLst>
                <a:path w="197" h="820">
                  <a:moveTo>
                    <a:pt x="196" y="3"/>
                  </a:moveTo>
                  <a:lnTo>
                    <a:pt x="192" y="2"/>
                  </a:lnTo>
                  <a:lnTo>
                    <a:pt x="186" y="2"/>
                  </a:lnTo>
                  <a:lnTo>
                    <a:pt x="181" y="0"/>
                  </a:lnTo>
                  <a:lnTo>
                    <a:pt x="177" y="0"/>
                  </a:lnTo>
                  <a:lnTo>
                    <a:pt x="172" y="2"/>
                  </a:lnTo>
                  <a:lnTo>
                    <a:pt x="168" y="2"/>
                  </a:lnTo>
                  <a:lnTo>
                    <a:pt x="163" y="3"/>
                  </a:lnTo>
                  <a:lnTo>
                    <a:pt x="159" y="4"/>
                  </a:lnTo>
                  <a:lnTo>
                    <a:pt x="156" y="5"/>
                  </a:lnTo>
                  <a:lnTo>
                    <a:pt x="151" y="8"/>
                  </a:lnTo>
                  <a:lnTo>
                    <a:pt x="147" y="11"/>
                  </a:lnTo>
                  <a:lnTo>
                    <a:pt x="144" y="14"/>
                  </a:lnTo>
                  <a:lnTo>
                    <a:pt x="140" y="16"/>
                  </a:lnTo>
                  <a:lnTo>
                    <a:pt x="135" y="19"/>
                  </a:lnTo>
                  <a:lnTo>
                    <a:pt x="133" y="23"/>
                  </a:lnTo>
                  <a:lnTo>
                    <a:pt x="129" y="28"/>
                  </a:lnTo>
                  <a:lnTo>
                    <a:pt x="126" y="32"/>
                  </a:lnTo>
                  <a:lnTo>
                    <a:pt x="122" y="38"/>
                  </a:lnTo>
                  <a:lnTo>
                    <a:pt x="120" y="44"/>
                  </a:lnTo>
                  <a:lnTo>
                    <a:pt x="117" y="49"/>
                  </a:lnTo>
                  <a:lnTo>
                    <a:pt x="115" y="54"/>
                  </a:lnTo>
                  <a:lnTo>
                    <a:pt x="111" y="61"/>
                  </a:lnTo>
                  <a:lnTo>
                    <a:pt x="109" y="68"/>
                  </a:lnTo>
                  <a:lnTo>
                    <a:pt x="107" y="74"/>
                  </a:lnTo>
                  <a:lnTo>
                    <a:pt x="104" y="81"/>
                  </a:lnTo>
                  <a:lnTo>
                    <a:pt x="102" y="89"/>
                  </a:lnTo>
                  <a:lnTo>
                    <a:pt x="99" y="97"/>
                  </a:lnTo>
                  <a:lnTo>
                    <a:pt x="98" y="105"/>
                  </a:lnTo>
                  <a:lnTo>
                    <a:pt x="97" y="115"/>
                  </a:lnTo>
                  <a:lnTo>
                    <a:pt x="95" y="123"/>
                  </a:lnTo>
                  <a:lnTo>
                    <a:pt x="93" y="133"/>
                  </a:lnTo>
                  <a:lnTo>
                    <a:pt x="92" y="142"/>
                  </a:lnTo>
                  <a:lnTo>
                    <a:pt x="91" y="153"/>
                  </a:lnTo>
                  <a:lnTo>
                    <a:pt x="90" y="165"/>
                  </a:lnTo>
                  <a:lnTo>
                    <a:pt x="89" y="176"/>
                  </a:lnTo>
                  <a:lnTo>
                    <a:pt x="89" y="233"/>
                  </a:lnTo>
                  <a:lnTo>
                    <a:pt x="90" y="249"/>
                  </a:lnTo>
                  <a:lnTo>
                    <a:pt x="90" y="265"/>
                  </a:lnTo>
                  <a:lnTo>
                    <a:pt x="92" y="281"/>
                  </a:lnTo>
                  <a:lnTo>
                    <a:pt x="92" y="299"/>
                  </a:lnTo>
                  <a:lnTo>
                    <a:pt x="93" y="316"/>
                  </a:lnTo>
                  <a:lnTo>
                    <a:pt x="95" y="334"/>
                  </a:lnTo>
                  <a:lnTo>
                    <a:pt x="96" y="352"/>
                  </a:lnTo>
                  <a:lnTo>
                    <a:pt x="97" y="371"/>
                  </a:lnTo>
                  <a:lnTo>
                    <a:pt x="98" y="388"/>
                  </a:lnTo>
                  <a:lnTo>
                    <a:pt x="99" y="407"/>
                  </a:lnTo>
                  <a:lnTo>
                    <a:pt x="102" y="425"/>
                  </a:lnTo>
                  <a:lnTo>
                    <a:pt x="103" y="443"/>
                  </a:lnTo>
                  <a:lnTo>
                    <a:pt x="103" y="460"/>
                  </a:lnTo>
                  <a:lnTo>
                    <a:pt x="104" y="479"/>
                  </a:lnTo>
                  <a:lnTo>
                    <a:pt x="105" y="495"/>
                  </a:lnTo>
                  <a:lnTo>
                    <a:pt x="107" y="513"/>
                  </a:lnTo>
                  <a:lnTo>
                    <a:pt x="108" y="529"/>
                  </a:lnTo>
                  <a:lnTo>
                    <a:pt x="108" y="545"/>
                  </a:lnTo>
                  <a:lnTo>
                    <a:pt x="108" y="604"/>
                  </a:lnTo>
                  <a:lnTo>
                    <a:pt x="108" y="617"/>
                  </a:lnTo>
                  <a:lnTo>
                    <a:pt x="107" y="628"/>
                  </a:lnTo>
                  <a:lnTo>
                    <a:pt x="104" y="640"/>
                  </a:lnTo>
                  <a:lnTo>
                    <a:pt x="103" y="650"/>
                  </a:lnTo>
                  <a:lnTo>
                    <a:pt x="102" y="660"/>
                  </a:lnTo>
                  <a:lnTo>
                    <a:pt x="99" y="669"/>
                  </a:lnTo>
                  <a:lnTo>
                    <a:pt x="98" y="680"/>
                  </a:lnTo>
                  <a:lnTo>
                    <a:pt x="97" y="689"/>
                  </a:lnTo>
                  <a:lnTo>
                    <a:pt x="95" y="697"/>
                  </a:lnTo>
                  <a:lnTo>
                    <a:pt x="92" y="706"/>
                  </a:lnTo>
                  <a:lnTo>
                    <a:pt x="90" y="715"/>
                  </a:lnTo>
                  <a:lnTo>
                    <a:pt x="87" y="722"/>
                  </a:lnTo>
                  <a:lnTo>
                    <a:pt x="85" y="729"/>
                  </a:lnTo>
                  <a:lnTo>
                    <a:pt x="81" y="738"/>
                  </a:lnTo>
                  <a:lnTo>
                    <a:pt x="79" y="745"/>
                  </a:lnTo>
                  <a:lnTo>
                    <a:pt x="77" y="751"/>
                  </a:lnTo>
                  <a:lnTo>
                    <a:pt x="74" y="757"/>
                  </a:lnTo>
                  <a:lnTo>
                    <a:pt x="71" y="763"/>
                  </a:lnTo>
                  <a:lnTo>
                    <a:pt x="67" y="769"/>
                  </a:lnTo>
                  <a:lnTo>
                    <a:pt x="63" y="774"/>
                  </a:lnTo>
                  <a:lnTo>
                    <a:pt x="61" y="780"/>
                  </a:lnTo>
                  <a:lnTo>
                    <a:pt x="56" y="783"/>
                  </a:lnTo>
                  <a:lnTo>
                    <a:pt x="53" y="789"/>
                  </a:lnTo>
                  <a:lnTo>
                    <a:pt x="49" y="793"/>
                  </a:lnTo>
                  <a:lnTo>
                    <a:pt x="46" y="797"/>
                  </a:lnTo>
                  <a:lnTo>
                    <a:pt x="41" y="799"/>
                  </a:lnTo>
                  <a:lnTo>
                    <a:pt x="37" y="804"/>
                  </a:lnTo>
                  <a:lnTo>
                    <a:pt x="34" y="806"/>
                  </a:lnTo>
                  <a:lnTo>
                    <a:pt x="29" y="810"/>
                  </a:lnTo>
                  <a:lnTo>
                    <a:pt x="24" y="812"/>
                  </a:lnTo>
                  <a:lnTo>
                    <a:pt x="19" y="813"/>
                  </a:lnTo>
                  <a:lnTo>
                    <a:pt x="16" y="815"/>
                  </a:lnTo>
                  <a:lnTo>
                    <a:pt x="11" y="817"/>
                  </a:lnTo>
                  <a:lnTo>
                    <a:pt x="5" y="817"/>
                  </a:lnTo>
                  <a:lnTo>
                    <a:pt x="0" y="81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81080" y="4557600"/>
              <a:ext cx="312840" cy="1298520"/>
            </a:xfrm>
            <a:custGeom>
              <a:avLst/>
              <a:gdLst/>
              <a:ahLst/>
              <a:rect l="l" t="t" r="r" b="b"/>
              <a:pathLst>
                <a:path w="197" h="818">
                  <a:moveTo>
                    <a:pt x="196" y="815"/>
                  </a:moveTo>
                  <a:lnTo>
                    <a:pt x="192" y="815"/>
                  </a:lnTo>
                  <a:lnTo>
                    <a:pt x="186" y="817"/>
                  </a:lnTo>
                  <a:lnTo>
                    <a:pt x="172" y="817"/>
                  </a:lnTo>
                  <a:lnTo>
                    <a:pt x="168" y="815"/>
                  </a:lnTo>
                  <a:lnTo>
                    <a:pt x="163" y="814"/>
                  </a:lnTo>
                  <a:lnTo>
                    <a:pt x="159" y="813"/>
                  </a:lnTo>
                  <a:lnTo>
                    <a:pt x="156" y="811"/>
                  </a:lnTo>
                  <a:lnTo>
                    <a:pt x="151" y="810"/>
                  </a:lnTo>
                  <a:lnTo>
                    <a:pt x="147" y="806"/>
                  </a:lnTo>
                  <a:lnTo>
                    <a:pt x="144" y="804"/>
                  </a:lnTo>
                  <a:lnTo>
                    <a:pt x="140" y="801"/>
                  </a:lnTo>
                  <a:lnTo>
                    <a:pt x="135" y="796"/>
                  </a:lnTo>
                  <a:lnTo>
                    <a:pt x="133" y="792"/>
                  </a:lnTo>
                  <a:lnTo>
                    <a:pt x="129" y="790"/>
                  </a:lnTo>
                  <a:lnTo>
                    <a:pt x="126" y="785"/>
                  </a:lnTo>
                  <a:lnTo>
                    <a:pt x="122" y="779"/>
                  </a:lnTo>
                  <a:lnTo>
                    <a:pt x="120" y="775"/>
                  </a:lnTo>
                  <a:lnTo>
                    <a:pt x="117" y="768"/>
                  </a:lnTo>
                  <a:lnTo>
                    <a:pt x="115" y="762"/>
                  </a:lnTo>
                  <a:lnTo>
                    <a:pt x="111" y="755"/>
                  </a:lnTo>
                  <a:lnTo>
                    <a:pt x="109" y="749"/>
                  </a:lnTo>
                  <a:lnTo>
                    <a:pt x="107" y="743"/>
                  </a:lnTo>
                  <a:lnTo>
                    <a:pt x="104" y="736"/>
                  </a:lnTo>
                  <a:lnTo>
                    <a:pt x="102" y="727"/>
                  </a:lnTo>
                  <a:lnTo>
                    <a:pt x="99" y="720"/>
                  </a:lnTo>
                  <a:lnTo>
                    <a:pt x="98" y="711"/>
                  </a:lnTo>
                  <a:lnTo>
                    <a:pt x="97" y="702"/>
                  </a:lnTo>
                  <a:lnTo>
                    <a:pt x="95" y="694"/>
                  </a:lnTo>
                  <a:lnTo>
                    <a:pt x="93" y="685"/>
                  </a:lnTo>
                  <a:lnTo>
                    <a:pt x="92" y="673"/>
                  </a:lnTo>
                  <a:lnTo>
                    <a:pt x="91" y="662"/>
                  </a:lnTo>
                  <a:lnTo>
                    <a:pt x="90" y="652"/>
                  </a:lnTo>
                  <a:lnTo>
                    <a:pt x="89" y="639"/>
                  </a:lnTo>
                  <a:lnTo>
                    <a:pt x="89" y="583"/>
                  </a:lnTo>
                  <a:lnTo>
                    <a:pt x="90" y="567"/>
                  </a:lnTo>
                  <a:lnTo>
                    <a:pt x="90" y="550"/>
                  </a:lnTo>
                  <a:lnTo>
                    <a:pt x="92" y="534"/>
                  </a:lnTo>
                  <a:lnTo>
                    <a:pt x="92" y="516"/>
                  </a:lnTo>
                  <a:lnTo>
                    <a:pt x="93" y="499"/>
                  </a:lnTo>
                  <a:lnTo>
                    <a:pt x="95" y="481"/>
                  </a:lnTo>
                  <a:lnTo>
                    <a:pt x="96" y="464"/>
                  </a:lnTo>
                  <a:lnTo>
                    <a:pt x="97" y="446"/>
                  </a:lnTo>
                  <a:lnTo>
                    <a:pt x="98" y="427"/>
                  </a:lnTo>
                  <a:lnTo>
                    <a:pt x="99" y="409"/>
                  </a:lnTo>
                  <a:lnTo>
                    <a:pt x="102" y="391"/>
                  </a:lnTo>
                  <a:lnTo>
                    <a:pt x="103" y="373"/>
                  </a:lnTo>
                  <a:lnTo>
                    <a:pt x="103" y="356"/>
                  </a:lnTo>
                  <a:lnTo>
                    <a:pt x="104" y="338"/>
                  </a:lnTo>
                  <a:lnTo>
                    <a:pt x="105" y="320"/>
                  </a:lnTo>
                  <a:lnTo>
                    <a:pt x="107" y="303"/>
                  </a:lnTo>
                  <a:lnTo>
                    <a:pt x="108" y="286"/>
                  </a:lnTo>
                  <a:lnTo>
                    <a:pt x="108" y="270"/>
                  </a:lnTo>
                  <a:lnTo>
                    <a:pt x="108" y="212"/>
                  </a:lnTo>
                  <a:lnTo>
                    <a:pt x="108" y="200"/>
                  </a:lnTo>
                  <a:lnTo>
                    <a:pt x="107" y="188"/>
                  </a:lnTo>
                  <a:lnTo>
                    <a:pt x="104" y="177"/>
                  </a:lnTo>
                  <a:lnTo>
                    <a:pt x="103" y="166"/>
                  </a:lnTo>
                  <a:lnTo>
                    <a:pt x="102" y="156"/>
                  </a:lnTo>
                  <a:lnTo>
                    <a:pt x="99" y="147"/>
                  </a:lnTo>
                  <a:lnTo>
                    <a:pt x="98" y="138"/>
                  </a:lnTo>
                  <a:lnTo>
                    <a:pt x="97" y="128"/>
                  </a:lnTo>
                  <a:lnTo>
                    <a:pt x="95" y="119"/>
                  </a:lnTo>
                  <a:lnTo>
                    <a:pt x="92" y="110"/>
                  </a:lnTo>
                  <a:lnTo>
                    <a:pt x="90" y="103"/>
                  </a:lnTo>
                  <a:lnTo>
                    <a:pt x="87" y="94"/>
                  </a:lnTo>
                  <a:lnTo>
                    <a:pt x="85" y="87"/>
                  </a:lnTo>
                  <a:lnTo>
                    <a:pt x="81" y="79"/>
                  </a:lnTo>
                  <a:lnTo>
                    <a:pt x="79" y="73"/>
                  </a:lnTo>
                  <a:lnTo>
                    <a:pt x="77" y="66"/>
                  </a:lnTo>
                  <a:lnTo>
                    <a:pt x="74" y="61"/>
                  </a:lnTo>
                  <a:lnTo>
                    <a:pt x="71" y="54"/>
                  </a:lnTo>
                  <a:lnTo>
                    <a:pt x="67" y="49"/>
                  </a:lnTo>
                  <a:lnTo>
                    <a:pt x="63" y="43"/>
                  </a:lnTo>
                  <a:lnTo>
                    <a:pt x="61" y="38"/>
                  </a:lnTo>
                  <a:lnTo>
                    <a:pt x="56" y="32"/>
                  </a:lnTo>
                  <a:lnTo>
                    <a:pt x="53" y="28"/>
                  </a:lnTo>
                  <a:lnTo>
                    <a:pt x="49" y="24"/>
                  </a:lnTo>
                  <a:lnTo>
                    <a:pt x="46" y="20"/>
                  </a:lnTo>
                  <a:lnTo>
                    <a:pt x="41" y="17"/>
                  </a:lnTo>
                  <a:lnTo>
                    <a:pt x="37" y="15"/>
                  </a:lnTo>
                  <a:lnTo>
                    <a:pt x="34" y="10"/>
                  </a:lnTo>
                  <a:lnTo>
                    <a:pt x="29" y="9"/>
                  </a:lnTo>
                  <a:lnTo>
                    <a:pt x="24" y="7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1" y="1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1981080" y="1863720"/>
            <a:ext cx="312840" cy="868320"/>
            <a:chOff x="1981080" y="1863720"/>
            <a:chExt cx="312840" cy="868320"/>
          </a:xfrm>
        </p:grpSpPr>
        <p:sp>
          <p:nvSpPr>
            <p:cNvPr id="399" name=""/>
            <p:cNvSpPr/>
            <p:nvPr/>
          </p:nvSpPr>
          <p:spPr>
            <a:xfrm>
              <a:off x="1981080" y="1863720"/>
              <a:ext cx="312840" cy="434880"/>
            </a:xfrm>
            <a:custGeom>
              <a:avLst/>
              <a:gdLst/>
              <a:ahLst/>
              <a:rect l="l" t="t" r="r" b="b"/>
              <a:pathLst>
                <a:path w="197" h="274">
                  <a:moveTo>
                    <a:pt x="196" y="1"/>
                  </a:moveTo>
                  <a:lnTo>
                    <a:pt x="192" y="1"/>
                  </a:lnTo>
                  <a:lnTo>
                    <a:pt x="186" y="1"/>
                  </a:lnTo>
                  <a:lnTo>
                    <a:pt x="181" y="0"/>
                  </a:lnTo>
                  <a:lnTo>
                    <a:pt x="177" y="0"/>
                  </a:lnTo>
                  <a:lnTo>
                    <a:pt x="172" y="1"/>
                  </a:lnTo>
                  <a:lnTo>
                    <a:pt x="168" y="1"/>
                  </a:lnTo>
                  <a:lnTo>
                    <a:pt x="163" y="1"/>
                  </a:lnTo>
                  <a:lnTo>
                    <a:pt x="159" y="1"/>
                  </a:lnTo>
                  <a:lnTo>
                    <a:pt x="156" y="2"/>
                  </a:lnTo>
                  <a:lnTo>
                    <a:pt x="151" y="3"/>
                  </a:lnTo>
                  <a:lnTo>
                    <a:pt x="147" y="4"/>
                  </a:lnTo>
                  <a:lnTo>
                    <a:pt x="144" y="5"/>
                  </a:lnTo>
                  <a:lnTo>
                    <a:pt x="140" y="5"/>
                  </a:lnTo>
                  <a:lnTo>
                    <a:pt x="135" y="6"/>
                  </a:lnTo>
                  <a:lnTo>
                    <a:pt x="133" y="8"/>
                  </a:lnTo>
                  <a:lnTo>
                    <a:pt x="129" y="9"/>
                  </a:lnTo>
                  <a:lnTo>
                    <a:pt x="126" y="11"/>
                  </a:lnTo>
                  <a:lnTo>
                    <a:pt x="122" y="13"/>
                  </a:lnTo>
                  <a:lnTo>
                    <a:pt x="120" y="15"/>
                  </a:lnTo>
                  <a:lnTo>
                    <a:pt x="117" y="16"/>
                  </a:lnTo>
                  <a:lnTo>
                    <a:pt x="115" y="18"/>
                  </a:lnTo>
                  <a:lnTo>
                    <a:pt x="111" y="20"/>
                  </a:lnTo>
                  <a:lnTo>
                    <a:pt x="109" y="23"/>
                  </a:lnTo>
                  <a:lnTo>
                    <a:pt x="107" y="25"/>
                  </a:lnTo>
                  <a:lnTo>
                    <a:pt x="104" y="27"/>
                  </a:lnTo>
                  <a:lnTo>
                    <a:pt x="102" y="30"/>
                  </a:lnTo>
                  <a:lnTo>
                    <a:pt x="99" y="32"/>
                  </a:lnTo>
                  <a:lnTo>
                    <a:pt x="98" y="35"/>
                  </a:lnTo>
                  <a:lnTo>
                    <a:pt x="97" y="38"/>
                  </a:lnTo>
                  <a:lnTo>
                    <a:pt x="95" y="41"/>
                  </a:lnTo>
                  <a:lnTo>
                    <a:pt x="93" y="44"/>
                  </a:lnTo>
                  <a:lnTo>
                    <a:pt x="92" y="47"/>
                  </a:lnTo>
                  <a:lnTo>
                    <a:pt x="91" y="51"/>
                  </a:lnTo>
                  <a:lnTo>
                    <a:pt x="90" y="55"/>
                  </a:lnTo>
                  <a:lnTo>
                    <a:pt x="89" y="59"/>
                  </a:lnTo>
                  <a:lnTo>
                    <a:pt x="89" y="78"/>
                  </a:lnTo>
                  <a:lnTo>
                    <a:pt x="90" y="83"/>
                  </a:lnTo>
                  <a:lnTo>
                    <a:pt x="90" y="88"/>
                  </a:lnTo>
                  <a:lnTo>
                    <a:pt x="92" y="94"/>
                  </a:lnTo>
                  <a:lnTo>
                    <a:pt x="92" y="100"/>
                  </a:lnTo>
                  <a:lnTo>
                    <a:pt x="93" y="105"/>
                  </a:lnTo>
                  <a:lnTo>
                    <a:pt x="95" y="111"/>
                  </a:lnTo>
                  <a:lnTo>
                    <a:pt x="96" y="117"/>
                  </a:lnTo>
                  <a:lnTo>
                    <a:pt x="97" y="124"/>
                  </a:lnTo>
                  <a:lnTo>
                    <a:pt x="98" y="129"/>
                  </a:lnTo>
                  <a:lnTo>
                    <a:pt x="99" y="136"/>
                  </a:lnTo>
                  <a:lnTo>
                    <a:pt x="102" y="142"/>
                  </a:lnTo>
                  <a:lnTo>
                    <a:pt x="103" y="148"/>
                  </a:lnTo>
                  <a:lnTo>
                    <a:pt x="103" y="153"/>
                  </a:lnTo>
                  <a:lnTo>
                    <a:pt x="104" y="160"/>
                  </a:lnTo>
                  <a:lnTo>
                    <a:pt x="105" y="165"/>
                  </a:lnTo>
                  <a:lnTo>
                    <a:pt x="107" y="171"/>
                  </a:lnTo>
                  <a:lnTo>
                    <a:pt x="108" y="176"/>
                  </a:lnTo>
                  <a:lnTo>
                    <a:pt x="108" y="182"/>
                  </a:lnTo>
                  <a:lnTo>
                    <a:pt x="108" y="201"/>
                  </a:lnTo>
                  <a:lnTo>
                    <a:pt x="108" y="206"/>
                  </a:lnTo>
                  <a:lnTo>
                    <a:pt x="107" y="209"/>
                  </a:lnTo>
                  <a:lnTo>
                    <a:pt x="104" y="213"/>
                  </a:lnTo>
                  <a:lnTo>
                    <a:pt x="103" y="217"/>
                  </a:lnTo>
                  <a:lnTo>
                    <a:pt x="102" y="220"/>
                  </a:lnTo>
                  <a:lnTo>
                    <a:pt x="99" y="223"/>
                  </a:lnTo>
                  <a:lnTo>
                    <a:pt x="98" y="227"/>
                  </a:lnTo>
                  <a:lnTo>
                    <a:pt x="97" y="230"/>
                  </a:lnTo>
                  <a:lnTo>
                    <a:pt x="95" y="232"/>
                  </a:lnTo>
                  <a:lnTo>
                    <a:pt x="92" y="235"/>
                  </a:lnTo>
                  <a:lnTo>
                    <a:pt x="90" y="238"/>
                  </a:lnTo>
                  <a:lnTo>
                    <a:pt x="87" y="241"/>
                  </a:lnTo>
                  <a:lnTo>
                    <a:pt x="85" y="243"/>
                  </a:lnTo>
                  <a:lnTo>
                    <a:pt x="81" y="246"/>
                  </a:lnTo>
                  <a:lnTo>
                    <a:pt x="79" y="248"/>
                  </a:lnTo>
                  <a:lnTo>
                    <a:pt x="77" y="250"/>
                  </a:lnTo>
                  <a:lnTo>
                    <a:pt x="74" y="252"/>
                  </a:lnTo>
                  <a:lnTo>
                    <a:pt x="71" y="254"/>
                  </a:lnTo>
                  <a:lnTo>
                    <a:pt x="67" y="256"/>
                  </a:lnTo>
                  <a:lnTo>
                    <a:pt x="63" y="258"/>
                  </a:lnTo>
                  <a:lnTo>
                    <a:pt x="61" y="260"/>
                  </a:lnTo>
                  <a:lnTo>
                    <a:pt x="56" y="261"/>
                  </a:lnTo>
                  <a:lnTo>
                    <a:pt x="53" y="263"/>
                  </a:lnTo>
                  <a:lnTo>
                    <a:pt x="49" y="264"/>
                  </a:lnTo>
                  <a:lnTo>
                    <a:pt x="46" y="266"/>
                  </a:lnTo>
                  <a:lnTo>
                    <a:pt x="41" y="266"/>
                  </a:lnTo>
                  <a:lnTo>
                    <a:pt x="37" y="268"/>
                  </a:lnTo>
                  <a:lnTo>
                    <a:pt x="34" y="269"/>
                  </a:lnTo>
                  <a:lnTo>
                    <a:pt x="29" y="270"/>
                  </a:lnTo>
                  <a:lnTo>
                    <a:pt x="24" y="271"/>
                  </a:lnTo>
                  <a:lnTo>
                    <a:pt x="19" y="271"/>
                  </a:lnTo>
                  <a:lnTo>
                    <a:pt x="16" y="272"/>
                  </a:lnTo>
                  <a:lnTo>
                    <a:pt x="11" y="272"/>
                  </a:lnTo>
                  <a:lnTo>
                    <a:pt x="5" y="272"/>
                  </a:lnTo>
                  <a:lnTo>
                    <a:pt x="0" y="27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81080" y="2297160"/>
              <a:ext cx="312840" cy="434880"/>
            </a:xfrm>
            <a:custGeom>
              <a:avLst/>
              <a:gdLst/>
              <a:ahLst/>
              <a:rect l="l" t="t" r="r" b="b"/>
              <a:pathLst>
                <a:path w="197" h="274">
                  <a:moveTo>
                    <a:pt x="196" y="272"/>
                  </a:moveTo>
                  <a:lnTo>
                    <a:pt x="192" y="272"/>
                  </a:lnTo>
                  <a:lnTo>
                    <a:pt x="186" y="273"/>
                  </a:lnTo>
                  <a:lnTo>
                    <a:pt x="172" y="273"/>
                  </a:lnTo>
                  <a:lnTo>
                    <a:pt x="168" y="272"/>
                  </a:lnTo>
                  <a:lnTo>
                    <a:pt x="163" y="272"/>
                  </a:lnTo>
                  <a:lnTo>
                    <a:pt x="159" y="272"/>
                  </a:lnTo>
                  <a:lnTo>
                    <a:pt x="156" y="271"/>
                  </a:lnTo>
                  <a:lnTo>
                    <a:pt x="151" y="271"/>
                  </a:lnTo>
                  <a:lnTo>
                    <a:pt x="147" y="269"/>
                  </a:lnTo>
                  <a:lnTo>
                    <a:pt x="144" y="269"/>
                  </a:lnTo>
                  <a:lnTo>
                    <a:pt x="140" y="268"/>
                  </a:lnTo>
                  <a:lnTo>
                    <a:pt x="135" y="266"/>
                  </a:lnTo>
                  <a:lnTo>
                    <a:pt x="133" y="265"/>
                  </a:lnTo>
                  <a:lnTo>
                    <a:pt x="129" y="264"/>
                  </a:lnTo>
                  <a:lnTo>
                    <a:pt x="126" y="262"/>
                  </a:lnTo>
                  <a:lnTo>
                    <a:pt x="122" y="260"/>
                  </a:lnTo>
                  <a:lnTo>
                    <a:pt x="120" y="259"/>
                  </a:lnTo>
                  <a:lnTo>
                    <a:pt x="117" y="257"/>
                  </a:lnTo>
                  <a:lnTo>
                    <a:pt x="115" y="255"/>
                  </a:lnTo>
                  <a:lnTo>
                    <a:pt x="111" y="252"/>
                  </a:lnTo>
                  <a:lnTo>
                    <a:pt x="109" y="250"/>
                  </a:lnTo>
                  <a:lnTo>
                    <a:pt x="107" y="248"/>
                  </a:lnTo>
                  <a:lnTo>
                    <a:pt x="104" y="246"/>
                  </a:lnTo>
                  <a:lnTo>
                    <a:pt x="102" y="243"/>
                  </a:lnTo>
                  <a:lnTo>
                    <a:pt x="99" y="240"/>
                  </a:lnTo>
                  <a:lnTo>
                    <a:pt x="98" y="238"/>
                  </a:lnTo>
                  <a:lnTo>
                    <a:pt x="97" y="234"/>
                  </a:lnTo>
                  <a:lnTo>
                    <a:pt x="95" y="232"/>
                  </a:lnTo>
                  <a:lnTo>
                    <a:pt x="93" y="229"/>
                  </a:lnTo>
                  <a:lnTo>
                    <a:pt x="92" y="225"/>
                  </a:lnTo>
                  <a:lnTo>
                    <a:pt x="91" y="221"/>
                  </a:lnTo>
                  <a:lnTo>
                    <a:pt x="90" y="218"/>
                  </a:lnTo>
                  <a:lnTo>
                    <a:pt x="89" y="214"/>
                  </a:lnTo>
                  <a:lnTo>
                    <a:pt x="89" y="195"/>
                  </a:lnTo>
                  <a:lnTo>
                    <a:pt x="90" y="189"/>
                  </a:lnTo>
                  <a:lnTo>
                    <a:pt x="90" y="184"/>
                  </a:lnTo>
                  <a:lnTo>
                    <a:pt x="92" y="178"/>
                  </a:lnTo>
                  <a:lnTo>
                    <a:pt x="92" y="172"/>
                  </a:lnTo>
                  <a:lnTo>
                    <a:pt x="93" y="167"/>
                  </a:lnTo>
                  <a:lnTo>
                    <a:pt x="95" y="161"/>
                  </a:lnTo>
                  <a:lnTo>
                    <a:pt x="96" y="155"/>
                  </a:lnTo>
                  <a:lnTo>
                    <a:pt x="97" y="149"/>
                  </a:lnTo>
                  <a:lnTo>
                    <a:pt x="98" y="143"/>
                  </a:lnTo>
                  <a:lnTo>
                    <a:pt x="99" y="137"/>
                  </a:lnTo>
                  <a:lnTo>
                    <a:pt x="102" y="131"/>
                  </a:lnTo>
                  <a:lnTo>
                    <a:pt x="103" y="125"/>
                  </a:lnTo>
                  <a:lnTo>
                    <a:pt x="103" y="119"/>
                  </a:lnTo>
                  <a:lnTo>
                    <a:pt x="104" y="113"/>
                  </a:lnTo>
                  <a:lnTo>
                    <a:pt x="105" y="107"/>
                  </a:lnTo>
                  <a:lnTo>
                    <a:pt x="107" y="101"/>
                  </a:lnTo>
                  <a:lnTo>
                    <a:pt x="108" y="96"/>
                  </a:lnTo>
                  <a:lnTo>
                    <a:pt x="108" y="90"/>
                  </a:lnTo>
                  <a:lnTo>
                    <a:pt x="108" y="71"/>
                  </a:lnTo>
                  <a:lnTo>
                    <a:pt x="108" y="67"/>
                  </a:lnTo>
                  <a:lnTo>
                    <a:pt x="107" y="63"/>
                  </a:lnTo>
                  <a:lnTo>
                    <a:pt x="104" y="59"/>
                  </a:lnTo>
                  <a:lnTo>
                    <a:pt x="103" y="55"/>
                  </a:lnTo>
                  <a:lnTo>
                    <a:pt x="102" y="52"/>
                  </a:lnTo>
                  <a:lnTo>
                    <a:pt x="99" y="49"/>
                  </a:lnTo>
                  <a:lnTo>
                    <a:pt x="98" y="46"/>
                  </a:lnTo>
                  <a:lnTo>
                    <a:pt x="97" y="43"/>
                  </a:lnTo>
                  <a:lnTo>
                    <a:pt x="95" y="40"/>
                  </a:lnTo>
                  <a:lnTo>
                    <a:pt x="92" y="37"/>
                  </a:lnTo>
                  <a:lnTo>
                    <a:pt x="90" y="34"/>
                  </a:lnTo>
                  <a:lnTo>
                    <a:pt x="87" y="31"/>
                  </a:lnTo>
                  <a:lnTo>
                    <a:pt x="85" y="29"/>
                  </a:lnTo>
                  <a:lnTo>
                    <a:pt x="81" y="27"/>
                  </a:lnTo>
                  <a:lnTo>
                    <a:pt x="79" y="24"/>
                  </a:lnTo>
                  <a:lnTo>
                    <a:pt x="77" y="22"/>
                  </a:lnTo>
                  <a:lnTo>
                    <a:pt x="74" y="20"/>
                  </a:lnTo>
                  <a:lnTo>
                    <a:pt x="71" y="18"/>
                  </a:lnTo>
                  <a:lnTo>
                    <a:pt x="67" y="16"/>
                  </a:lnTo>
                  <a:lnTo>
                    <a:pt x="63" y="14"/>
                  </a:lnTo>
                  <a:lnTo>
                    <a:pt x="61" y="13"/>
                  </a:lnTo>
                  <a:lnTo>
                    <a:pt x="56" y="11"/>
                  </a:lnTo>
                  <a:lnTo>
                    <a:pt x="53" y="9"/>
                  </a:lnTo>
                  <a:lnTo>
                    <a:pt x="49" y="8"/>
                  </a:lnTo>
                  <a:lnTo>
                    <a:pt x="46" y="7"/>
                  </a:lnTo>
                  <a:lnTo>
                    <a:pt x="41" y="6"/>
                  </a:lnTo>
                  <a:lnTo>
                    <a:pt x="37" y="5"/>
                  </a:lnTo>
                  <a:lnTo>
                    <a:pt x="34" y="3"/>
                  </a:lnTo>
                  <a:lnTo>
                    <a:pt x="29" y="3"/>
                  </a:lnTo>
                  <a:lnTo>
                    <a:pt x="24" y="2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612720" y="2100240"/>
            <a:ext cx="1555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ego1"/>
              </a:rPr>
              <a:t>Portefeui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69680" y="435924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ego1"/>
              </a:rPr>
              <a:t>Proj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864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s risques liés à la communication et à l'informatio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spcAft>
                <a:spcPts val="4351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eurs de limitation de la circulation des inform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cloisonnement des directions mét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'utilisation des informations comme source de pouvo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'incommunicabilité naturelle de certains act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dispersion géographique des act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différence d'origine des act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94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s risques liés à la communication et à l'informatio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ication des risq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teur ou faible échange d'informations entre les acteurs-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adaptations des structures de communication mises en plac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r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aux de bor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ue intern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érenc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'origin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qualif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94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s risques liés à la communication et à l'informatio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601"/>
              </a:spcBef>
              <a:spcAft>
                <a:spcPts val="901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dentification des risques (suit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on-transparence et rétention d'information entre les acteurs-proj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"Réunionite" aigü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formation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rtiell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urabondant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exactes, biaisé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fficultés à recueillir les données nécessair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chniqu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Monotype Sort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conomiq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94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s résistances au changemen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 différentes étapes nécessaires à la réussite d'un chan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279440" y="1873080"/>
            <a:ext cx="7618320" cy="4251600"/>
            <a:chOff x="1279440" y="1873080"/>
            <a:chExt cx="7618320" cy="425160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1279440" y="2009880"/>
              <a:ext cx="440208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844800" y="1873080"/>
              <a:ext cx="341784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Diego1"/>
                </a:rPr>
                <a:t>CHANGEMENT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25520" y="5513400"/>
              <a:ext cx="1919160" cy="536400"/>
            </a:xfrm>
            <a:prstGeom prst="ellipse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Inform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20960" y="4691160"/>
              <a:ext cx="1917720" cy="536400"/>
            </a:xfrm>
            <a:prstGeom prst="ellipse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Compréhen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65200" y="3730680"/>
              <a:ext cx="1845000" cy="536400"/>
            </a:xfrm>
            <a:prstGeom prst="ellipse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Contrib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60640" y="2976480"/>
              <a:ext cx="1398600" cy="466920"/>
            </a:xfrm>
            <a:prstGeom prst="ellipse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Adhé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954160" y="5987880"/>
              <a:ext cx="497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629320" y="5645160"/>
              <a:ext cx="2376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Présenter les fa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473280" y="5164200"/>
              <a:ext cx="497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297480" y="4753080"/>
              <a:ext cx="2378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Susciter les échanges e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faciliter l'appropri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44800" y="4205160"/>
              <a:ext cx="445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372360" y="3656160"/>
              <a:ext cx="25254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Permettre l'acceptation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des règles du je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90840" y="3313080"/>
              <a:ext cx="445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934320" y="2362320"/>
            <a:ext cx="28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ego1"/>
              </a:rPr>
              <a:t>Impulser l'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94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s résistances au changement : étape 1 : l'informatio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87240" y="1405080"/>
            <a:ext cx="8531280" cy="4581360"/>
            <a:chOff x="687240" y="1405080"/>
            <a:chExt cx="8531280" cy="4581360"/>
          </a:xfrm>
        </p:grpSpPr>
        <p:sp>
          <p:nvSpPr>
            <p:cNvPr id="79" name=""/>
            <p:cNvSpPr/>
            <p:nvPr/>
          </p:nvSpPr>
          <p:spPr>
            <a:xfrm>
              <a:off x="4995720" y="1405080"/>
              <a:ext cx="4222800" cy="4581360"/>
            </a:xfrm>
            <a:custGeom>
              <a:avLst/>
              <a:gdLst>
                <a:gd name="textAreaLeft" fmla="*/ 154440 w 4222800"/>
                <a:gd name="textAreaRight" fmla="*/ 4068360 w 4222800"/>
                <a:gd name="textAreaTop" fmla="*/ 154440 h 4581360"/>
                <a:gd name="textAreaBottom" fmla="*/ 4426920 h 4581360"/>
              </a:gdLst>
              <a:ahLst/>
              <a:rect l="textAreaLeft" t="textAreaTop" r="textAreaRight" b="textAreaBottom"/>
              <a:pathLst>
                <a:path w="21600" h="23434">
                  <a:moveTo>
                    <a:pt x="2697" y="0"/>
                  </a:moveTo>
                  <a:arcTo wR="2697" hR="2697" stAng="16200000" swAng="-5400000"/>
                  <a:lnTo>
                    <a:pt x="0" y="20737"/>
                  </a:lnTo>
                  <a:arcTo wR="2697" hR="2697" stAng="10800000" swAng="-5400000"/>
                  <a:lnTo>
                    <a:pt x="18903" y="23434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2200" spc="-1" strike="noStrike" u="sng">
                  <a:solidFill>
                    <a:srgbClr val="000000"/>
                  </a:solidFill>
                  <a:uFillTx/>
                  <a:latin typeface="Diego1"/>
                </a:rPr>
                <a:t>DES ACTIONS à ENGAGE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1360">
                <a:lnSpc>
                  <a:spcPct val="100000"/>
                </a:lnSpc>
                <a:spcAft>
                  <a:spcPts val="451"/>
                </a:spcAft>
                <a:buClr>
                  <a:srgbClr val="000000"/>
                </a:buClr>
                <a:buFont typeface="Wingdings" charset="2"/>
                <a:buChar char=""/>
                <a:tabLst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Présenter clairement les faits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ayant conduit à la décision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1360">
                <a:lnSpc>
                  <a:spcPct val="100000"/>
                </a:lnSpc>
                <a:spcAft>
                  <a:spcPts val="451"/>
                </a:spcAft>
                <a:buClr>
                  <a:srgbClr val="000000"/>
                </a:buClr>
                <a:buFont typeface="Wingdings" charset="2"/>
                <a:buChar char=""/>
                <a:tabLst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Mettre en place un dispositif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d'information adapté aux entités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concernées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1360">
                <a:lnSpc>
                  <a:spcPct val="100000"/>
                </a:lnSpc>
                <a:spcAft>
                  <a:spcPts val="451"/>
                </a:spcAft>
                <a:buClr>
                  <a:srgbClr val="000000"/>
                </a:buClr>
                <a:buFont typeface="Wingdings" charset="2"/>
                <a:buChar char=""/>
                <a:tabLst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S'assurer que chaque messag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est bien adapté aux publics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concerné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1360">
                <a:lnSpc>
                  <a:spcPct val="100000"/>
                </a:lnSpc>
                <a:spcAft>
                  <a:spcPts val="451"/>
                </a:spcAft>
                <a:buClr>
                  <a:srgbClr val="000000"/>
                </a:buClr>
                <a:buFont typeface="Wingdings" charset="2"/>
                <a:buChar char=""/>
                <a:tabLst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Veiller à ce que toutes les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personnes concernées soien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touché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7240" y="1405080"/>
              <a:ext cx="4148280" cy="4581360"/>
            </a:xfrm>
            <a:custGeom>
              <a:avLst/>
              <a:gdLst>
                <a:gd name="textAreaLeft" fmla="*/ 151560 w 4148280"/>
                <a:gd name="textAreaRight" fmla="*/ 3996720 w 4148280"/>
                <a:gd name="textAreaTop" fmla="*/ 151560 h 4581360"/>
                <a:gd name="textAreaBottom" fmla="*/ 4429800 h 4581360"/>
              </a:gdLst>
              <a:ahLst/>
              <a:rect l="textAreaLeft" t="textAreaTop" r="textAreaRight" b="textAreaBottom"/>
              <a:pathLst>
                <a:path w="21600" h="23855">
                  <a:moveTo>
                    <a:pt x="2697" y="0"/>
                  </a:moveTo>
                  <a:arcTo wR="2697" hR="2697" stAng="16200000" swAng="-5400000"/>
                  <a:lnTo>
                    <a:pt x="0" y="21158"/>
                  </a:lnTo>
                  <a:arcTo wR="2697" hR="2697" stAng="10800000" swAng="-5400000"/>
                  <a:lnTo>
                    <a:pt x="18903" y="23855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noAutofit/>
            </a:bodyPr>
            <a:p>
              <a:pPr>
                <a:lnSpc>
                  <a:spcPct val="100000"/>
                </a:lnSpc>
                <a:spcAft>
                  <a:spcPts val="1925"/>
                </a:spcAft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2200" spc="-1" strike="noStrike" u="sng">
                  <a:solidFill>
                    <a:srgbClr val="000000"/>
                  </a:solidFill>
                  <a:uFillTx/>
                  <a:latin typeface="Diego1"/>
                </a:rPr>
                <a:t>DES RISQU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1360">
                <a:lnSpc>
                  <a:spcPct val="100000"/>
                </a:lnSpc>
                <a:spcBef>
                  <a:spcPts val="337"/>
                </a:spcBef>
                <a:spcAft>
                  <a:spcPts val="1576"/>
                </a:spcAft>
                <a:buClr>
                  <a:srgbClr val="000000"/>
                </a:buClr>
                <a:buFont typeface="Wingdings" charset="2"/>
                <a:buChar char=""/>
                <a:tabLst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Une information trop complex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et abondant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1360">
                <a:lnSpc>
                  <a:spcPct val="100000"/>
                </a:lnSpc>
                <a:spcAft>
                  <a:spcPts val="1576"/>
                </a:spcAft>
                <a:buClr>
                  <a:srgbClr val="000000"/>
                </a:buClr>
                <a:buFont typeface="Wingdings" charset="2"/>
                <a:buChar char=""/>
                <a:tabLst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Une information trop rapide e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incomplèt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1360">
                <a:lnSpc>
                  <a:spcPct val="100000"/>
                </a:lnSpc>
                <a:spcAft>
                  <a:spcPts val="1576"/>
                </a:spcAft>
                <a:buClr>
                  <a:srgbClr val="000000"/>
                </a:buClr>
                <a:buFont typeface="Wingdings" charset="2"/>
                <a:buChar char=""/>
                <a:tabLst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Une information exclusivemen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écrit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1360">
                <a:lnSpc>
                  <a:spcPct val="100000"/>
                </a:lnSpc>
                <a:spcAft>
                  <a:spcPts val="1576"/>
                </a:spcAft>
                <a:buClr>
                  <a:srgbClr val="000000"/>
                </a:buClr>
                <a:buFont typeface="Wingdings" charset="2"/>
                <a:buChar char=""/>
                <a:tabLst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La non-prise en compte d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Diego1"/>
                </a:rPr>
                <a:t> toutes les personnes concerné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28T14:12:52Z</dcterms:created>
  <dc:creator>ONS-GT France Télécom</dc:creator>
  <dc:description/>
  <dc:language>en-US</dc:language>
  <cp:lastModifiedBy>PRESTBIBLE</cp:lastModifiedBy>
  <cp:lastPrinted>1996-08-30T10:40:26Z</cp:lastPrinted>
  <dcterms:modified xsi:type="dcterms:W3CDTF">2004-01-05T12:31:36Z</dcterms:modified>
  <cp:revision>1</cp:revision>
  <dc:subject/>
  <dc:title>Phase de réalisation et management</dc:title>
</cp:coreProperties>
</file>